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C48-6B43-46E1-8FD7-7FE79660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152A-4572-4735-BB5B-F24532FE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8E58-0D21-496C-8756-3815C10F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FC9E-6697-4AD4-A925-29C59D66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73B-F44F-466F-8B6F-5D1509DD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4EDB-79E4-405B-AC1C-89B01430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D14B-565E-4883-988B-5D8DC6B2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1991-C56A-4D14-94A8-065F9248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748F-95E2-46D4-AD70-BDD02DB0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99C4-0B94-4349-A35C-D876FF67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7C63-EA97-4149-A3BF-2AAC8B57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0525-F098-467D-A463-A18BA7D7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5535-4ED3-4379-917A-55412AA51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987280" y="1628280"/>
            <a:ext cx="424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стория моей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76360" y="2133720"/>
            <a:ext cx="6840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Яблоневый са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7280" y="333000"/>
            <a:ext cx="75614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на Павловна в 1896г. окончила в С.-Петербургском 1-м Доме Трудолюбия теоретический и практический курс кроя и шитья дамских и детских платьев по методу Ксавелия Глодзинского с хорошим успехом и получила аттестат. Анна Павловна считалась белошвейкой она прекрасно шила на всю свою большую семью, а также для друг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на Павловна также умела вышивать гладью, бисером, плести кружева на коклюшках (белое покрывало до сих пор служит нам на даче). Анна Павловна вела большое хозяйство, воспитывала детей. А их в семье было восемь. В 1905г.19 февраля родилась старшая дочь Лидия, которая стала моей прабабуш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15800" y="3789360"/>
            <a:ext cx="30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ттестат Анны Павло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70440" y="609300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нна Пав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403280" y="333360"/>
            <a:ext cx="4821480" cy="3408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804000" y="333360"/>
            <a:ext cx="1944720" cy="56149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547640" y="2133720"/>
            <a:ext cx="6840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Прапраде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Иван Андрееви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19280" y="189000"/>
            <a:ext cx="72007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апрадед Иван Андреевич любил бывать в обществе. Он также управлял мыловаренным заводом. Но после того как он заболел, правление в свои руки взяла Анна Павловна. Она была женщиной с сильным характером и хорошо со всем справляла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 время первой буржуазной революции (1905-1907гг.) им пришлось очень туго. В результате этих обстоятельств Анна Павловна вместе с детьми, взяв с собой самое ценное, была вынуждена выехать в г. Рыбинск Ярославской Губернии к своим родственни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584040" y="573408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ван Андр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47640" y="260280"/>
            <a:ext cx="46087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ван Андреевич все еще продолжал управлять заводом, а когда совсем стало невмоготу и встал вопрос об угрозе жизни (он уже прятался в подвалах), что можно было продать продал, остальное - просто бросил и тоже уехал в г. Рыбин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588000" y="333360"/>
            <a:ext cx="2141640" cy="5399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692360" y="2133720"/>
            <a:ext cx="6840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Переезд в Рыбинс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042560" y="259920"/>
            <a:ext cx="77770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приезде в г. Рыбинск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ван Андрееви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и Анна Павловна отстроили дом на берегу Волги (деревня Бор Назаровского с/с). Дом два раза горел, но его отстраивали заново. Он и сейчас сохранился почти в первозданном виде, только нет цветной мозаики на стеклянной веранде, да хозяева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36760" y="2349360"/>
            <a:ext cx="453708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аршая дочь Лидия работала на  судостроительном заводе на Слипе, ходила до работы с деревни Бор пешком. Помогала воспитывать своих братьев и сестер, переняла от матери мастерство в шитье (умела даже ткать одеял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227640" y="2492280"/>
            <a:ext cx="2621160" cy="41277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042560" y="189000"/>
            <a:ext cx="7705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39г. познакомилась и расписалась в Назаровском с/с с Блюхером Александром Павловичем (родился 20 февраля1914г). Таким образом, породнились с многочисленной семьей Блюх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ни этой фамилии идут из деревни Барщинка Ярославской Губернии. Эта, затерявшаяся в лесах, деревенька находится по Пошехонской дороге, в 3 км в сторону от деревни Волково. До сих пор туда трудно добраться, особенно в период разлива Волковского ручья. Домов осталось совсем немного (в основном дачники), но наш родовой дом сохранился по сей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7280" y="2565000"/>
            <a:ext cx="3538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бабушка Лидия Ивановна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люх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1052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43280" y="549360"/>
            <a:ext cx="4170600" cy="58039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402920" y="333360"/>
            <a:ext cx="727236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адед мой из семьи середняков. Держали корову, была своя маслобойка. Производили для себя и на продажу продукты со своего подсобного хозяйства. Семья была многочисленной: три брата и три сестры. Сестры Ольга и Серафима работали в колхозе (одна из них была бригадир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адед мой, Александр Павлович, и его братья Василий и Сергей работали в то время на заводе «П/я № 20»(сейчас НПО «Сатурн»). И теперь только приходится удивляться, как мой прадед Александр со своими братьями добирались до города пешком. А ведь это 20км пути. У него была редкая по тем временам специальность-шлифовщик. Прадед мой был призван в Советскую армию и служил в г. Грозный. Этот город прадед вспоминал, как красивейшее и благодатное место с цветущими садами, теплым климатом и хорошими люд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35280" y="2492280"/>
            <a:ext cx="62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учший подарок для будущего - прошл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76360" y="249228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аде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лександр Павлович Блюх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003640" y="476280"/>
            <a:ext cx="3895920" cy="5877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60360" y="477720"/>
            <a:ext cx="748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июля 1940г. у Лидии и Александра Блюхер родилась дочь Людмила. А 22 июня 1941г. началась Великая Отечественная война. Прадед Александр вместе со своими братьями был эвакуирован от завода в г. Уфа. Они сопровождали оборудование, станки на новое место и стали ковать победу в тылу. Лозунг был один: «Все для фронта, все для победы!».        Приходилось очень трудно: не доедали, работали сутками, валились с но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03280" y="220500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абуш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Людмил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люх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35640" y="549360"/>
            <a:ext cx="3413160" cy="57355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47640" y="404640"/>
            <a:ext cx="741708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е, оставшейся в городе тоже было очень трудно. Моя прабабушка Лидия осталась на руках с маленьким ребенком, пожилой матерью и больной сестрой. Один из ее братьев  Леонид тоже ушел на фронт и пропал без вести под Ладогой. Сами они перебивались как могли. Все, что было ценного, обменивали на хлеб; ели подмороженную картошку(которую искали весной в земле на полях), ели отходы(жмых) сахаропаточного производства. Все же выжили и победили, так как вер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чилась Великая Отечественная война, советские люди чувствовали себя победителями, им хотелось жить, созидать, творить. Советский народ верил в светлое буду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692360" y="2133720"/>
            <a:ext cx="6840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В.К. Блюхе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331640" y="980640"/>
            <a:ext cx="7272360" cy="36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ревня Барщинка – родина моего прадеда, является родиной выдающегося военачальника Маршала Советского Союза Василия Константиновича Блюхера. Его отец Константин и отец моего прадеда – Павел были двоюродными братьями. В деревне в то время было много родственников с такой фамилией, так как семьи были многочислен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87280" y="1916280"/>
            <a:ext cx="374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рш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ветского Союза В.К.Блюх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4060800" cy="6045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87280" y="260280"/>
            <a:ext cx="77058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.К. Блюхер был не только крупным военачальником, но и Государственным деятелем, одним из тех, кто превратил Дальний Восток из экономически отсталого района в богатейший край со своей мощной промышленностью и развитым сельским хозяй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высокие заслуги перед Родиной в эти годы Блюхера наградили только что учрежденным орденом Красной Звезды, двумя Орденами Ленина. В ноябре 1935г. ему было присвоено звание Маршала Советского Сою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03280" y="836640"/>
            <a:ext cx="7489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38г., в период культа личности Сталина, Василий Константинович Блюхер, оклеветанный, трагически поги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чалась страшная, черная картина репрессий и преследований. Не миновала она и нашу семью. Отца моего прадеда – Павла несколько раз увозили на «черном воронке» в город, а может и дальше. Он возвращался домой весь побитый, еле живой и ничего не рассказывал в семье. Боялись даже обсуждать эту тем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692360" y="1773360"/>
            <a:ext cx="6840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Послевоенные год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547640" y="2133720"/>
            <a:ext cx="6840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Так все начиналос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332000" y="476280"/>
            <a:ext cx="7416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и же события происходили и в нашей семье. Мою бабушку Людмилу Александровну по причине фамилии врага народа не приняли в пионеры и в комсомол, дразн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только в 1953г наступило облегчение. В.К. Блюхер был посмертно реабилитирован и признан всенародным геро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ша семья в послевоенные годы жила скромно, старались не афишировать своей фамилии, не знали, что будет дальше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6400" y="259920"/>
            <a:ext cx="8229600" cy="31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бушка Людмила Александровна вышла замуж за Липатова Владислава Викторовича. Он был родом из семьи, которая приехала к нам в г. Рыбинск из « затопляемой зоны» (когда-то был город Молога). Теперь на этом месте простираются воды Рыбинского водохранилища. У них 1апреля1966г родилась дочь Алла –моя мама. Бабушка Людмила Александровна работала на моторостроительном заводе, оттуда ушла на пенсию. Она Ветеран труда. Дедушку я не видел, знаю, что он работал вод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я мама окончила Ленинградский институт Советской торговли им. Ф. Энгельса, в торговле уже без малого двадцать лет. Сейчас она работает старшим специалистом отдела маркетинга в оптовой фирме «Верхневолжская продуктовая компа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58920" y="4365720"/>
            <a:ext cx="41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абушка Людмила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01200" y="5805360"/>
            <a:ext cx="355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ама Алла Владислав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332000" y="333360"/>
            <a:ext cx="3492360" cy="4029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219640" y="1268280"/>
            <a:ext cx="3633840" cy="44625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402920" y="333360"/>
            <a:ext cx="7489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й папа, Андрей Игоревич, занимается промышленным рыболовством. В 1989г он женился на Липатовой Алле Владиславовне (01.04.1966г), а 17.04.1993г у них родился сын Дмитрий, то есть 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40920" y="6308640"/>
            <a:ext cx="235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ои мама и па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796000" y="1773360"/>
            <a:ext cx="3103560" cy="453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692360" y="1773360"/>
            <a:ext cx="6840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Вместо заключ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у может потребоваться мой материал?  Прежде всего будущим поколениям. Я хочу, чтобы они знали историю нашей семьи. И я надеюсь, что они продолжат начатое дело и сохранят семейную тради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191628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14360" y="1916280"/>
            <a:ext cx="42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ждую весну будет цвести наш яблоневый сад. А под кроной каштана звучать веселый смех и детские гол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867280" y="2421000"/>
            <a:ext cx="2997360" cy="4086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6912000" cy="6519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58920" y="260280"/>
            <a:ext cx="763416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нашей семье существует замечательная традиция – высаживать дерево на рождение ребенка. Таким деревом является яблоня. За много лет получился яблоневый сад, в котором есть яблони бабушки Лиды, дедушки Саши, мамы Аллы. Когда я родился, у меня тоже появилось свое дерево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2205000"/>
            <a:ext cx="394488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давно на садовом участке мама посадила каштан. Мы решили – пусть это будет наше общее семейное дерево. Семья будет увеличиваться, а посаженное мамой дерево расти. Мы сможем собираться вместе под его широкой кро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73480" y="2492280"/>
            <a:ext cx="3962520" cy="41515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01680" y="1413000"/>
            <a:ext cx="747396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 долго думал о нашем семейном дереве, о своих родных. И однажды у меня родилась идея заняться своей родословной, узнать историю моей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547640" y="2133720"/>
            <a:ext cx="6840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История семь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Ьеловых-Шашкины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333000"/>
            <a:ext cx="75614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е повествование хочу начать с происхождения фамилии Белова-Шашкина. Эту двойную фамилию носила прапрабабушка Анна Павловна со стороны моей мамы Аллы Владиславовны. В конц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ека ее выдали замуж в г. С. – Петербург за Ивана Андреевича. Так объединился небольшой капитал двух семейств Беловых и Шашкиных (между собой дальние родственники – две тетушки, у которых не было детей, решили поженить своих племянника Ивана и племянницу Анну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ли они в Санкт- Петербурге на Васильевском острове между Большим и Средним проспектом (?). Семья была зажиточной. В наследство от тетушек им достался мыловаренный завод и несколько скобяных лав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651640" y="5734080"/>
            <a:ext cx="34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нна Павловна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ван Андрее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еловы- Шашк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8480" y="465300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ом на Васильевском остр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16000" y="333360"/>
            <a:ext cx="4322880" cy="4273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651640" y="333360"/>
            <a:ext cx="3157560" cy="50785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547640" y="2133720"/>
            <a:ext cx="6840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Прапрабабу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Анна Павлов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15:05:03Z</dcterms:created>
  <dc:creator>Home</dc:creator>
  <dc:description/>
  <dc:language>en-US</dc:language>
  <cp:lastModifiedBy>Mama</cp:lastModifiedBy>
  <dcterms:modified xsi:type="dcterms:W3CDTF">2008-05-22T21:17:57Z</dcterms:modified>
  <cp:revision>27</cp:revision>
  <dc:subject/>
  <dc:title>Слайд 1</dc:title>
</cp:coreProperties>
</file>