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gif" ContentType="image/gi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CC7-C80A-44A0-B8E6-95EB1C5E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974-7B2F-4228-997C-9F6827A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A6E-AD65-4B68-A63E-BFC5B80D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A29-DCF1-4C5B-84EF-FE3A33B3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BC2-2294-45F8-BEEC-19D34858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3E3-16EB-4FD1-A9AE-F93E624E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F20-8B32-48BD-BB0F-2C8D073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DBC-91AC-4F0B-9418-DB7B050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D71-7AAB-44AF-876D-2A2E4B1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D23-9213-4265-A75B-4A21382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A75-7A0B-4E2B-9FDA-D29B997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E3F-4A92-4BC2-8382-7D1CB4F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2A1-7281-436F-BD8E-E94E0AB0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МОУ Камен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413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Команда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«Большая медвед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234936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76640"/>
            <a:ext cx="468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Состав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Барановская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Леонова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27640" y="3068640"/>
          <a:ext cx="4444920" cy="33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06864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852640"/>
            <a:ext cx="468000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Немного о н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Мы принимаем участие в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 Российском детском Интернет – Фестивале  «Умник». Там предлагают нам принять участие в ассоциированных проектах в том числе «Интернет проект по химии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I</a:t>
            </a: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 тур – 2007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5084640"/>
            <a:ext cx="6012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Наши жел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Мы хотим повысить свой интеллектуальный уровень и заработать дополнительные б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2232000" cy="1697040"/>
          </a:xfrm>
          <a:prstGeom prst="rect">
            <a:avLst/>
          </a:prstGeom>
          <a:ln w="0">
            <a:noFill/>
          </a:ln>
        </p:spPr>
      </p:pic>
      <p:sp>
        <p:nvSpPr>
          <p:cNvPr id="51" name="DownRibbonSharp"/>
          <p:cNvSpPr/>
          <p:nvPr/>
        </p:nvSpPr>
        <p:spPr>
          <a:xfrm>
            <a:off x="1835280" y="260280"/>
            <a:ext cx="5329080" cy="2305080"/>
          </a:xfrm>
          <a:custGeom>
            <a:avLst/>
            <a:gdLst>
              <a:gd name="textAreaLeft" fmla="*/ 1332360 w 5329080"/>
              <a:gd name="textAreaRight" fmla="*/ 3997080 w 5329080"/>
              <a:gd name="textAreaTop" fmla="*/ 28800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765000"/>
            <a:ext cx="439272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Наш дев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«Если знания –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Мы хотим, чтоб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наконец победи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64360" y="333360"/>
            <a:ext cx="180036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9228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Пожелания соперник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916280"/>
            <a:ext cx="6840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А соперникам сво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Вот, что мы сказать хо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«Мы желаем вам уда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Все в игре решить зада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Никогда не ун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И по жизни побежда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961920" cy="14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40000" cy="1389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9:21:42Z</dcterms:created>
  <dc:creator>ученик</dc:creator>
  <dc:description/>
  <dc:language>en-US</dc:language>
  <cp:lastModifiedBy>ученик</cp:lastModifiedBy>
  <dcterms:modified xsi:type="dcterms:W3CDTF">2007-02-06T10:24:25Z</dcterms:modified>
  <cp:revision>2</cp:revision>
  <dc:subject/>
  <dc:title>Слайд 1</dc:title>
</cp:coreProperties>
</file>