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417-812F-4BE6-9A8F-6FA83D30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616-6B46-47BD-8CF1-821872DB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A89-04B0-4E1A-BB96-50177998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BF1-E6DD-400E-995D-9BC416F2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36F1-A02B-4FD7-AF87-0FC44C50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59F4-7448-4C03-9625-05EA56F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921-7D14-491C-AE24-9D72391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35B2-CFDB-4090-BAD1-2A1F78C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6EA-F49A-4437-BACD-7B9AF9E9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F9DB-5AD9-4027-8CB3-D15288E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C839-1D7E-495B-83B6-8B4FDDE3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78A-E0F0-4FB0-80D6-3D787F49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5F1-D407-4F8E-8772-C2D0354D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C392-B0EA-431D-BFFB-3578D1C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6EA-2ABF-47DB-84CA-AD96EDE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2E44-312C-4D08-BBFB-111AD38B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697B-D9EB-453F-A475-9D348BAA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1E9-FCEB-4E6C-976C-B20EFBB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1E1-970E-4B35-BC56-A4C7E761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227-D429-4F75-9492-7021A594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7AB-85B2-4EC8-8238-BD0E6C5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E4F-ECD2-45AC-A020-C1CC3D9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D2F-CBDC-4E65-B90F-4B3F5E5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6BB-1FAA-40CB-8D44-F5D547DF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B4D-FB44-4DA0-99A2-2E3B1BE962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024520"/>
            <a:ext cx="1249200" cy="1833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1249200" cy="1833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1341360"/>
            <a:ext cx="1249200" cy="18334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0" y="-458640"/>
            <a:ext cx="1249200" cy="18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C3F-B7AA-44EE-838D-57C55AF51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626920" y="2707920"/>
            <a:ext cx="4753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Дима – капитан команд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ее мозг и руле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Рустам– сам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рассуд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и спокойн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Оля – егоз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и непосе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Алена  – наш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художни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33"/>
                </a:solidFill>
                <a:latin typeface="Tahoma"/>
              </a:rPr>
              <a:t>Женя  –самая находчи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Все мы веселые и любозн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05080" y="3716280"/>
            <a:ext cx="1152360" cy="1100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125800" y="2205000"/>
            <a:ext cx="79056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67640" y="2997360"/>
            <a:ext cx="912960" cy="100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667640" y="4724280"/>
            <a:ext cx="1224000" cy="1096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765440" y="5013360"/>
            <a:ext cx="855360" cy="115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79640" y="115920"/>
            <a:ext cx="5843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дравствуйте!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ас приветствует команда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7x322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Кубарик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1628640"/>
            <a:ext cx="5843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едняя общеобразовательная школа № 13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рода Екатерин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18920" y="260280"/>
            <a:ext cx="6923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Мы решили участвовать в проекте потому что счита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Химия! Какая емкость слов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Химия для нас не просто зву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Химия – опора и осн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Всех без исключения нау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Наш деви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И преграды нас не остановя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Новые миры к себе маня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Нам оставить след в науке сто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ahoma"/>
              </a:rPr>
              <a:t>И внести в открытия свой вкла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72360" y="2349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6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ы приветствуем все команды, участвующие в проек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Жела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Себе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тимизма, удачи, победы, чтобы первый блин был не ком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Соперникам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орошего настроения и силы духа, чтобы не расстраиваться, когда мы займём 1-е мес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35280" y="5084640"/>
            <a:ext cx="29275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8:08:05Z</dcterms:created>
  <dc:creator>Natacha</dc:creator>
  <dc:description/>
  <dc:language>en-US</dc:language>
  <cp:lastModifiedBy>Natalia</cp:lastModifiedBy>
  <dcterms:modified xsi:type="dcterms:W3CDTF">2007-02-10T16:15:44Z</dcterms:modified>
  <cp:revision>6</cp:revision>
  <dc:subject/>
  <dc:title>Слайд 1</dc:title>
</cp:coreProperties>
</file>