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5363-2F9D-4FDD-9A9C-4819A0BE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4122-5C8F-4C99-BBC4-E4AAC274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D436-C9FA-43D4-A6FF-60A4C2DB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C7A5-FF65-4627-BE68-EE789028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ABFC-DA98-4AC9-BFC6-EAF50149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09F5-5D83-4EE7-AF3E-DE29CA96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77CD-4321-4745-B2A9-E7604060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C96D-ED91-4490-84B8-B1EE2E0D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B57F-A89D-4E39-8208-BFD7E0B3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352F-5A47-406A-BC8B-1AA62FA3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68C8-042B-400B-A6EF-A5FE69A5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2CD7-6867-4428-90BA-5655EDDC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02D1-04CF-47BD-9812-7E09532DD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189000"/>
            <a:ext cx="655308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WW.Iy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796000" y="3141720"/>
            <a:ext cx="269568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3645000"/>
            <a:ext cx="518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518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2781360"/>
            <a:ext cx="518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24360" y="2565360"/>
            <a:ext cx="2178360" cy="3500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268360" y="333360"/>
            <a:ext cx="54327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ТО М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11280" y="1989000"/>
            <a:ext cx="5040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Monotype Corsiva"/>
              </a:rPr>
              <a:t>Меньшикова Наталь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Monotype Corsiva"/>
              <a:ea typeface="Monotype Corsiv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9640" y="2852640"/>
            <a:ext cx="504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Monotype Corsiva"/>
              </a:rPr>
              <a:t>Шевцова Екатери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Monotype Corsiva"/>
              <a:ea typeface="Monotype Corsiv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3716280"/>
            <a:ext cx="489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Monotype Corsiva"/>
              </a:rPr>
              <a:t>Самилова Анна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Monotype Corsiva"/>
              <a:ea typeface="Monotype Corsiva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5300640"/>
            <a:ext cx="2951280" cy="1297080"/>
          </a:xfrm>
          <a:custGeom>
            <a:avLst/>
            <a:gdLst>
              <a:gd name="textAreaLeft" fmla="*/ 395280 w 2951280"/>
              <a:gd name="textAreaRight" fmla="*/ 2556000 w 2951280"/>
              <a:gd name="textAreaTop" fmla="*/ 200160 h 1297080"/>
              <a:gd name="textAreaBottom" fmla="*/ 96732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671" stAng="-5400000" swAng="5400000"/>
                <a:lnTo>
                  <a:pt x="21600" y="12769"/>
                </a:lnTo>
                <a:arcTo wR="21600" hR="6671" stAng="0" swAng="2468308"/>
                <a:lnTo>
                  <a:pt x="7200" y="21218"/>
                </a:lnTo>
                <a:lnTo>
                  <a:pt x="0" y="16391"/>
                </a:lnTo>
                <a:lnTo>
                  <a:pt x="7200" y="10800"/>
                </a:lnTo>
                <a:lnTo>
                  <a:pt x="7200" y="12960"/>
                </a:lnTo>
                <a:arcTo wR="21600" hR="6671" stAng="2468308" swAng="-1927237"/>
                <a:lnTo>
                  <a:pt x="19212" y="9720"/>
                </a:lnTo>
                <a:arcTo wR="21600" hR="6671" stAng="-541071" swAng="-4858929"/>
                <a:close/>
              </a:path>
              <a:path fill="darkenLess" w="21600" h="21600">
                <a:moveTo>
                  <a:pt x="0" y="0"/>
                </a:moveTo>
                <a:arcTo wR="21600" hR="6671" stAng="-5400000" swAng="5400000"/>
                <a:lnTo>
                  <a:pt x="21600" y="12769"/>
                </a:lnTo>
                <a:arcTo wR="21600" hR="6671" stAng="0" swAng="-541071"/>
                <a:lnTo>
                  <a:pt x="19212" y="9720"/>
                </a:lnTo>
                <a:arcTo wR="21600" hR="6671" stAng="-541071" swAng="-4858929"/>
                <a:close/>
              </a:path>
            </a:pathLst>
          </a:cu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58920" y="5734080"/>
            <a:ext cx="27511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желания соперникам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6093000"/>
            <a:ext cx="2519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76360" y="6093000"/>
            <a:ext cx="2519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2565360"/>
            <a:ext cx="122400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2637000"/>
            <a:ext cx="4968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2708280"/>
            <a:ext cx="4968720" cy="0"/>
          </a:xfrm>
          <a:prstGeom prst="line">
            <a:avLst/>
          </a:prstGeom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3500280"/>
            <a:ext cx="496872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4365720"/>
            <a:ext cx="4969080" cy="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58920" y="6093000"/>
            <a:ext cx="2736720" cy="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Любит химию, информатику и физи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В свободное время читает фэнтэзи и  слушает современную музы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Скромная и добрая девчонка, надежный и хороший др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3276720" y="6237360"/>
            <a:ext cx="1224000" cy="620640"/>
          </a:xfrm>
          <a:custGeom>
            <a:avLst/>
            <a:gdLst>
              <a:gd name="textAreaLeft" fmla="*/ 102240 w 1224000"/>
              <a:gd name="textAreaRight" fmla="*/ 1121760 w 1224000"/>
              <a:gd name="textAreaTop" fmla="*/ 102240 h 620640"/>
              <a:gd name="textAreaBottom" fmla="*/ 518400 h 620640"/>
            </a:gdLst>
            <a:ahLst/>
            <a:rect l="textAreaLeft" t="textAreaTop" r="textAreaRight" b="textAreaBottom"/>
            <a:pathLst>
              <a:path w="42586" h="21600">
                <a:moveTo>
                  <a:pt x="0" y="0"/>
                </a:moveTo>
                <a:lnTo>
                  <a:pt x="42586" y="0"/>
                </a:lnTo>
                <a:lnTo>
                  <a:pt x="42586" y="21600"/>
                </a:lnTo>
                <a:lnTo>
                  <a:pt x="0" y="21600"/>
                </a:lnTo>
                <a:close/>
              </a:path>
              <a:path fill="lightenLess" w="42586" h="21600">
                <a:moveTo>
                  <a:pt x="0" y="0"/>
                </a:moveTo>
                <a:lnTo>
                  <a:pt x="42586" y="0"/>
                </a:lnTo>
                <a:lnTo>
                  <a:pt x="39019" y="3567"/>
                </a:lnTo>
                <a:lnTo>
                  <a:pt x="3567" y="3567"/>
                </a:lnTo>
                <a:close/>
              </a:path>
              <a:path fill="darken" w="42586" h="21600">
                <a:moveTo>
                  <a:pt x="42586" y="0"/>
                </a:moveTo>
                <a:lnTo>
                  <a:pt x="42586" y="21600"/>
                </a:lnTo>
                <a:lnTo>
                  <a:pt x="39019" y="18033"/>
                </a:lnTo>
                <a:lnTo>
                  <a:pt x="39019" y="3567"/>
                </a:lnTo>
                <a:close/>
              </a:path>
              <a:path fill="darkenLess" w="42586" h="21600">
                <a:moveTo>
                  <a:pt x="42586" y="21600"/>
                </a:moveTo>
                <a:lnTo>
                  <a:pt x="0" y="21600"/>
                </a:lnTo>
                <a:lnTo>
                  <a:pt x="3567" y="18033"/>
                </a:lnTo>
                <a:lnTo>
                  <a:pt x="39019" y="18033"/>
                </a:lnTo>
                <a:close/>
              </a:path>
              <a:path fill="lighten" w="42586" h="21600">
                <a:moveTo>
                  <a:pt x="0" y="21600"/>
                </a:moveTo>
                <a:lnTo>
                  <a:pt x="0" y="0"/>
                </a:lnTo>
                <a:lnTo>
                  <a:pt x="3567" y="3567"/>
                </a:lnTo>
                <a:lnTo>
                  <a:pt x="3567" y="18033"/>
                </a:lnTo>
                <a:close/>
              </a:path>
              <a:path fill="darken" w="42586" h="21600">
                <a:moveTo>
                  <a:pt x="15902" y="10800"/>
                </a:moveTo>
                <a:lnTo>
                  <a:pt x="26684" y="5409"/>
                </a:lnTo>
                <a:lnTo>
                  <a:pt x="26684" y="1619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63640" y="476280"/>
            <a:ext cx="568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Monotype Corsiva"/>
              </a:rPr>
              <a:t>Меньшикова Наталь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Monotype Corsiva"/>
              <a:ea typeface="Monotype Corsiv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12000" y="1628640"/>
            <a:ext cx="2349360" cy="4510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419640" y="6308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Любит заниматься информатикой, математикой и хим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В свободное время занимается спортом. Особенно любит баскетбол и спортивное ориентир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Имеет немалые организаторские качества, девчонка общительная и весел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3419640" y="6237360"/>
            <a:ext cx="1296720" cy="620640"/>
          </a:xfrm>
          <a:custGeom>
            <a:avLst/>
            <a:gdLst>
              <a:gd name="textAreaLeft" fmla="*/ 102240 w 1296720"/>
              <a:gd name="textAreaRight" fmla="*/ 1194480 w 1296720"/>
              <a:gd name="textAreaTop" fmla="*/ 102240 h 620640"/>
              <a:gd name="textAreaBottom" fmla="*/ 518400 h 620640"/>
            </a:gdLst>
            <a:ahLst/>
            <a:rect l="textAreaLeft" t="textAreaTop" r="textAreaRight" b="textAreaBottom"/>
            <a:pathLst>
              <a:path w="45116" h="21600">
                <a:moveTo>
                  <a:pt x="0" y="0"/>
                </a:moveTo>
                <a:lnTo>
                  <a:pt x="45116" y="0"/>
                </a:lnTo>
                <a:lnTo>
                  <a:pt x="45116" y="21600"/>
                </a:lnTo>
                <a:lnTo>
                  <a:pt x="0" y="21600"/>
                </a:lnTo>
                <a:close/>
              </a:path>
              <a:path fill="lightenLess" w="45116" h="21600">
                <a:moveTo>
                  <a:pt x="0" y="0"/>
                </a:moveTo>
                <a:lnTo>
                  <a:pt x="45116" y="0"/>
                </a:lnTo>
                <a:lnTo>
                  <a:pt x="41549" y="3567"/>
                </a:lnTo>
                <a:lnTo>
                  <a:pt x="3567" y="3567"/>
                </a:lnTo>
                <a:close/>
              </a:path>
              <a:path fill="darken" w="45116" h="21600">
                <a:moveTo>
                  <a:pt x="45116" y="0"/>
                </a:moveTo>
                <a:lnTo>
                  <a:pt x="45116" y="21600"/>
                </a:lnTo>
                <a:lnTo>
                  <a:pt x="41549" y="18033"/>
                </a:lnTo>
                <a:lnTo>
                  <a:pt x="41549" y="3567"/>
                </a:lnTo>
                <a:close/>
              </a:path>
              <a:path fill="darkenLess" w="45116" h="21600">
                <a:moveTo>
                  <a:pt x="45116" y="21600"/>
                </a:moveTo>
                <a:lnTo>
                  <a:pt x="0" y="21600"/>
                </a:lnTo>
                <a:lnTo>
                  <a:pt x="3567" y="18033"/>
                </a:lnTo>
                <a:lnTo>
                  <a:pt x="41549" y="18033"/>
                </a:lnTo>
                <a:close/>
              </a:path>
              <a:path fill="lighten" w="45116" h="21600">
                <a:moveTo>
                  <a:pt x="0" y="21600"/>
                </a:moveTo>
                <a:lnTo>
                  <a:pt x="0" y="0"/>
                </a:lnTo>
                <a:lnTo>
                  <a:pt x="3567" y="3567"/>
                </a:lnTo>
                <a:lnTo>
                  <a:pt x="3567" y="18033"/>
                </a:lnTo>
                <a:close/>
              </a:path>
              <a:path fill="darken" w="45116" h="21600">
                <a:moveTo>
                  <a:pt x="17167" y="10800"/>
                </a:moveTo>
                <a:lnTo>
                  <a:pt x="27949" y="5409"/>
                </a:lnTo>
                <a:lnTo>
                  <a:pt x="27949" y="16191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908000" y="404640"/>
            <a:ext cx="5761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Monotype Corsiva"/>
              </a:rPr>
              <a:t>Шевцова Екатери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Monotype Corsiva"/>
              <a:ea typeface="Monotype Corsiv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435640" y="1628640"/>
            <a:ext cx="2916360" cy="3886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564000" y="630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Любит заниматься биологией, химией и  информатик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Очень одаренна  в плане рисования, хорошо поет и вышивает крести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Девчонка веселая, прикольная, очень ответственная и организованная – душа компани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3348000" y="6308640"/>
            <a:ext cx="1187640" cy="549360"/>
          </a:xfrm>
          <a:custGeom>
            <a:avLst/>
            <a:gdLst>
              <a:gd name="textAreaLeft" fmla="*/ 90720 w 1187640"/>
              <a:gd name="textAreaRight" fmla="*/ 1096920 w 1187640"/>
              <a:gd name="textAreaTop" fmla="*/ 90720 h 549360"/>
              <a:gd name="textAreaBottom" fmla="*/ 458640 h 549360"/>
            </a:gdLst>
            <a:ahLst/>
            <a:rect l="textAreaLeft" t="textAreaTop" r="textAreaRight" b="textAreaBottom"/>
            <a:pathLst>
              <a:path w="46680" h="21600">
                <a:moveTo>
                  <a:pt x="0" y="0"/>
                </a:moveTo>
                <a:lnTo>
                  <a:pt x="46680" y="0"/>
                </a:lnTo>
                <a:lnTo>
                  <a:pt x="46680" y="21600"/>
                </a:lnTo>
                <a:lnTo>
                  <a:pt x="0" y="21600"/>
                </a:lnTo>
                <a:close/>
              </a:path>
              <a:path fill="lightenLess" w="46680" h="21600">
                <a:moveTo>
                  <a:pt x="0" y="0"/>
                </a:moveTo>
                <a:lnTo>
                  <a:pt x="46680" y="0"/>
                </a:lnTo>
                <a:lnTo>
                  <a:pt x="43113" y="3567"/>
                </a:lnTo>
                <a:lnTo>
                  <a:pt x="3567" y="3567"/>
                </a:lnTo>
                <a:close/>
              </a:path>
              <a:path fill="darken" w="46680" h="21600">
                <a:moveTo>
                  <a:pt x="46680" y="0"/>
                </a:moveTo>
                <a:lnTo>
                  <a:pt x="46680" y="21600"/>
                </a:lnTo>
                <a:lnTo>
                  <a:pt x="43113" y="18033"/>
                </a:lnTo>
                <a:lnTo>
                  <a:pt x="43113" y="3567"/>
                </a:lnTo>
                <a:close/>
              </a:path>
              <a:path fill="darkenLess" w="46680" h="21600">
                <a:moveTo>
                  <a:pt x="46680" y="21600"/>
                </a:moveTo>
                <a:lnTo>
                  <a:pt x="0" y="21600"/>
                </a:lnTo>
                <a:lnTo>
                  <a:pt x="3567" y="18033"/>
                </a:lnTo>
                <a:lnTo>
                  <a:pt x="43113" y="18033"/>
                </a:lnTo>
                <a:close/>
              </a:path>
              <a:path fill="lighten" w="46680" h="21600">
                <a:moveTo>
                  <a:pt x="0" y="21600"/>
                </a:moveTo>
                <a:lnTo>
                  <a:pt x="0" y="0"/>
                </a:lnTo>
                <a:lnTo>
                  <a:pt x="3567" y="3567"/>
                </a:lnTo>
                <a:lnTo>
                  <a:pt x="3567" y="18033"/>
                </a:lnTo>
                <a:close/>
              </a:path>
              <a:path fill="darken" w="46680" h="21600">
                <a:moveTo>
                  <a:pt x="17949" y="10800"/>
                </a:moveTo>
                <a:lnTo>
                  <a:pt x="28731" y="5409"/>
                </a:lnTo>
                <a:lnTo>
                  <a:pt x="28731" y="16191"/>
                </a:lnTo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908000" y="333360"/>
            <a:ext cx="554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Monotype Corsiva"/>
              </a:rPr>
              <a:t>Самилова Анна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Monotype Corsiva"/>
              <a:ea typeface="Monotype Corsiv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64000" y="1773360"/>
            <a:ext cx="2970360" cy="3959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492360" y="6453360"/>
            <a:ext cx="9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360" y="630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Наша команда до этого времени  еще не принимала участия в химических  проектах. Это наш дебют – мы делаем первый и, надеемся, что не последний шаг. А впереди нас ждет еще много интересных проектов, но главное – хороший стар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763640" y="260280"/>
            <a:ext cx="556272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Желаем всем командам 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оперников удачи! 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Пусть борьба будет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честной 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и победит сильнейший!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3:48:32Z</dcterms:created>
  <dc:creator>10ит</dc:creator>
  <dc:description/>
  <dc:language>en-US</dc:language>
  <cp:lastModifiedBy>10им</cp:lastModifiedBy>
  <dcterms:modified xsi:type="dcterms:W3CDTF">2007-02-05T17:00:32Z</dcterms:modified>
  <cp:revision>8</cp:revision>
  <dc:subject/>
  <dc:title>Слайд 1</dc:title>
</cp:coreProperties>
</file>