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0D5-6416-4400-9314-4BBD105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DA3C-64AF-4CB8-B730-31553A60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699-D941-464A-A810-9102DB53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4E24-77B1-4E5A-A286-160FA42B3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594-5A3D-4BE9-BC01-880143E1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5582-6FB6-4F73-8728-82D96EB5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C96-F7BF-4183-9E0D-5F55CF70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EB0A-0762-4F32-8361-42BC5F4B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AD5-9B08-4861-AA43-1AF5F6A2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3C3-B6D9-43E0-AE8C-3E536342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E06-7B58-4DBA-B1B3-44C0512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C04F-28F0-4C7D-AB82-21A0FE07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5D4-AFF8-45CD-8047-B0BA53AED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692280"/>
            <a:ext cx="12078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700280"/>
            <a:ext cx="86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132000" y="692280"/>
            <a:ext cx="18702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ц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076720" y="692280"/>
            <a:ext cx="15130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020000" y="1413000"/>
            <a:ext cx="15825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Й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360" y="278136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33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юбознатель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6633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508720" y="404640"/>
            <a:ext cx="35146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66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еустремлённы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100000">
                    <a:srgbClr val="66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80000" y="2205000"/>
            <a:ext cx="3186000" cy="4292640"/>
          </a:xfrm>
          <a:prstGeom prst="rect">
            <a:avLst/>
          </a:prstGeom>
          <a:ln w="0">
            <a:noFill/>
          </a:ln>
        </p:spPr>
      </p:pic>
    </p:spTree>
  </p:cSld>
  <p:transition advTm="2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260280"/>
            <a:ext cx="3888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 девиз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95640" y="1484280"/>
            <a:ext cx="496908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тобы с химией дружи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чень умным надо быть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ймем почетное мы место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бедив в сражении честном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ffcc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51792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0920" y="260280"/>
            <a:ext cx="554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елание соперникам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51280" y="1268280"/>
            <a:ext cx="5111640" cy="27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ль победить сумеете,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жмем мы ваши руки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 шанса у нас выиграть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еемся не будет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16000" y="4581360"/>
            <a:ext cx="7201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юри мы желаем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ъективности,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перникам - удачи, 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99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себе - победы!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3529080" cy="27576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strips dir="r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11:02:47Z</dcterms:created>
  <dc:creator> </dc:creator>
  <dc:description/>
  <dc:language>en-US</dc:language>
  <cp:lastModifiedBy> </cp:lastModifiedBy>
  <dcterms:modified xsi:type="dcterms:W3CDTF">2007-02-10T12:42:28Z</dcterms:modified>
  <cp:revision>3</cp:revision>
  <dc:subject/>
  <dc:title>Слайд 1</dc:title>
</cp:coreProperties>
</file>