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E2BC-E050-4A03-A27B-DCBA00B58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265-AA16-4BD1-99A8-3A00BDA9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E6B-8A53-4DEA-A11B-69BF32B6E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6B09-303B-4176-B4C5-78FC4B139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C64-8DCE-4E66-81AA-A899F563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35D-6AC6-4BB6-BDC0-D687C2A9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961D-50E3-4287-A873-D8D3FEA1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7A49-2BBC-48B4-B418-C823EBCE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16B3-3EB4-45E2-A6BC-3E234F63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2A42-7733-4CD0-A4E1-5E0C17C3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8F6-47F0-4658-BE0D-C35FB461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DC8-2F2F-4128-B01E-A0506835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A44F-4EB2-4860-B062-129B0C85F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4.xml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slide" Target="slide2.xml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Heatpump.svg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54040" y="141120"/>
            <a:ext cx="7772400" cy="14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Физика на кух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0240" y="1666440"/>
            <a:ext cx="70041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МОУ «СОШ №92 с углубленным изучением отдельных предметов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города Омс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Любознательные молек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Игровой номер 7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f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nextslide"/>
          </p:cNvPr>
          <p:cNvSpPr/>
          <p:nvPr/>
        </p:nvSpPr>
        <p:spPr>
          <a:xfrm>
            <a:off x="8674200" y="6442200"/>
            <a:ext cx="469800" cy="415800"/>
          </a:xfrm>
          <a:custGeom>
            <a:avLst/>
            <a:gdLst>
              <a:gd name="textAreaLeft" fmla="*/ 26640 w 469800"/>
              <a:gd name="textAreaRight" fmla="*/ 443160 w 469800"/>
              <a:gd name="textAreaTop" fmla="*/ 26640 h 415800"/>
              <a:gd name="textAreaBottom" fmla="*/ 389160 h 415800"/>
            </a:gdLst>
            <a:ahLst/>
            <a:rect l="textAreaLeft" t="textAreaTop" r="textAreaRight" b="textAreaBottom"/>
            <a:pathLst>
              <a:path w="24403" h="21600">
                <a:moveTo>
                  <a:pt x="0" y="0"/>
                </a:moveTo>
                <a:lnTo>
                  <a:pt x="24403" y="0"/>
                </a:lnTo>
                <a:lnTo>
                  <a:pt x="24403" y="21600"/>
                </a:lnTo>
                <a:lnTo>
                  <a:pt x="0" y="21600"/>
                </a:lnTo>
                <a:close/>
              </a:path>
              <a:path fill="lightenLess" w="24403" h="21600">
                <a:moveTo>
                  <a:pt x="0" y="0"/>
                </a:moveTo>
                <a:lnTo>
                  <a:pt x="24403" y="0"/>
                </a:lnTo>
                <a:lnTo>
                  <a:pt x="23003" y="1400"/>
                </a:lnTo>
                <a:lnTo>
                  <a:pt x="1400" y="1400"/>
                </a:lnTo>
                <a:close/>
              </a:path>
              <a:path fill="darken" w="24403" h="21600">
                <a:moveTo>
                  <a:pt x="24403" y="0"/>
                </a:moveTo>
                <a:lnTo>
                  <a:pt x="24403" y="21600"/>
                </a:lnTo>
                <a:lnTo>
                  <a:pt x="23003" y="20200"/>
                </a:lnTo>
                <a:lnTo>
                  <a:pt x="23003" y="1400"/>
                </a:lnTo>
                <a:close/>
              </a:path>
              <a:path fill="darkenLess" w="24403" h="21600">
                <a:moveTo>
                  <a:pt x="244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03" y="20200"/>
                </a:lnTo>
                <a:close/>
              </a:path>
              <a:path fill="lighten" w="244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03" h="21600">
                <a:moveTo>
                  <a:pt x="5195" y="3794"/>
                </a:moveTo>
                <a:lnTo>
                  <a:pt x="19208" y="10800"/>
                </a:lnTo>
                <a:lnTo>
                  <a:pt x="5195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027080" y="2517840"/>
            <a:ext cx="736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Миксер</a:t>
            </a: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 — малый бытовой прибор предназначенный для взбивания яиц, приготовления напитков, муссов, омлетов, жидкого теста и т.п. Миксеры бывают стационарные и ручные (более распространённые устройства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9560" y="4014360"/>
            <a:ext cx="7707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mic Sans MS"/>
              </a:rPr>
              <a:t>Блендер</a:t>
            </a:r>
            <a:r>
              <a:rPr b="0" lang="ru-RU" sz="1400" spc="-1" strike="noStrike">
                <a:solidFill>
                  <a:srgbClr val="333399"/>
                </a:solidFill>
                <a:latin typeface="Comic Sans MS"/>
              </a:rPr>
              <a:t> — малый бытовой прибор, предназначенный для измельчения пищи, взбивания напитков, муссов и т.п., а также колки льда. Обычно представляет из себя расположенный на устойчивом основании корпус, внутри которого расположен электродвигатель - привод блендера, на который сверху надевается специальная узкая и высокая чаша с крышкой, внутри которой расположен лопастной нож. Часто блендером называют высокоскоростной погружной миксер, оснащённый вместо венчиков для взбивания одной лопастной насадкой-нож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54360" y="339840"/>
            <a:ext cx="58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Малые бытовые приб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8640" y="1157400"/>
            <a:ext cx="703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mic Sans MS"/>
              </a:rPr>
              <a:t>В малых бытовых приборах часто используются электродвигатели. Примером таких приборов служат миксер и бленд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704000" y="6440400"/>
            <a:ext cx="1440000" cy="417600"/>
            <a:chOff x="7704000" y="6440400"/>
            <a:chExt cx="1440000" cy="417600"/>
          </a:xfrm>
        </p:grpSpPr>
        <p:sp>
          <p:nvSpPr>
            <p:cNvPr id="122" name="">
              <a:hlinkClick r:id="" action="ppaction://hlinkshowjump?jump=nextslide"/>
            </p:cNvPr>
            <p:cNvSpPr/>
            <p:nvPr/>
          </p:nvSpPr>
          <p:spPr>
            <a:xfrm>
              <a:off x="8674200" y="6442200"/>
              <a:ext cx="469800" cy="415800"/>
            </a:xfrm>
            <a:custGeom>
              <a:avLst/>
              <a:gdLst>
                <a:gd name="textAreaLeft" fmla="*/ 26640 w 469800"/>
                <a:gd name="textAreaRight" fmla="*/ 443160 w 46980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4403" h="21600">
                  <a:moveTo>
                    <a:pt x="0" y="0"/>
                  </a:moveTo>
                  <a:lnTo>
                    <a:pt x="24403" y="0"/>
                  </a:lnTo>
                  <a:lnTo>
                    <a:pt x="24403" y="21600"/>
                  </a:lnTo>
                  <a:lnTo>
                    <a:pt x="0" y="21600"/>
                  </a:lnTo>
                  <a:close/>
                </a:path>
                <a:path fill="lightenLess" w="24403" h="21600">
                  <a:moveTo>
                    <a:pt x="0" y="0"/>
                  </a:moveTo>
                  <a:lnTo>
                    <a:pt x="24403" y="0"/>
                  </a:lnTo>
                  <a:lnTo>
                    <a:pt x="23003" y="1400"/>
                  </a:lnTo>
                  <a:lnTo>
                    <a:pt x="1400" y="1400"/>
                  </a:lnTo>
                  <a:close/>
                </a:path>
                <a:path fill="darken" w="24403" h="21600">
                  <a:moveTo>
                    <a:pt x="24403" y="0"/>
                  </a:moveTo>
                  <a:lnTo>
                    <a:pt x="24403" y="21600"/>
                  </a:lnTo>
                  <a:lnTo>
                    <a:pt x="23003" y="20200"/>
                  </a:lnTo>
                  <a:lnTo>
                    <a:pt x="23003" y="1400"/>
                  </a:lnTo>
                  <a:close/>
                </a:path>
                <a:path fill="darkenLess" w="24403" h="21600">
                  <a:moveTo>
                    <a:pt x="244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003" y="20200"/>
                  </a:lnTo>
                  <a:close/>
                </a:path>
                <a:path fill="lighten" w="244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403" h="21600">
                  <a:moveTo>
                    <a:pt x="5195" y="3794"/>
                  </a:moveTo>
                  <a:lnTo>
                    <a:pt x="19208" y="10800"/>
                  </a:lnTo>
                  <a:lnTo>
                    <a:pt x="5195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>
              <a:hlinkClick r:id="" action="ppaction://hlinkshowjump?jump=previousslide"/>
            </p:cNvPr>
            <p:cNvSpPr/>
            <p:nvPr/>
          </p:nvSpPr>
          <p:spPr>
            <a:xfrm>
              <a:off x="7704000" y="6442200"/>
              <a:ext cx="487440" cy="415800"/>
            </a:xfrm>
            <a:custGeom>
              <a:avLst/>
              <a:gdLst>
                <a:gd name="textAreaLeft" fmla="*/ 26640 w 487440"/>
                <a:gd name="textAreaRight" fmla="*/ 460800 w 48744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5318" h="21600">
                  <a:moveTo>
                    <a:pt x="0" y="0"/>
                  </a:moveTo>
                  <a:lnTo>
                    <a:pt x="25318" y="0"/>
                  </a:lnTo>
                  <a:lnTo>
                    <a:pt x="25318" y="21600"/>
                  </a:lnTo>
                  <a:lnTo>
                    <a:pt x="0" y="21600"/>
                  </a:lnTo>
                  <a:close/>
                </a:path>
                <a:path fill="lightenLess" w="25318" h="21600">
                  <a:moveTo>
                    <a:pt x="0" y="0"/>
                  </a:moveTo>
                  <a:lnTo>
                    <a:pt x="25318" y="0"/>
                  </a:lnTo>
                  <a:lnTo>
                    <a:pt x="23918" y="1400"/>
                  </a:lnTo>
                  <a:lnTo>
                    <a:pt x="1400" y="1400"/>
                  </a:lnTo>
                  <a:close/>
                </a:path>
                <a:path fill="darken" w="25318" h="21600">
                  <a:moveTo>
                    <a:pt x="25318" y="0"/>
                  </a:moveTo>
                  <a:lnTo>
                    <a:pt x="25318" y="21600"/>
                  </a:lnTo>
                  <a:lnTo>
                    <a:pt x="23918" y="20200"/>
                  </a:lnTo>
                  <a:lnTo>
                    <a:pt x="23918" y="1400"/>
                  </a:lnTo>
                  <a:close/>
                </a:path>
                <a:path fill="darkenLess" w="25318" h="21600">
                  <a:moveTo>
                    <a:pt x="2531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918" y="20200"/>
                  </a:lnTo>
                  <a:close/>
                </a:path>
                <a:path fill="lighten" w="2531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318" h="21600">
                  <a:moveTo>
                    <a:pt x="5653" y="10800"/>
                  </a:moveTo>
                  <a:lnTo>
                    <a:pt x="19666" y="3794"/>
                  </a:lnTo>
                  <a:lnTo>
                    <a:pt x="19666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>
              <a:hlinkClick r:id="rId1" action="ppaction://hlinksldjump"/>
            </p:cNvPr>
            <p:cNvSpPr/>
            <p:nvPr/>
          </p:nvSpPr>
          <p:spPr>
            <a:xfrm>
              <a:off x="8188200" y="6440400"/>
              <a:ext cx="484200" cy="417600"/>
            </a:xfrm>
            <a:custGeom>
              <a:avLst/>
              <a:gdLst>
                <a:gd name="textAreaLeft" fmla="*/ 27000 w 484200"/>
                <a:gd name="textAreaRight" fmla="*/ 457200 w 484200"/>
                <a:gd name="textAreaTop" fmla="*/ 27000 h 417600"/>
                <a:gd name="textAreaBottom" fmla="*/ 390600 h 417600"/>
              </a:gdLst>
              <a:ahLst/>
              <a:rect l="textAreaLeft" t="textAreaTop" r="textAreaRight" b="textAreaBottom"/>
              <a:pathLst>
                <a:path w="25042" h="21600">
                  <a:moveTo>
                    <a:pt x="0" y="0"/>
                  </a:moveTo>
                  <a:lnTo>
                    <a:pt x="25042" y="0"/>
                  </a:lnTo>
                  <a:lnTo>
                    <a:pt x="25042" y="21600"/>
                  </a:lnTo>
                  <a:lnTo>
                    <a:pt x="0" y="21600"/>
                  </a:lnTo>
                  <a:close/>
                </a:path>
                <a:path fill="lightenLess" w="25042" h="21600">
                  <a:moveTo>
                    <a:pt x="0" y="0"/>
                  </a:moveTo>
                  <a:lnTo>
                    <a:pt x="25042" y="0"/>
                  </a:lnTo>
                  <a:lnTo>
                    <a:pt x="23642" y="1400"/>
                  </a:lnTo>
                  <a:lnTo>
                    <a:pt x="1400" y="1400"/>
                  </a:lnTo>
                  <a:close/>
                </a:path>
                <a:path fill="darken" w="25042" h="21600">
                  <a:moveTo>
                    <a:pt x="25042" y="0"/>
                  </a:moveTo>
                  <a:lnTo>
                    <a:pt x="25042" y="21600"/>
                  </a:lnTo>
                  <a:lnTo>
                    <a:pt x="23642" y="20200"/>
                  </a:lnTo>
                  <a:lnTo>
                    <a:pt x="23642" y="1400"/>
                  </a:lnTo>
                  <a:close/>
                </a:path>
                <a:path fill="darkenLess" w="25042" h="21600">
                  <a:moveTo>
                    <a:pt x="25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642" y="20200"/>
                  </a:lnTo>
                  <a:close/>
                </a:path>
                <a:path fill="lighten" w="25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042" h="21600">
                  <a:moveTo>
                    <a:pt x="12521" y="3837"/>
                  </a:moveTo>
                  <a:lnTo>
                    <a:pt x="15097" y="6448"/>
                  </a:ln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lnTo>
                    <a:pt x="19484" y="10800"/>
                  </a:lnTo>
                  <a:lnTo>
                    <a:pt x="17830" y="10800"/>
                  </a:lnTo>
                  <a:lnTo>
                    <a:pt x="17830" y="17989"/>
                  </a:lnTo>
                  <a:lnTo>
                    <a:pt x="7212" y="17989"/>
                  </a:lnTo>
                  <a:lnTo>
                    <a:pt x="7212" y="10800"/>
                  </a:lnTo>
                  <a:lnTo>
                    <a:pt x="5558" y="10800"/>
                  </a:lnTo>
                  <a:close/>
                </a:path>
                <a:path fill="darkenLess" w="25042" h="21600">
                  <a:moveTo>
                    <a:pt x="15097" y="6448"/>
                  </a:move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close/>
                </a:path>
                <a:path fill="darkenLess" w="25042" h="21600">
                  <a:moveTo>
                    <a:pt x="11598" y="14299"/>
                  </a:moveTo>
                  <a:lnTo>
                    <a:pt x="13444" y="14299"/>
                  </a:lnTo>
                  <a:lnTo>
                    <a:pt x="13444" y="17989"/>
                  </a:lnTo>
                  <a:lnTo>
                    <a:pt x="17830" y="17989"/>
                  </a:lnTo>
                  <a:lnTo>
                    <a:pt x="17830" y="10800"/>
                  </a:lnTo>
                  <a:lnTo>
                    <a:pt x="7212" y="10800"/>
                  </a:lnTo>
                  <a:lnTo>
                    <a:pt x="7212" y="17989"/>
                  </a:lnTo>
                  <a:lnTo>
                    <a:pt x="11598" y="1798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66840" y="3319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Comic Sans MS"/>
              </a:rPr>
              <a:t>Принцип работы электродвиг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9000" y="861840"/>
            <a:ext cx="633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В основе работы любого электродвигателя лежит принцип действия магнитного поля на рамку с током, которая будет поворачиваться в магнитном поле под действием силы Амп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540480" y="905040"/>
            <a:ext cx="2421000" cy="3493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38040" y="2298600"/>
            <a:ext cx="5349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Поскольку на кухне используется переменный электрический ток, то все электробытовые приборы работают от переменного тока. Асинхронный трехфазный двигатель отвечает за работу различных кухонных помощников (электромясорубка, кухонный комбайн, блендер, миксер, соковыжималка и др. полезные прибор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00" y="4746600"/>
            <a:ext cx="806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495600" y="1168560"/>
                <a:ext cx="215100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31" name=""/>
          <p:cNvGrpSpPr/>
          <p:nvPr/>
        </p:nvGrpSpPr>
        <p:grpSpPr>
          <a:xfrm>
            <a:off x="7704000" y="6440400"/>
            <a:ext cx="1440000" cy="417600"/>
            <a:chOff x="7704000" y="6440400"/>
            <a:chExt cx="1440000" cy="417600"/>
          </a:xfrm>
        </p:grpSpPr>
        <p:sp>
          <p:nvSpPr>
            <p:cNvPr id="132" name="">
              <a:hlinkClick r:id="" action="ppaction://hlinkshowjump?jump=nextslide"/>
            </p:cNvPr>
            <p:cNvSpPr/>
            <p:nvPr/>
          </p:nvSpPr>
          <p:spPr>
            <a:xfrm>
              <a:off x="8674200" y="6442200"/>
              <a:ext cx="469800" cy="415800"/>
            </a:xfrm>
            <a:custGeom>
              <a:avLst/>
              <a:gdLst>
                <a:gd name="textAreaLeft" fmla="*/ 26640 w 469800"/>
                <a:gd name="textAreaRight" fmla="*/ 443160 w 46980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4403" h="21600">
                  <a:moveTo>
                    <a:pt x="0" y="0"/>
                  </a:moveTo>
                  <a:lnTo>
                    <a:pt x="24403" y="0"/>
                  </a:lnTo>
                  <a:lnTo>
                    <a:pt x="24403" y="21600"/>
                  </a:lnTo>
                  <a:lnTo>
                    <a:pt x="0" y="21600"/>
                  </a:lnTo>
                  <a:close/>
                </a:path>
                <a:path fill="lightenLess" w="24403" h="21600">
                  <a:moveTo>
                    <a:pt x="0" y="0"/>
                  </a:moveTo>
                  <a:lnTo>
                    <a:pt x="24403" y="0"/>
                  </a:lnTo>
                  <a:lnTo>
                    <a:pt x="23003" y="1400"/>
                  </a:lnTo>
                  <a:lnTo>
                    <a:pt x="1400" y="1400"/>
                  </a:lnTo>
                  <a:close/>
                </a:path>
                <a:path fill="darken" w="24403" h="21600">
                  <a:moveTo>
                    <a:pt x="24403" y="0"/>
                  </a:moveTo>
                  <a:lnTo>
                    <a:pt x="24403" y="21600"/>
                  </a:lnTo>
                  <a:lnTo>
                    <a:pt x="23003" y="20200"/>
                  </a:lnTo>
                  <a:lnTo>
                    <a:pt x="23003" y="1400"/>
                  </a:lnTo>
                  <a:close/>
                </a:path>
                <a:path fill="darkenLess" w="24403" h="21600">
                  <a:moveTo>
                    <a:pt x="244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003" y="20200"/>
                  </a:lnTo>
                  <a:close/>
                </a:path>
                <a:path fill="lighten" w="244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403" h="21600">
                  <a:moveTo>
                    <a:pt x="5195" y="3794"/>
                  </a:moveTo>
                  <a:lnTo>
                    <a:pt x="19208" y="10800"/>
                  </a:lnTo>
                  <a:lnTo>
                    <a:pt x="5195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>
              <a:hlinkClick r:id="" action="ppaction://hlinkshowjump?jump=previousslide"/>
            </p:cNvPr>
            <p:cNvSpPr/>
            <p:nvPr/>
          </p:nvSpPr>
          <p:spPr>
            <a:xfrm>
              <a:off x="7704000" y="6442200"/>
              <a:ext cx="487440" cy="415800"/>
            </a:xfrm>
            <a:custGeom>
              <a:avLst/>
              <a:gdLst>
                <a:gd name="textAreaLeft" fmla="*/ 26640 w 487440"/>
                <a:gd name="textAreaRight" fmla="*/ 460800 w 48744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5318" h="21600">
                  <a:moveTo>
                    <a:pt x="0" y="0"/>
                  </a:moveTo>
                  <a:lnTo>
                    <a:pt x="25318" y="0"/>
                  </a:lnTo>
                  <a:lnTo>
                    <a:pt x="25318" y="21600"/>
                  </a:lnTo>
                  <a:lnTo>
                    <a:pt x="0" y="21600"/>
                  </a:lnTo>
                  <a:close/>
                </a:path>
                <a:path fill="lightenLess" w="25318" h="21600">
                  <a:moveTo>
                    <a:pt x="0" y="0"/>
                  </a:moveTo>
                  <a:lnTo>
                    <a:pt x="25318" y="0"/>
                  </a:lnTo>
                  <a:lnTo>
                    <a:pt x="23918" y="1400"/>
                  </a:lnTo>
                  <a:lnTo>
                    <a:pt x="1400" y="1400"/>
                  </a:lnTo>
                  <a:close/>
                </a:path>
                <a:path fill="darken" w="25318" h="21600">
                  <a:moveTo>
                    <a:pt x="25318" y="0"/>
                  </a:moveTo>
                  <a:lnTo>
                    <a:pt x="25318" y="21600"/>
                  </a:lnTo>
                  <a:lnTo>
                    <a:pt x="23918" y="20200"/>
                  </a:lnTo>
                  <a:lnTo>
                    <a:pt x="23918" y="1400"/>
                  </a:lnTo>
                  <a:close/>
                </a:path>
                <a:path fill="darkenLess" w="25318" h="21600">
                  <a:moveTo>
                    <a:pt x="2531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918" y="20200"/>
                  </a:lnTo>
                  <a:close/>
                </a:path>
                <a:path fill="lighten" w="2531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318" h="21600">
                  <a:moveTo>
                    <a:pt x="5653" y="10800"/>
                  </a:moveTo>
                  <a:lnTo>
                    <a:pt x="19666" y="3794"/>
                  </a:lnTo>
                  <a:lnTo>
                    <a:pt x="19666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>
              <a:hlinkClick r:id="rId2" action="ppaction://hlinksldjump"/>
            </p:cNvPr>
            <p:cNvSpPr/>
            <p:nvPr/>
          </p:nvSpPr>
          <p:spPr>
            <a:xfrm>
              <a:off x="8188200" y="6440400"/>
              <a:ext cx="484200" cy="417600"/>
            </a:xfrm>
            <a:custGeom>
              <a:avLst/>
              <a:gdLst>
                <a:gd name="textAreaLeft" fmla="*/ 27000 w 484200"/>
                <a:gd name="textAreaRight" fmla="*/ 457200 w 484200"/>
                <a:gd name="textAreaTop" fmla="*/ 27000 h 417600"/>
                <a:gd name="textAreaBottom" fmla="*/ 390600 h 417600"/>
              </a:gdLst>
              <a:ahLst/>
              <a:rect l="textAreaLeft" t="textAreaTop" r="textAreaRight" b="textAreaBottom"/>
              <a:pathLst>
                <a:path w="25042" h="21600">
                  <a:moveTo>
                    <a:pt x="0" y="0"/>
                  </a:moveTo>
                  <a:lnTo>
                    <a:pt x="25042" y="0"/>
                  </a:lnTo>
                  <a:lnTo>
                    <a:pt x="25042" y="21600"/>
                  </a:lnTo>
                  <a:lnTo>
                    <a:pt x="0" y="21600"/>
                  </a:lnTo>
                  <a:close/>
                </a:path>
                <a:path fill="lightenLess" w="25042" h="21600">
                  <a:moveTo>
                    <a:pt x="0" y="0"/>
                  </a:moveTo>
                  <a:lnTo>
                    <a:pt x="25042" y="0"/>
                  </a:lnTo>
                  <a:lnTo>
                    <a:pt x="23642" y="1400"/>
                  </a:lnTo>
                  <a:lnTo>
                    <a:pt x="1400" y="1400"/>
                  </a:lnTo>
                  <a:close/>
                </a:path>
                <a:path fill="darken" w="25042" h="21600">
                  <a:moveTo>
                    <a:pt x="25042" y="0"/>
                  </a:moveTo>
                  <a:lnTo>
                    <a:pt x="25042" y="21600"/>
                  </a:lnTo>
                  <a:lnTo>
                    <a:pt x="23642" y="20200"/>
                  </a:lnTo>
                  <a:lnTo>
                    <a:pt x="23642" y="1400"/>
                  </a:lnTo>
                  <a:close/>
                </a:path>
                <a:path fill="darkenLess" w="25042" h="21600">
                  <a:moveTo>
                    <a:pt x="25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642" y="20200"/>
                  </a:lnTo>
                  <a:close/>
                </a:path>
                <a:path fill="lighten" w="25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042" h="21600">
                  <a:moveTo>
                    <a:pt x="12521" y="3837"/>
                  </a:moveTo>
                  <a:lnTo>
                    <a:pt x="15097" y="6448"/>
                  </a:ln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lnTo>
                    <a:pt x="19484" y="10800"/>
                  </a:lnTo>
                  <a:lnTo>
                    <a:pt x="17830" y="10800"/>
                  </a:lnTo>
                  <a:lnTo>
                    <a:pt x="17830" y="17989"/>
                  </a:lnTo>
                  <a:lnTo>
                    <a:pt x="7212" y="17989"/>
                  </a:lnTo>
                  <a:lnTo>
                    <a:pt x="7212" y="10800"/>
                  </a:lnTo>
                  <a:lnTo>
                    <a:pt x="5558" y="10800"/>
                  </a:lnTo>
                  <a:close/>
                </a:path>
                <a:path fill="darkenLess" w="25042" h="21600">
                  <a:moveTo>
                    <a:pt x="15097" y="6448"/>
                  </a:move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close/>
                </a:path>
                <a:path fill="darkenLess" w="25042" h="21600">
                  <a:moveTo>
                    <a:pt x="11598" y="14299"/>
                  </a:moveTo>
                  <a:lnTo>
                    <a:pt x="13444" y="14299"/>
                  </a:lnTo>
                  <a:lnTo>
                    <a:pt x="13444" y="17989"/>
                  </a:lnTo>
                  <a:lnTo>
                    <a:pt x="17830" y="17989"/>
                  </a:lnTo>
                  <a:lnTo>
                    <a:pt x="17830" y="10800"/>
                  </a:lnTo>
                  <a:lnTo>
                    <a:pt x="7212" y="10800"/>
                  </a:lnTo>
                  <a:lnTo>
                    <a:pt x="7212" y="17989"/>
                  </a:lnTo>
                  <a:lnTo>
                    <a:pt x="11598" y="1798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1166760"/>
            <a:ext cx="7024680" cy="54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Если во вращающееся магнитное поле поместить замкнутую металлическую рамку на оси, совпадающей с осью вращения поля, то вследствие вращения магнитного поля магнитный поток, пронизывающий рамку, изменяется. Это приводит к возникновению в рамке ЭДС индукции (1) и, соответственно, к возникновению в ней индукционного тока. На оба участка рамки, расположенных перпендикулярно вектору магнитной индукции поля, действует сила Ампера, которая создает вращающий момент, равный (2). Вращающий момент поворачивает рамку в направлении вращения п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По мере того как скорость вращения рамки приближается к скорости вращения магнитного поля, скорость изменения пронизывающего её магнитного потока уменьшается, поэтому уменьшается ЭДС индукции и сила тока в рамке. Это приводит к уменьшению момента сил, действующих на рамку. Поэтому рамка в этом электродвигателе вращается медленнее магнитного поля, т. е. несинхронно с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Мощность асинхронных электродвигателей колеблется от нескольких ватт до десятков миллионов ватт; масса – от сотен граммов до десятков тонн; напряжение питающей сети от десятков вольт до нескольких киловоль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04800" y="187200"/>
            <a:ext cx="61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А теперь, самое интересное про работу электродвиг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19200" y="375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464600" y="1258920"/>
                <a:ext cx="12664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Ф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7018200" y="2222640"/>
                <a:ext cx="212580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IS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Ф 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988320" y="3346560"/>
            <a:ext cx="1971360" cy="15904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7704000" y="6440400"/>
            <a:ext cx="1440000" cy="417600"/>
            <a:chOff x="7704000" y="6440400"/>
            <a:chExt cx="1440000" cy="417600"/>
          </a:xfrm>
        </p:grpSpPr>
        <p:sp>
          <p:nvSpPr>
            <p:cNvPr id="142" name="">
              <a:hlinkClick r:id="" action="ppaction://hlinkshowjump?jump=nextslide"/>
            </p:cNvPr>
            <p:cNvSpPr/>
            <p:nvPr/>
          </p:nvSpPr>
          <p:spPr>
            <a:xfrm>
              <a:off x="8674200" y="6442200"/>
              <a:ext cx="469800" cy="415800"/>
            </a:xfrm>
            <a:custGeom>
              <a:avLst/>
              <a:gdLst>
                <a:gd name="textAreaLeft" fmla="*/ 26640 w 469800"/>
                <a:gd name="textAreaRight" fmla="*/ 443160 w 46980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4403" h="21600">
                  <a:moveTo>
                    <a:pt x="0" y="0"/>
                  </a:moveTo>
                  <a:lnTo>
                    <a:pt x="24403" y="0"/>
                  </a:lnTo>
                  <a:lnTo>
                    <a:pt x="24403" y="21600"/>
                  </a:lnTo>
                  <a:lnTo>
                    <a:pt x="0" y="21600"/>
                  </a:lnTo>
                  <a:close/>
                </a:path>
                <a:path fill="lightenLess" w="24403" h="21600">
                  <a:moveTo>
                    <a:pt x="0" y="0"/>
                  </a:moveTo>
                  <a:lnTo>
                    <a:pt x="24403" y="0"/>
                  </a:lnTo>
                  <a:lnTo>
                    <a:pt x="23003" y="1400"/>
                  </a:lnTo>
                  <a:lnTo>
                    <a:pt x="1400" y="1400"/>
                  </a:lnTo>
                  <a:close/>
                </a:path>
                <a:path fill="darken" w="24403" h="21600">
                  <a:moveTo>
                    <a:pt x="24403" y="0"/>
                  </a:moveTo>
                  <a:lnTo>
                    <a:pt x="24403" y="21600"/>
                  </a:lnTo>
                  <a:lnTo>
                    <a:pt x="23003" y="20200"/>
                  </a:lnTo>
                  <a:lnTo>
                    <a:pt x="23003" y="1400"/>
                  </a:lnTo>
                  <a:close/>
                </a:path>
                <a:path fill="darkenLess" w="24403" h="21600">
                  <a:moveTo>
                    <a:pt x="244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003" y="20200"/>
                  </a:lnTo>
                  <a:close/>
                </a:path>
                <a:path fill="lighten" w="244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403" h="21600">
                  <a:moveTo>
                    <a:pt x="5195" y="3794"/>
                  </a:moveTo>
                  <a:lnTo>
                    <a:pt x="19208" y="10800"/>
                  </a:lnTo>
                  <a:lnTo>
                    <a:pt x="5195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>
              <a:hlinkClick r:id="" action="ppaction://hlinkshowjump?jump=previousslide"/>
            </p:cNvPr>
            <p:cNvSpPr/>
            <p:nvPr/>
          </p:nvSpPr>
          <p:spPr>
            <a:xfrm>
              <a:off x="7704000" y="6442200"/>
              <a:ext cx="487440" cy="415800"/>
            </a:xfrm>
            <a:custGeom>
              <a:avLst/>
              <a:gdLst>
                <a:gd name="textAreaLeft" fmla="*/ 26640 w 487440"/>
                <a:gd name="textAreaRight" fmla="*/ 460800 w 48744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5318" h="21600">
                  <a:moveTo>
                    <a:pt x="0" y="0"/>
                  </a:moveTo>
                  <a:lnTo>
                    <a:pt x="25318" y="0"/>
                  </a:lnTo>
                  <a:lnTo>
                    <a:pt x="25318" y="21600"/>
                  </a:lnTo>
                  <a:lnTo>
                    <a:pt x="0" y="21600"/>
                  </a:lnTo>
                  <a:close/>
                </a:path>
                <a:path fill="lightenLess" w="25318" h="21600">
                  <a:moveTo>
                    <a:pt x="0" y="0"/>
                  </a:moveTo>
                  <a:lnTo>
                    <a:pt x="25318" y="0"/>
                  </a:lnTo>
                  <a:lnTo>
                    <a:pt x="23918" y="1400"/>
                  </a:lnTo>
                  <a:lnTo>
                    <a:pt x="1400" y="1400"/>
                  </a:lnTo>
                  <a:close/>
                </a:path>
                <a:path fill="darken" w="25318" h="21600">
                  <a:moveTo>
                    <a:pt x="25318" y="0"/>
                  </a:moveTo>
                  <a:lnTo>
                    <a:pt x="25318" y="21600"/>
                  </a:lnTo>
                  <a:lnTo>
                    <a:pt x="23918" y="20200"/>
                  </a:lnTo>
                  <a:lnTo>
                    <a:pt x="23918" y="1400"/>
                  </a:lnTo>
                  <a:close/>
                </a:path>
                <a:path fill="darkenLess" w="25318" h="21600">
                  <a:moveTo>
                    <a:pt x="2531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918" y="20200"/>
                  </a:lnTo>
                  <a:close/>
                </a:path>
                <a:path fill="lighten" w="2531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318" h="21600">
                  <a:moveTo>
                    <a:pt x="5653" y="10800"/>
                  </a:moveTo>
                  <a:lnTo>
                    <a:pt x="19666" y="3794"/>
                  </a:lnTo>
                  <a:lnTo>
                    <a:pt x="19666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88200" y="6440400"/>
              <a:ext cx="484200" cy="417600"/>
            </a:xfrm>
            <a:custGeom>
              <a:avLst/>
              <a:gdLst>
                <a:gd name="textAreaLeft" fmla="*/ 27000 w 484200"/>
                <a:gd name="textAreaRight" fmla="*/ 457200 w 484200"/>
                <a:gd name="textAreaTop" fmla="*/ 27000 h 417600"/>
                <a:gd name="textAreaBottom" fmla="*/ 390600 h 417600"/>
              </a:gdLst>
              <a:ahLst/>
              <a:rect l="textAreaLeft" t="textAreaTop" r="textAreaRight" b="textAreaBottom"/>
              <a:pathLst>
                <a:path w="25042" h="21600">
                  <a:moveTo>
                    <a:pt x="0" y="0"/>
                  </a:moveTo>
                  <a:lnTo>
                    <a:pt x="25042" y="0"/>
                  </a:lnTo>
                  <a:lnTo>
                    <a:pt x="25042" y="21600"/>
                  </a:lnTo>
                  <a:lnTo>
                    <a:pt x="0" y="21600"/>
                  </a:lnTo>
                  <a:close/>
                </a:path>
                <a:path fill="lightenLess" w="25042" h="21600">
                  <a:moveTo>
                    <a:pt x="0" y="0"/>
                  </a:moveTo>
                  <a:lnTo>
                    <a:pt x="25042" y="0"/>
                  </a:lnTo>
                  <a:lnTo>
                    <a:pt x="23642" y="1400"/>
                  </a:lnTo>
                  <a:lnTo>
                    <a:pt x="1400" y="1400"/>
                  </a:lnTo>
                  <a:close/>
                </a:path>
                <a:path fill="darken" w="25042" h="21600">
                  <a:moveTo>
                    <a:pt x="25042" y="0"/>
                  </a:moveTo>
                  <a:lnTo>
                    <a:pt x="25042" y="21600"/>
                  </a:lnTo>
                  <a:lnTo>
                    <a:pt x="23642" y="20200"/>
                  </a:lnTo>
                  <a:lnTo>
                    <a:pt x="23642" y="1400"/>
                  </a:lnTo>
                  <a:close/>
                </a:path>
                <a:path fill="darkenLess" w="25042" h="21600">
                  <a:moveTo>
                    <a:pt x="25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642" y="20200"/>
                  </a:lnTo>
                  <a:close/>
                </a:path>
                <a:path fill="lighten" w="25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042" h="21600">
                  <a:moveTo>
                    <a:pt x="12521" y="3837"/>
                  </a:moveTo>
                  <a:lnTo>
                    <a:pt x="15097" y="6448"/>
                  </a:ln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lnTo>
                    <a:pt x="19484" y="10800"/>
                  </a:lnTo>
                  <a:lnTo>
                    <a:pt x="17830" y="10800"/>
                  </a:lnTo>
                  <a:lnTo>
                    <a:pt x="17830" y="17989"/>
                  </a:lnTo>
                  <a:lnTo>
                    <a:pt x="7212" y="17989"/>
                  </a:lnTo>
                  <a:lnTo>
                    <a:pt x="7212" y="10800"/>
                  </a:lnTo>
                  <a:lnTo>
                    <a:pt x="5558" y="10800"/>
                  </a:lnTo>
                  <a:close/>
                </a:path>
                <a:path fill="darkenLess" w="25042" h="21600">
                  <a:moveTo>
                    <a:pt x="15097" y="6448"/>
                  </a:move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close/>
                </a:path>
                <a:path fill="darkenLess" w="25042" h="21600">
                  <a:moveTo>
                    <a:pt x="11598" y="14299"/>
                  </a:moveTo>
                  <a:lnTo>
                    <a:pt x="13444" y="14299"/>
                  </a:lnTo>
                  <a:lnTo>
                    <a:pt x="13444" y="17989"/>
                  </a:lnTo>
                  <a:lnTo>
                    <a:pt x="17830" y="17989"/>
                  </a:lnTo>
                  <a:lnTo>
                    <a:pt x="17830" y="10800"/>
                  </a:lnTo>
                  <a:lnTo>
                    <a:pt x="7212" y="10800"/>
                  </a:lnTo>
                  <a:lnTo>
                    <a:pt x="7212" y="17989"/>
                  </a:lnTo>
                  <a:lnTo>
                    <a:pt x="11598" y="1798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10520" y="355680"/>
            <a:ext cx="6215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Comic Sans MS"/>
              </a:rPr>
              <a:t>Список литературы, которую пришлось чита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Comic Sans MS"/>
              </a:rPr>
              <a:t>а иногда даже очень близ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be0e3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bbe0e3"/>
                </a:solidFill>
                <a:latin typeface="Comic Sans MS"/>
              </a:rPr>
              <a:t>к тексту запомин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63600" y="295200"/>
            <a:ext cx="2124000" cy="2387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51160" y="1703520"/>
            <a:ext cx="558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Comic Sans MS"/>
              </a:rPr>
              <a:t>1.Физика: Учеб. Пособие для 11 кл. шк. и классов с углубленным изучением физики/ Под ред. А.А.Пинского.-2е изд.- М.; Просвещение, 1995.-432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Comic Sans MS"/>
              </a:rPr>
              <a:t>2.Физика: Учеб. Пособие для 10 кл. шк. и классов с углубленным изучением физики/ Под ред. А.А.Пинского.-2е изд.- М.; Просвещение, 1995.-415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Comic Sans MS"/>
              </a:rPr>
              <a:t>3.Энциклопедический словарь юного техника/Сост. Б.В.Зубков, С.В.Чумаков-М.: Педагогика, 1980.-512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Comic Sans MS"/>
              </a:rPr>
              <a:t>4.Физика: учебник для углубленного изучения физики 10-11 кл. Электродинамика. Москва издательский дом «Дрофа»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704000" y="6440400"/>
            <a:ext cx="1440000" cy="417600"/>
            <a:chOff x="7704000" y="6440400"/>
            <a:chExt cx="1440000" cy="417600"/>
          </a:xfrm>
        </p:grpSpPr>
        <p:sp>
          <p:nvSpPr>
            <p:cNvPr id="149" name="">
              <a:hlinkClick r:id="" action="ppaction://hlinkshowjump?jump=endshow"/>
            </p:cNvPr>
            <p:cNvSpPr/>
            <p:nvPr/>
          </p:nvSpPr>
          <p:spPr>
            <a:xfrm>
              <a:off x="8674200" y="6442200"/>
              <a:ext cx="469800" cy="415800"/>
            </a:xfrm>
            <a:custGeom>
              <a:avLst/>
              <a:gdLst>
                <a:gd name="textAreaLeft" fmla="*/ 26640 w 469800"/>
                <a:gd name="textAreaRight" fmla="*/ 443160 w 46980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4403" h="21600">
                  <a:moveTo>
                    <a:pt x="0" y="0"/>
                  </a:moveTo>
                  <a:lnTo>
                    <a:pt x="24403" y="0"/>
                  </a:lnTo>
                  <a:lnTo>
                    <a:pt x="24403" y="21600"/>
                  </a:lnTo>
                  <a:lnTo>
                    <a:pt x="0" y="21600"/>
                  </a:lnTo>
                  <a:close/>
                </a:path>
                <a:path fill="lightenLess" w="24403" h="21600">
                  <a:moveTo>
                    <a:pt x="0" y="0"/>
                  </a:moveTo>
                  <a:lnTo>
                    <a:pt x="24403" y="0"/>
                  </a:lnTo>
                  <a:lnTo>
                    <a:pt x="23003" y="1400"/>
                  </a:lnTo>
                  <a:lnTo>
                    <a:pt x="1400" y="1400"/>
                  </a:lnTo>
                  <a:close/>
                </a:path>
                <a:path fill="darken" w="24403" h="21600">
                  <a:moveTo>
                    <a:pt x="24403" y="0"/>
                  </a:moveTo>
                  <a:lnTo>
                    <a:pt x="24403" y="21600"/>
                  </a:lnTo>
                  <a:lnTo>
                    <a:pt x="23003" y="20200"/>
                  </a:lnTo>
                  <a:lnTo>
                    <a:pt x="23003" y="1400"/>
                  </a:lnTo>
                  <a:close/>
                </a:path>
                <a:path fill="darkenLess" w="24403" h="21600">
                  <a:moveTo>
                    <a:pt x="244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003" y="20200"/>
                  </a:lnTo>
                  <a:close/>
                </a:path>
                <a:path fill="lighten" w="244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403" h="21600">
                  <a:moveTo>
                    <a:pt x="5195" y="3794"/>
                  </a:moveTo>
                  <a:lnTo>
                    <a:pt x="19208" y="10800"/>
                  </a:lnTo>
                  <a:lnTo>
                    <a:pt x="5195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>
              <a:hlinkClick r:id="" action="ppaction://hlinkshowjump?jump=previousslide"/>
            </p:cNvPr>
            <p:cNvSpPr/>
            <p:nvPr/>
          </p:nvSpPr>
          <p:spPr>
            <a:xfrm>
              <a:off x="7704000" y="6442200"/>
              <a:ext cx="487440" cy="415800"/>
            </a:xfrm>
            <a:custGeom>
              <a:avLst/>
              <a:gdLst>
                <a:gd name="textAreaLeft" fmla="*/ 26640 w 487440"/>
                <a:gd name="textAreaRight" fmla="*/ 460800 w 48744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5318" h="21600">
                  <a:moveTo>
                    <a:pt x="0" y="0"/>
                  </a:moveTo>
                  <a:lnTo>
                    <a:pt x="25318" y="0"/>
                  </a:lnTo>
                  <a:lnTo>
                    <a:pt x="25318" y="21600"/>
                  </a:lnTo>
                  <a:lnTo>
                    <a:pt x="0" y="21600"/>
                  </a:lnTo>
                  <a:close/>
                </a:path>
                <a:path fill="lightenLess" w="25318" h="21600">
                  <a:moveTo>
                    <a:pt x="0" y="0"/>
                  </a:moveTo>
                  <a:lnTo>
                    <a:pt x="25318" y="0"/>
                  </a:lnTo>
                  <a:lnTo>
                    <a:pt x="23918" y="1400"/>
                  </a:lnTo>
                  <a:lnTo>
                    <a:pt x="1400" y="1400"/>
                  </a:lnTo>
                  <a:close/>
                </a:path>
                <a:path fill="darken" w="25318" h="21600">
                  <a:moveTo>
                    <a:pt x="25318" y="0"/>
                  </a:moveTo>
                  <a:lnTo>
                    <a:pt x="25318" y="21600"/>
                  </a:lnTo>
                  <a:lnTo>
                    <a:pt x="23918" y="20200"/>
                  </a:lnTo>
                  <a:lnTo>
                    <a:pt x="23918" y="1400"/>
                  </a:lnTo>
                  <a:close/>
                </a:path>
                <a:path fill="darkenLess" w="25318" h="21600">
                  <a:moveTo>
                    <a:pt x="2531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918" y="20200"/>
                  </a:lnTo>
                  <a:close/>
                </a:path>
                <a:path fill="lighten" w="2531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318" h="21600">
                  <a:moveTo>
                    <a:pt x="5653" y="10800"/>
                  </a:moveTo>
                  <a:lnTo>
                    <a:pt x="19666" y="3794"/>
                  </a:lnTo>
                  <a:lnTo>
                    <a:pt x="19666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88200" y="6440400"/>
              <a:ext cx="484200" cy="417600"/>
            </a:xfrm>
            <a:custGeom>
              <a:avLst/>
              <a:gdLst>
                <a:gd name="textAreaLeft" fmla="*/ 27000 w 484200"/>
                <a:gd name="textAreaRight" fmla="*/ 457200 w 484200"/>
                <a:gd name="textAreaTop" fmla="*/ 27000 h 417600"/>
                <a:gd name="textAreaBottom" fmla="*/ 390600 h 417600"/>
              </a:gdLst>
              <a:ahLst/>
              <a:rect l="textAreaLeft" t="textAreaTop" r="textAreaRight" b="textAreaBottom"/>
              <a:pathLst>
                <a:path w="25042" h="21600">
                  <a:moveTo>
                    <a:pt x="0" y="0"/>
                  </a:moveTo>
                  <a:lnTo>
                    <a:pt x="25042" y="0"/>
                  </a:lnTo>
                  <a:lnTo>
                    <a:pt x="25042" y="21600"/>
                  </a:lnTo>
                  <a:lnTo>
                    <a:pt x="0" y="21600"/>
                  </a:lnTo>
                  <a:close/>
                </a:path>
                <a:path fill="lightenLess" w="25042" h="21600">
                  <a:moveTo>
                    <a:pt x="0" y="0"/>
                  </a:moveTo>
                  <a:lnTo>
                    <a:pt x="25042" y="0"/>
                  </a:lnTo>
                  <a:lnTo>
                    <a:pt x="23642" y="1400"/>
                  </a:lnTo>
                  <a:lnTo>
                    <a:pt x="1400" y="1400"/>
                  </a:lnTo>
                  <a:close/>
                </a:path>
                <a:path fill="darken" w="25042" h="21600">
                  <a:moveTo>
                    <a:pt x="25042" y="0"/>
                  </a:moveTo>
                  <a:lnTo>
                    <a:pt x="25042" y="21600"/>
                  </a:lnTo>
                  <a:lnTo>
                    <a:pt x="23642" y="20200"/>
                  </a:lnTo>
                  <a:lnTo>
                    <a:pt x="23642" y="1400"/>
                  </a:lnTo>
                  <a:close/>
                </a:path>
                <a:path fill="darkenLess" w="25042" h="21600">
                  <a:moveTo>
                    <a:pt x="25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642" y="20200"/>
                  </a:lnTo>
                  <a:close/>
                </a:path>
                <a:path fill="lighten" w="25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042" h="21600">
                  <a:moveTo>
                    <a:pt x="12521" y="3837"/>
                  </a:moveTo>
                  <a:lnTo>
                    <a:pt x="15097" y="6448"/>
                  </a:ln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lnTo>
                    <a:pt x="19484" y="10800"/>
                  </a:lnTo>
                  <a:lnTo>
                    <a:pt x="17830" y="10800"/>
                  </a:lnTo>
                  <a:lnTo>
                    <a:pt x="17830" y="17989"/>
                  </a:lnTo>
                  <a:lnTo>
                    <a:pt x="7212" y="17989"/>
                  </a:lnTo>
                  <a:lnTo>
                    <a:pt x="7212" y="10800"/>
                  </a:lnTo>
                  <a:lnTo>
                    <a:pt x="5558" y="10800"/>
                  </a:lnTo>
                  <a:close/>
                </a:path>
                <a:path fill="darkenLess" w="25042" h="21600">
                  <a:moveTo>
                    <a:pt x="15097" y="6448"/>
                  </a:move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close/>
                </a:path>
                <a:path fill="darkenLess" w="25042" h="21600">
                  <a:moveTo>
                    <a:pt x="11598" y="14299"/>
                  </a:moveTo>
                  <a:lnTo>
                    <a:pt x="13444" y="14299"/>
                  </a:lnTo>
                  <a:lnTo>
                    <a:pt x="13444" y="17989"/>
                  </a:lnTo>
                  <a:lnTo>
                    <a:pt x="17830" y="17989"/>
                  </a:lnTo>
                  <a:lnTo>
                    <a:pt x="17830" y="10800"/>
                  </a:lnTo>
                  <a:lnTo>
                    <a:pt x="7212" y="10800"/>
                  </a:lnTo>
                  <a:lnTo>
                    <a:pt x="7212" y="17989"/>
                  </a:lnTo>
                  <a:lnTo>
                    <a:pt x="11598" y="1798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0" y="3402000"/>
            <a:ext cx="31608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Над презентацией потели следующие лиц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1)Коновалов Ро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2)Лебедев Ив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3)Папушин Алекс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4)Прохоренко Дан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5)Шаповалова Алё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be0e3"/>
                </a:solidFill>
                <a:latin typeface="Comic Sans MS"/>
              </a:rPr>
              <a:t>На кухне ест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06240" y="1285920"/>
            <a:ext cx="4102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Чай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Comic Sans MS"/>
                <a:hlinkClick r:id="rId2" action="ppaction://hlinksldjump"/>
              </a:rPr>
              <a:t>Микроволнов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Comic Sans MS"/>
                <a:hlinkClick r:id="rId3" action="ppaction://hlinksldjump"/>
              </a:rPr>
              <a:t>Электротос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Comic Sans MS"/>
                <a:hlinkClick r:id="rId4" action="ppaction://hlinksldjump"/>
              </a:rPr>
              <a:t>Бленд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Comic Sans MS"/>
                <a:hlinkClick r:id="rId5" action="ppaction://hlinksldjump"/>
              </a:rPr>
              <a:t>Микс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9999"/>
                </a:solidFill>
                <a:uFillTx/>
                <a:latin typeface="Comic Sans MS"/>
                <a:hlinkClick r:id="rId6" action="ppaction://hlinksldjump"/>
              </a:rPr>
              <a:t>Холоди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be0e3"/>
                </a:solidFill>
                <a:latin typeface="Comic Sans MS"/>
              </a:rPr>
              <a:t>И многое друг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7"/>
          <a:stretch/>
        </p:blipFill>
        <p:spPr>
          <a:xfrm>
            <a:off x="7305840" y="237960"/>
            <a:ext cx="1620720" cy="216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8"/>
          <a:stretch/>
        </p:blipFill>
        <p:spPr>
          <a:xfrm>
            <a:off x="388800" y="314280"/>
            <a:ext cx="1555920" cy="2097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9"/>
          <a:srcRect l="8221" t="3121" r="27328" b="-1839"/>
          <a:stretch/>
        </p:blipFill>
        <p:spPr>
          <a:xfrm>
            <a:off x="7023240" y="2589120"/>
            <a:ext cx="1803240" cy="1641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Микроволновая печь"/>
          <p:cNvPicPr/>
          <p:nvPr/>
        </p:nvPicPr>
        <p:blipFill>
          <a:blip r:embed="rId10"/>
          <a:srcRect l="7359" t="0" r="0" b="0"/>
          <a:stretch/>
        </p:blipFill>
        <p:spPr>
          <a:xfrm>
            <a:off x="184320" y="2579760"/>
            <a:ext cx="2036520" cy="1654200"/>
          </a:xfrm>
          <a:prstGeom prst="rect">
            <a:avLst/>
          </a:prstGeom>
          <a:ln w="0">
            <a:noFill/>
          </a:ln>
        </p:spPr>
      </p:pic>
      <p:grpSp>
        <p:nvGrpSpPr>
          <p:cNvPr id="50" name=""/>
          <p:cNvGrpSpPr/>
          <p:nvPr/>
        </p:nvGrpSpPr>
        <p:grpSpPr>
          <a:xfrm>
            <a:off x="7704000" y="6440400"/>
            <a:ext cx="1440000" cy="417600"/>
            <a:chOff x="7704000" y="6440400"/>
            <a:chExt cx="1440000" cy="417600"/>
          </a:xfrm>
        </p:grpSpPr>
        <p:sp>
          <p:nvSpPr>
            <p:cNvPr id="51" name="">
              <a:hlinkClick r:id="" action="ppaction://hlinkshowjump?jump=nextslide"/>
            </p:cNvPr>
            <p:cNvSpPr/>
            <p:nvPr/>
          </p:nvSpPr>
          <p:spPr>
            <a:xfrm>
              <a:off x="8674200" y="6442200"/>
              <a:ext cx="469800" cy="415800"/>
            </a:xfrm>
            <a:custGeom>
              <a:avLst/>
              <a:gdLst>
                <a:gd name="textAreaLeft" fmla="*/ 26640 w 469800"/>
                <a:gd name="textAreaRight" fmla="*/ 443160 w 46980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4403" h="21600">
                  <a:moveTo>
                    <a:pt x="0" y="0"/>
                  </a:moveTo>
                  <a:lnTo>
                    <a:pt x="24403" y="0"/>
                  </a:lnTo>
                  <a:lnTo>
                    <a:pt x="24403" y="21600"/>
                  </a:lnTo>
                  <a:lnTo>
                    <a:pt x="0" y="21600"/>
                  </a:lnTo>
                  <a:close/>
                </a:path>
                <a:path fill="lightenLess" w="24403" h="21600">
                  <a:moveTo>
                    <a:pt x="0" y="0"/>
                  </a:moveTo>
                  <a:lnTo>
                    <a:pt x="24403" y="0"/>
                  </a:lnTo>
                  <a:lnTo>
                    <a:pt x="23003" y="1400"/>
                  </a:lnTo>
                  <a:lnTo>
                    <a:pt x="1400" y="1400"/>
                  </a:lnTo>
                  <a:close/>
                </a:path>
                <a:path fill="darken" w="24403" h="21600">
                  <a:moveTo>
                    <a:pt x="24403" y="0"/>
                  </a:moveTo>
                  <a:lnTo>
                    <a:pt x="24403" y="21600"/>
                  </a:lnTo>
                  <a:lnTo>
                    <a:pt x="23003" y="20200"/>
                  </a:lnTo>
                  <a:lnTo>
                    <a:pt x="23003" y="1400"/>
                  </a:lnTo>
                  <a:close/>
                </a:path>
                <a:path fill="darkenLess" w="24403" h="21600">
                  <a:moveTo>
                    <a:pt x="244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003" y="20200"/>
                  </a:lnTo>
                  <a:close/>
                </a:path>
                <a:path fill="lighten" w="244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403" h="21600">
                  <a:moveTo>
                    <a:pt x="5195" y="3794"/>
                  </a:moveTo>
                  <a:lnTo>
                    <a:pt x="19208" y="10800"/>
                  </a:lnTo>
                  <a:lnTo>
                    <a:pt x="5195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>
              <a:hlinkClick r:id="" action="ppaction://hlinkshowjump?jump=previousslide"/>
            </p:cNvPr>
            <p:cNvSpPr/>
            <p:nvPr/>
          </p:nvSpPr>
          <p:spPr>
            <a:xfrm>
              <a:off x="7704000" y="6442200"/>
              <a:ext cx="487440" cy="415800"/>
            </a:xfrm>
            <a:custGeom>
              <a:avLst/>
              <a:gdLst>
                <a:gd name="textAreaLeft" fmla="*/ 26640 w 487440"/>
                <a:gd name="textAreaRight" fmla="*/ 460800 w 48744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5318" h="21600">
                  <a:moveTo>
                    <a:pt x="0" y="0"/>
                  </a:moveTo>
                  <a:lnTo>
                    <a:pt x="25318" y="0"/>
                  </a:lnTo>
                  <a:lnTo>
                    <a:pt x="25318" y="21600"/>
                  </a:lnTo>
                  <a:lnTo>
                    <a:pt x="0" y="21600"/>
                  </a:lnTo>
                  <a:close/>
                </a:path>
                <a:path fill="lightenLess" w="25318" h="21600">
                  <a:moveTo>
                    <a:pt x="0" y="0"/>
                  </a:moveTo>
                  <a:lnTo>
                    <a:pt x="25318" y="0"/>
                  </a:lnTo>
                  <a:lnTo>
                    <a:pt x="23918" y="1400"/>
                  </a:lnTo>
                  <a:lnTo>
                    <a:pt x="1400" y="1400"/>
                  </a:lnTo>
                  <a:close/>
                </a:path>
                <a:path fill="darken" w="25318" h="21600">
                  <a:moveTo>
                    <a:pt x="25318" y="0"/>
                  </a:moveTo>
                  <a:lnTo>
                    <a:pt x="25318" y="21600"/>
                  </a:lnTo>
                  <a:lnTo>
                    <a:pt x="23918" y="20200"/>
                  </a:lnTo>
                  <a:lnTo>
                    <a:pt x="23918" y="1400"/>
                  </a:lnTo>
                  <a:close/>
                </a:path>
                <a:path fill="darkenLess" w="25318" h="21600">
                  <a:moveTo>
                    <a:pt x="2531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918" y="20200"/>
                  </a:lnTo>
                  <a:close/>
                </a:path>
                <a:path fill="lighten" w="2531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318" h="21600">
                  <a:moveTo>
                    <a:pt x="5653" y="10800"/>
                  </a:moveTo>
                  <a:lnTo>
                    <a:pt x="19666" y="3794"/>
                  </a:lnTo>
                  <a:lnTo>
                    <a:pt x="19666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>
              <a:hlinkClick r:id="rId11" action="ppaction://hlinksldjump"/>
            </p:cNvPr>
            <p:cNvSpPr/>
            <p:nvPr/>
          </p:nvSpPr>
          <p:spPr>
            <a:xfrm>
              <a:off x="8188200" y="6440400"/>
              <a:ext cx="484200" cy="417600"/>
            </a:xfrm>
            <a:custGeom>
              <a:avLst/>
              <a:gdLst>
                <a:gd name="textAreaLeft" fmla="*/ 27000 w 484200"/>
                <a:gd name="textAreaRight" fmla="*/ 457200 w 484200"/>
                <a:gd name="textAreaTop" fmla="*/ 27000 h 417600"/>
                <a:gd name="textAreaBottom" fmla="*/ 390600 h 417600"/>
              </a:gdLst>
              <a:ahLst/>
              <a:rect l="textAreaLeft" t="textAreaTop" r="textAreaRight" b="textAreaBottom"/>
              <a:pathLst>
                <a:path w="25042" h="21600">
                  <a:moveTo>
                    <a:pt x="0" y="0"/>
                  </a:moveTo>
                  <a:lnTo>
                    <a:pt x="25042" y="0"/>
                  </a:lnTo>
                  <a:lnTo>
                    <a:pt x="25042" y="21600"/>
                  </a:lnTo>
                  <a:lnTo>
                    <a:pt x="0" y="21600"/>
                  </a:lnTo>
                  <a:close/>
                </a:path>
                <a:path fill="lightenLess" w="25042" h="21600">
                  <a:moveTo>
                    <a:pt x="0" y="0"/>
                  </a:moveTo>
                  <a:lnTo>
                    <a:pt x="25042" y="0"/>
                  </a:lnTo>
                  <a:lnTo>
                    <a:pt x="23642" y="1400"/>
                  </a:lnTo>
                  <a:lnTo>
                    <a:pt x="1400" y="1400"/>
                  </a:lnTo>
                  <a:close/>
                </a:path>
                <a:path fill="darken" w="25042" h="21600">
                  <a:moveTo>
                    <a:pt x="25042" y="0"/>
                  </a:moveTo>
                  <a:lnTo>
                    <a:pt x="25042" y="21600"/>
                  </a:lnTo>
                  <a:lnTo>
                    <a:pt x="23642" y="20200"/>
                  </a:lnTo>
                  <a:lnTo>
                    <a:pt x="23642" y="1400"/>
                  </a:lnTo>
                  <a:close/>
                </a:path>
                <a:path fill="darkenLess" w="25042" h="21600">
                  <a:moveTo>
                    <a:pt x="25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642" y="20200"/>
                  </a:lnTo>
                  <a:close/>
                </a:path>
                <a:path fill="lighten" w="25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042" h="21600">
                  <a:moveTo>
                    <a:pt x="12521" y="3837"/>
                  </a:moveTo>
                  <a:lnTo>
                    <a:pt x="15097" y="6448"/>
                  </a:ln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lnTo>
                    <a:pt x="19484" y="10800"/>
                  </a:lnTo>
                  <a:lnTo>
                    <a:pt x="17830" y="10800"/>
                  </a:lnTo>
                  <a:lnTo>
                    <a:pt x="17830" y="17989"/>
                  </a:lnTo>
                  <a:lnTo>
                    <a:pt x="7212" y="17989"/>
                  </a:lnTo>
                  <a:lnTo>
                    <a:pt x="7212" y="10800"/>
                  </a:lnTo>
                  <a:lnTo>
                    <a:pt x="5558" y="10800"/>
                  </a:lnTo>
                  <a:close/>
                </a:path>
                <a:path fill="darkenLess" w="25042" h="21600">
                  <a:moveTo>
                    <a:pt x="15097" y="6448"/>
                  </a:move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close/>
                </a:path>
                <a:path fill="darkenLess" w="25042" h="21600">
                  <a:moveTo>
                    <a:pt x="11598" y="14299"/>
                  </a:moveTo>
                  <a:lnTo>
                    <a:pt x="13444" y="14299"/>
                  </a:lnTo>
                  <a:lnTo>
                    <a:pt x="13444" y="17989"/>
                  </a:lnTo>
                  <a:lnTo>
                    <a:pt x="17830" y="17989"/>
                  </a:lnTo>
                  <a:lnTo>
                    <a:pt x="17830" y="10800"/>
                  </a:lnTo>
                  <a:lnTo>
                    <a:pt x="7212" y="10800"/>
                  </a:lnTo>
                  <a:lnTo>
                    <a:pt x="7212" y="17989"/>
                  </a:lnTo>
                  <a:lnTo>
                    <a:pt x="11598" y="1798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05720" y="43578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174600" y="4387680"/>
            <a:ext cx="214164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803240" y="173160"/>
            <a:ext cx="59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По принципу действия все электроприборы можно разделить на несколько гру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66200" y="1541520"/>
            <a:ext cx="452160" cy="1544760"/>
          </a:xfrm>
          <a:prstGeom prst="downArrow">
            <a:avLst>
              <a:gd name="adj1" fmla="val 50000"/>
              <a:gd name="adj2" fmla="val 8541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06680" y="1407960"/>
            <a:ext cx="473040" cy="1575000"/>
          </a:xfrm>
          <a:prstGeom prst="downArrow">
            <a:avLst>
              <a:gd name="adj1" fmla="val 50000"/>
              <a:gd name="adj2" fmla="val 83238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3080" y="1376280"/>
            <a:ext cx="396720" cy="1671840"/>
          </a:xfrm>
          <a:prstGeom prst="downArrow">
            <a:avLst>
              <a:gd name="adj1" fmla="val 50000"/>
              <a:gd name="adj2" fmla="val 105354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5840" y="3130560"/>
            <a:ext cx="22334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Нагревание проводника с током, выделение тепла по закону Джоуля-Лен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Электроплиты, чайники, тостеры, кофеварки, сэндвичницы, вафельницы, электродухо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7840" y="3168720"/>
            <a:ext cx="22734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Действие силы Ампера на проводник с током в магнитном пол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Кофемолки, блендеры, мясорубки, миксеры, все, где есть электрический двиг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52960" y="3254400"/>
            <a:ext cx="22208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Взаимо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электромагнит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излучения и веще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возникновение токов Фук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Микроволновая печ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57240" y="1406520"/>
            <a:ext cx="396720" cy="1697040"/>
          </a:xfrm>
          <a:prstGeom prst="downArrow">
            <a:avLst>
              <a:gd name="adj1" fmla="val 50000"/>
              <a:gd name="adj2" fmla="val 106942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24640" y="3311640"/>
            <a:ext cx="17193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Тепловая машина, работающая по обратному цикл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Холодиль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7704000" y="6440400"/>
            <a:ext cx="1440000" cy="417600"/>
            <a:chOff x="7704000" y="6440400"/>
            <a:chExt cx="1440000" cy="417600"/>
          </a:xfrm>
        </p:grpSpPr>
        <p:sp>
          <p:nvSpPr>
            <p:cNvPr id="66" name="">
              <a:hlinkClick r:id="" action="ppaction://hlinkshowjump?jump=nextslide"/>
            </p:cNvPr>
            <p:cNvSpPr/>
            <p:nvPr/>
          </p:nvSpPr>
          <p:spPr>
            <a:xfrm>
              <a:off x="8674200" y="6442200"/>
              <a:ext cx="469800" cy="415800"/>
            </a:xfrm>
            <a:custGeom>
              <a:avLst/>
              <a:gdLst>
                <a:gd name="textAreaLeft" fmla="*/ 26640 w 469800"/>
                <a:gd name="textAreaRight" fmla="*/ 443160 w 46980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4403" h="21600">
                  <a:moveTo>
                    <a:pt x="0" y="0"/>
                  </a:moveTo>
                  <a:lnTo>
                    <a:pt x="24403" y="0"/>
                  </a:lnTo>
                  <a:lnTo>
                    <a:pt x="24403" y="21600"/>
                  </a:lnTo>
                  <a:lnTo>
                    <a:pt x="0" y="21600"/>
                  </a:lnTo>
                  <a:close/>
                </a:path>
                <a:path fill="lightenLess" w="24403" h="21600">
                  <a:moveTo>
                    <a:pt x="0" y="0"/>
                  </a:moveTo>
                  <a:lnTo>
                    <a:pt x="24403" y="0"/>
                  </a:lnTo>
                  <a:lnTo>
                    <a:pt x="23003" y="1400"/>
                  </a:lnTo>
                  <a:lnTo>
                    <a:pt x="1400" y="1400"/>
                  </a:lnTo>
                  <a:close/>
                </a:path>
                <a:path fill="darken" w="24403" h="21600">
                  <a:moveTo>
                    <a:pt x="24403" y="0"/>
                  </a:moveTo>
                  <a:lnTo>
                    <a:pt x="24403" y="21600"/>
                  </a:lnTo>
                  <a:lnTo>
                    <a:pt x="23003" y="20200"/>
                  </a:lnTo>
                  <a:lnTo>
                    <a:pt x="23003" y="1400"/>
                  </a:lnTo>
                  <a:close/>
                </a:path>
                <a:path fill="darkenLess" w="24403" h="21600">
                  <a:moveTo>
                    <a:pt x="244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003" y="20200"/>
                  </a:lnTo>
                  <a:close/>
                </a:path>
                <a:path fill="lighten" w="244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403" h="21600">
                  <a:moveTo>
                    <a:pt x="5195" y="3794"/>
                  </a:moveTo>
                  <a:lnTo>
                    <a:pt x="19208" y="10800"/>
                  </a:lnTo>
                  <a:lnTo>
                    <a:pt x="5195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>
              <a:hlinkClick r:id="" action="ppaction://hlinkshowjump?jump=previousslide"/>
            </p:cNvPr>
            <p:cNvSpPr/>
            <p:nvPr/>
          </p:nvSpPr>
          <p:spPr>
            <a:xfrm>
              <a:off x="7704000" y="6442200"/>
              <a:ext cx="487440" cy="415800"/>
            </a:xfrm>
            <a:custGeom>
              <a:avLst/>
              <a:gdLst>
                <a:gd name="textAreaLeft" fmla="*/ 26640 w 487440"/>
                <a:gd name="textAreaRight" fmla="*/ 460800 w 48744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5318" h="21600">
                  <a:moveTo>
                    <a:pt x="0" y="0"/>
                  </a:moveTo>
                  <a:lnTo>
                    <a:pt x="25318" y="0"/>
                  </a:lnTo>
                  <a:lnTo>
                    <a:pt x="25318" y="21600"/>
                  </a:lnTo>
                  <a:lnTo>
                    <a:pt x="0" y="21600"/>
                  </a:lnTo>
                  <a:close/>
                </a:path>
                <a:path fill="lightenLess" w="25318" h="21600">
                  <a:moveTo>
                    <a:pt x="0" y="0"/>
                  </a:moveTo>
                  <a:lnTo>
                    <a:pt x="25318" y="0"/>
                  </a:lnTo>
                  <a:lnTo>
                    <a:pt x="23918" y="1400"/>
                  </a:lnTo>
                  <a:lnTo>
                    <a:pt x="1400" y="1400"/>
                  </a:lnTo>
                  <a:close/>
                </a:path>
                <a:path fill="darken" w="25318" h="21600">
                  <a:moveTo>
                    <a:pt x="25318" y="0"/>
                  </a:moveTo>
                  <a:lnTo>
                    <a:pt x="25318" y="21600"/>
                  </a:lnTo>
                  <a:lnTo>
                    <a:pt x="23918" y="20200"/>
                  </a:lnTo>
                  <a:lnTo>
                    <a:pt x="23918" y="1400"/>
                  </a:lnTo>
                  <a:close/>
                </a:path>
                <a:path fill="darkenLess" w="25318" h="21600">
                  <a:moveTo>
                    <a:pt x="2531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918" y="20200"/>
                  </a:lnTo>
                  <a:close/>
                </a:path>
                <a:path fill="lighten" w="2531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318" h="21600">
                  <a:moveTo>
                    <a:pt x="5653" y="10800"/>
                  </a:moveTo>
                  <a:lnTo>
                    <a:pt x="19666" y="3794"/>
                  </a:lnTo>
                  <a:lnTo>
                    <a:pt x="19666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88200" y="6440400"/>
              <a:ext cx="484200" cy="417600"/>
            </a:xfrm>
            <a:custGeom>
              <a:avLst/>
              <a:gdLst>
                <a:gd name="textAreaLeft" fmla="*/ 27000 w 484200"/>
                <a:gd name="textAreaRight" fmla="*/ 457200 w 484200"/>
                <a:gd name="textAreaTop" fmla="*/ 27000 h 417600"/>
                <a:gd name="textAreaBottom" fmla="*/ 390600 h 417600"/>
              </a:gdLst>
              <a:ahLst/>
              <a:rect l="textAreaLeft" t="textAreaTop" r="textAreaRight" b="textAreaBottom"/>
              <a:pathLst>
                <a:path w="25042" h="21600">
                  <a:moveTo>
                    <a:pt x="0" y="0"/>
                  </a:moveTo>
                  <a:lnTo>
                    <a:pt x="25042" y="0"/>
                  </a:lnTo>
                  <a:lnTo>
                    <a:pt x="25042" y="21600"/>
                  </a:lnTo>
                  <a:lnTo>
                    <a:pt x="0" y="21600"/>
                  </a:lnTo>
                  <a:close/>
                </a:path>
                <a:path fill="lightenLess" w="25042" h="21600">
                  <a:moveTo>
                    <a:pt x="0" y="0"/>
                  </a:moveTo>
                  <a:lnTo>
                    <a:pt x="25042" y="0"/>
                  </a:lnTo>
                  <a:lnTo>
                    <a:pt x="23642" y="1400"/>
                  </a:lnTo>
                  <a:lnTo>
                    <a:pt x="1400" y="1400"/>
                  </a:lnTo>
                  <a:close/>
                </a:path>
                <a:path fill="darken" w="25042" h="21600">
                  <a:moveTo>
                    <a:pt x="25042" y="0"/>
                  </a:moveTo>
                  <a:lnTo>
                    <a:pt x="25042" y="21600"/>
                  </a:lnTo>
                  <a:lnTo>
                    <a:pt x="23642" y="20200"/>
                  </a:lnTo>
                  <a:lnTo>
                    <a:pt x="23642" y="1400"/>
                  </a:lnTo>
                  <a:close/>
                </a:path>
                <a:path fill="darkenLess" w="25042" h="21600">
                  <a:moveTo>
                    <a:pt x="25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642" y="20200"/>
                  </a:lnTo>
                  <a:close/>
                </a:path>
                <a:path fill="lighten" w="25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042" h="21600">
                  <a:moveTo>
                    <a:pt x="12521" y="3837"/>
                  </a:moveTo>
                  <a:lnTo>
                    <a:pt x="15097" y="6448"/>
                  </a:ln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lnTo>
                    <a:pt x="19484" y="10800"/>
                  </a:lnTo>
                  <a:lnTo>
                    <a:pt x="17830" y="10800"/>
                  </a:lnTo>
                  <a:lnTo>
                    <a:pt x="17830" y="17989"/>
                  </a:lnTo>
                  <a:lnTo>
                    <a:pt x="7212" y="17989"/>
                  </a:lnTo>
                  <a:lnTo>
                    <a:pt x="7212" y="10800"/>
                  </a:lnTo>
                  <a:lnTo>
                    <a:pt x="5558" y="10800"/>
                  </a:lnTo>
                  <a:close/>
                </a:path>
                <a:path fill="darkenLess" w="25042" h="21600">
                  <a:moveTo>
                    <a:pt x="15097" y="6448"/>
                  </a:move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close/>
                </a:path>
                <a:path fill="darkenLess" w="25042" h="21600">
                  <a:moveTo>
                    <a:pt x="11598" y="14299"/>
                  </a:moveTo>
                  <a:lnTo>
                    <a:pt x="13444" y="14299"/>
                  </a:lnTo>
                  <a:lnTo>
                    <a:pt x="13444" y="17989"/>
                  </a:lnTo>
                  <a:lnTo>
                    <a:pt x="17830" y="17989"/>
                  </a:lnTo>
                  <a:lnTo>
                    <a:pt x="17830" y="10800"/>
                  </a:lnTo>
                  <a:lnTo>
                    <a:pt x="7212" y="10800"/>
                  </a:lnTo>
                  <a:lnTo>
                    <a:pt x="7212" y="17989"/>
                  </a:lnTo>
                  <a:lnTo>
                    <a:pt x="11598" y="1798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38120" y="210960"/>
            <a:ext cx="66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Самый главный прибор на кухне это холоди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080" y="990720"/>
            <a:ext cx="5124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Холодильник — электрическое устройство, поддерживающее низкую температуру в теплоизолированной камере, применяется обычно для хранения пищи. Работа холодильника основана на использовании теплового насоса, переносящего тепло из рабочей камеры холодильника наружу, где оно рассеивается во внешнюю среду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-4454640" y="2071800"/>
            <a:ext cx="142920" cy="1047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23840" y="2845440"/>
            <a:ext cx="566424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mic Sans MS"/>
              </a:rPr>
              <a:t>Хотя помещения для хранения продуктов, наполняемые льдом, появились ещё несколько тысяч лет назад, первое бытовое охлаждающее устройство появилось только в середине </a:t>
            </a:r>
            <a:r>
              <a:rPr b="1" lang="en-US" sz="1400" spc="-1" strike="noStrike">
                <a:solidFill>
                  <a:srgbClr val="333399"/>
                </a:solidFill>
                <a:latin typeface="Comic Sans MS"/>
              </a:rPr>
              <a:t>XIX</a:t>
            </a:r>
            <a:r>
              <a:rPr b="1" lang="ru-RU" sz="1400" spc="-1" strike="noStrike">
                <a:solidFill>
                  <a:srgbClr val="333399"/>
                </a:solidFill>
                <a:latin typeface="Comic Sans MS"/>
              </a:rPr>
              <a:t> века. Работало оно при заполнении льдом, периодически требующим замен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mic Sans MS"/>
              </a:rPr>
              <a:t>В 1856 году австралиец Джеймс Харрисон создал первый холодильник, работающий с использованием компрессора. Он использовался для охлаждения пива.В 1857 году был создан первый железнодорожный вагон-холодильни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omic Sans MS"/>
              </a:rPr>
              <a:t>Первый бытовой холодильник был создан в 1913 году. Как и промышленные холодильники, он работал с использованием принципа теплового насоса. Первая получившая широкое распространение модель холодильника была произведена фирмой Дженерал Электрик в 1927 го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5881680" y="1498680"/>
            <a:ext cx="3048120" cy="406404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7704000" y="6440400"/>
            <a:ext cx="1440000" cy="417600"/>
            <a:chOff x="7704000" y="6440400"/>
            <a:chExt cx="1440000" cy="417600"/>
          </a:xfrm>
        </p:grpSpPr>
        <p:sp>
          <p:nvSpPr>
            <p:cNvPr id="75" name="">
              <a:hlinkClick r:id="" action="ppaction://hlinkshowjump?jump=nextslide"/>
            </p:cNvPr>
            <p:cNvSpPr/>
            <p:nvPr/>
          </p:nvSpPr>
          <p:spPr>
            <a:xfrm>
              <a:off x="8674200" y="6442200"/>
              <a:ext cx="469800" cy="415800"/>
            </a:xfrm>
            <a:custGeom>
              <a:avLst/>
              <a:gdLst>
                <a:gd name="textAreaLeft" fmla="*/ 26640 w 469800"/>
                <a:gd name="textAreaRight" fmla="*/ 443160 w 46980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4403" h="21600">
                  <a:moveTo>
                    <a:pt x="0" y="0"/>
                  </a:moveTo>
                  <a:lnTo>
                    <a:pt x="24403" y="0"/>
                  </a:lnTo>
                  <a:lnTo>
                    <a:pt x="24403" y="21600"/>
                  </a:lnTo>
                  <a:lnTo>
                    <a:pt x="0" y="21600"/>
                  </a:lnTo>
                  <a:close/>
                </a:path>
                <a:path fill="lightenLess" w="24403" h="21600">
                  <a:moveTo>
                    <a:pt x="0" y="0"/>
                  </a:moveTo>
                  <a:lnTo>
                    <a:pt x="24403" y="0"/>
                  </a:lnTo>
                  <a:lnTo>
                    <a:pt x="23003" y="1400"/>
                  </a:lnTo>
                  <a:lnTo>
                    <a:pt x="1400" y="1400"/>
                  </a:lnTo>
                  <a:close/>
                </a:path>
                <a:path fill="darken" w="24403" h="21600">
                  <a:moveTo>
                    <a:pt x="24403" y="0"/>
                  </a:moveTo>
                  <a:lnTo>
                    <a:pt x="24403" y="21600"/>
                  </a:lnTo>
                  <a:lnTo>
                    <a:pt x="23003" y="20200"/>
                  </a:lnTo>
                  <a:lnTo>
                    <a:pt x="23003" y="1400"/>
                  </a:lnTo>
                  <a:close/>
                </a:path>
                <a:path fill="darkenLess" w="24403" h="21600">
                  <a:moveTo>
                    <a:pt x="244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003" y="20200"/>
                  </a:lnTo>
                  <a:close/>
                </a:path>
                <a:path fill="lighten" w="244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403" h="21600">
                  <a:moveTo>
                    <a:pt x="5195" y="3794"/>
                  </a:moveTo>
                  <a:lnTo>
                    <a:pt x="19208" y="10800"/>
                  </a:lnTo>
                  <a:lnTo>
                    <a:pt x="5195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>
              <a:hlinkClick r:id="" action="ppaction://hlinkshowjump?jump=previousslide"/>
            </p:cNvPr>
            <p:cNvSpPr/>
            <p:nvPr/>
          </p:nvSpPr>
          <p:spPr>
            <a:xfrm>
              <a:off x="7704000" y="6442200"/>
              <a:ext cx="487440" cy="415800"/>
            </a:xfrm>
            <a:custGeom>
              <a:avLst/>
              <a:gdLst>
                <a:gd name="textAreaLeft" fmla="*/ 26640 w 487440"/>
                <a:gd name="textAreaRight" fmla="*/ 460800 w 48744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5318" h="21600">
                  <a:moveTo>
                    <a:pt x="0" y="0"/>
                  </a:moveTo>
                  <a:lnTo>
                    <a:pt x="25318" y="0"/>
                  </a:lnTo>
                  <a:lnTo>
                    <a:pt x="25318" y="21600"/>
                  </a:lnTo>
                  <a:lnTo>
                    <a:pt x="0" y="21600"/>
                  </a:lnTo>
                  <a:close/>
                </a:path>
                <a:path fill="lightenLess" w="25318" h="21600">
                  <a:moveTo>
                    <a:pt x="0" y="0"/>
                  </a:moveTo>
                  <a:lnTo>
                    <a:pt x="25318" y="0"/>
                  </a:lnTo>
                  <a:lnTo>
                    <a:pt x="23918" y="1400"/>
                  </a:lnTo>
                  <a:lnTo>
                    <a:pt x="1400" y="1400"/>
                  </a:lnTo>
                  <a:close/>
                </a:path>
                <a:path fill="darken" w="25318" h="21600">
                  <a:moveTo>
                    <a:pt x="25318" y="0"/>
                  </a:moveTo>
                  <a:lnTo>
                    <a:pt x="25318" y="21600"/>
                  </a:lnTo>
                  <a:lnTo>
                    <a:pt x="23918" y="20200"/>
                  </a:lnTo>
                  <a:lnTo>
                    <a:pt x="23918" y="1400"/>
                  </a:lnTo>
                  <a:close/>
                </a:path>
                <a:path fill="darkenLess" w="25318" h="21600">
                  <a:moveTo>
                    <a:pt x="2531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918" y="20200"/>
                  </a:lnTo>
                  <a:close/>
                </a:path>
                <a:path fill="lighten" w="2531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318" h="21600">
                  <a:moveTo>
                    <a:pt x="5653" y="10800"/>
                  </a:moveTo>
                  <a:lnTo>
                    <a:pt x="19666" y="3794"/>
                  </a:lnTo>
                  <a:lnTo>
                    <a:pt x="19666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88200" y="6440400"/>
              <a:ext cx="484200" cy="417600"/>
            </a:xfrm>
            <a:custGeom>
              <a:avLst/>
              <a:gdLst>
                <a:gd name="textAreaLeft" fmla="*/ 27000 w 484200"/>
                <a:gd name="textAreaRight" fmla="*/ 457200 w 484200"/>
                <a:gd name="textAreaTop" fmla="*/ 27000 h 417600"/>
                <a:gd name="textAreaBottom" fmla="*/ 390600 h 417600"/>
              </a:gdLst>
              <a:ahLst/>
              <a:rect l="textAreaLeft" t="textAreaTop" r="textAreaRight" b="textAreaBottom"/>
              <a:pathLst>
                <a:path w="25042" h="21600">
                  <a:moveTo>
                    <a:pt x="0" y="0"/>
                  </a:moveTo>
                  <a:lnTo>
                    <a:pt x="25042" y="0"/>
                  </a:lnTo>
                  <a:lnTo>
                    <a:pt x="25042" y="21600"/>
                  </a:lnTo>
                  <a:lnTo>
                    <a:pt x="0" y="21600"/>
                  </a:lnTo>
                  <a:close/>
                </a:path>
                <a:path fill="lightenLess" w="25042" h="21600">
                  <a:moveTo>
                    <a:pt x="0" y="0"/>
                  </a:moveTo>
                  <a:lnTo>
                    <a:pt x="25042" y="0"/>
                  </a:lnTo>
                  <a:lnTo>
                    <a:pt x="23642" y="1400"/>
                  </a:lnTo>
                  <a:lnTo>
                    <a:pt x="1400" y="1400"/>
                  </a:lnTo>
                  <a:close/>
                </a:path>
                <a:path fill="darken" w="25042" h="21600">
                  <a:moveTo>
                    <a:pt x="25042" y="0"/>
                  </a:moveTo>
                  <a:lnTo>
                    <a:pt x="25042" y="21600"/>
                  </a:lnTo>
                  <a:lnTo>
                    <a:pt x="23642" y="20200"/>
                  </a:lnTo>
                  <a:lnTo>
                    <a:pt x="23642" y="1400"/>
                  </a:lnTo>
                  <a:close/>
                </a:path>
                <a:path fill="darkenLess" w="25042" h="21600">
                  <a:moveTo>
                    <a:pt x="25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642" y="20200"/>
                  </a:lnTo>
                  <a:close/>
                </a:path>
                <a:path fill="lighten" w="25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042" h="21600">
                  <a:moveTo>
                    <a:pt x="12521" y="3837"/>
                  </a:moveTo>
                  <a:lnTo>
                    <a:pt x="15097" y="6448"/>
                  </a:ln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lnTo>
                    <a:pt x="19484" y="10800"/>
                  </a:lnTo>
                  <a:lnTo>
                    <a:pt x="17830" y="10800"/>
                  </a:lnTo>
                  <a:lnTo>
                    <a:pt x="17830" y="17989"/>
                  </a:lnTo>
                  <a:lnTo>
                    <a:pt x="7212" y="17989"/>
                  </a:lnTo>
                  <a:lnTo>
                    <a:pt x="7212" y="10800"/>
                  </a:lnTo>
                  <a:lnTo>
                    <a:pt x="5558" y="10800"/>
                  </a:lnTo>
                  <a:close/>
                </a:path>
                <a:path fill="darkenLess" w="25042" h="21600">
                  <a:moveTo>
                    <a:pt x="15097" y="6448"/>
                  </a:move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close/>
                </a:path>
                <a:path fill="darkenLess" w="25042" h="21600">
                  <a:moveTo>
                    <a:pt x="11598" y="14299"/>
                  </a:moveTo>
                  <a:lnTo>
                    <a:pt x="13444" y="14299"/>
                  </a:lnTo>
                  <a:lnTo>
                    <a:pt x="13444" y="17989"/>
                  </a:lnTo>
                  <a:lnTo>
                    <a:pt x="17830" y="17989"/>
                  </a:lnTo>
                  <a:lnTo>
                    <a:pt x="17830" y="10800"/>
                  </a:lnTo>
                  <a:lnTo>
                    <a:pt x="7212" y="10800"/>
                  </a:lnTo>
                  <a:lnTo>
                    <a:pt x="7212" y="17989"/>
                  </a:lnTo>
                  <a:lnTo>
                    <a:pt x="11598" y="1798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06640" y="274680"/>
            <a:ext cx="554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Comic Sans MS"/>
              </a:rPr>
              <a:t>Принцип действия холодиль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6520" y="650880"/>
            <a:ext cx="6537240" cy="60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Comic Sans MS"/>
              </a:rPr>
              <a:t>Теоретической основой, на которой построен принцип работы холодильников, является второе начало термодинамики. Охлаждающий газ в холодильниках совершает так называемый </a:t>
            </a:r>
            <a:r>
              <a:rPr b="0" i="1" lang="en-US" sz="1400" spc="-1" strike="noStrike">
                <a:solidFill>
                  <a:srgbClr val="bbe0e3"/>
                </a:solidFill>
                <a:latin typeface="Comic Sans MS"/>
              </a:rPr>
              <a:t>обратный цикл Карно</a:t>
            </a:r>
            <a:r>
              <a:rPr b="0" lang="en-US" sz="1400" spc="-1" strike="noStrike">
                <a:solidFill>
                  <a:srgbClr val="bbe0e3"/>
                </a:solidFill>
                <a:latin typeface="Comic Sans MS"/>
              </a:rPr>
              <a:t>. При этом основная передача тепла основана не на цикле Карно, а на фазовых переходах - испарении и конденсац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Comic Sans MS"/>
              </a:rPr>
              <a:t>Основными составляющими частями холодильника являю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Comic Sans MS"/>
              </a:rPr>
              <a:t>компрессор, получающий энергию от электрической сет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Comic Sans MS"/>
              </a:rPr>
              <a:t>конденсатор, находящийся снаружи холодильн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Comic Sans MS"/>
              </a:rPr>
              <a:t>испаритель, находящийся внутри холодильн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Comic Sans MS"/>
              </a:rPr>
              <a:t>терморегулятор, являющийся управляющим устройство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bbe0e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Comic Sans MS"/>
              </a:rPr>
              <a:t>хладагент, циркулирующий в системе газ с определёнными физическими характеристиками (наиболее известным хладагентом является фреон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Comic Sans MS"/>
              </a:rPr>
              <a:t>Хладагент под давлением через капиллярное отверстие (дроссель) поступает в испаритель, где за счёт резкого уменьшения давления происходит испарение. При этом хладагент отнимает тепло у внутренних стенок испарителя, за счёт чего происходит охлаждение внутреннего пространства холодильни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Comic Sans MS"/>
              </a:rPr>
              <a:t>Компрессор засасывает из испарителя хладагент, сжимает его, за счёт чего температура хладагента повышается и выталкивает в конденсат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Comic Sans MS"/>
              </a:rPr>
              <a:t>В конденсаторе, нагретый в результате сжатия хладагент остывает, отдавая тепло во внешнюю среду, и конденсируется. Процесс повторяется вно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Comic Sans MS"/>
              </a:rPr>
              <a:t>При достижении необходимой температуры терморегулятор размыкает электрическую цепь и компрессор останавливается. При повышении температуры (за счёт внешних факторов) терморегулятор вновь включает компрессо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762600" y="1635120"/>
            <a:ext cx="2381400" cy="13906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197840" y="3294000"/>
            <a:ext cx="176832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1.Конденс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2.Капилля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3.Испар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4.Компресс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7704000" y="6440400"/>
            <a:ext cx="1440000" cy="417600"/>
            <a:chOff x="7704000" y="6440400"/>
            <a:chExt cx="1440000" cy="417600"/>
          </a:xfrm>
        </p:grpSpPr>
        <p:sp>
          <p:nvSpPr>
            <p:cNvPr id="83" name="">
              <a:hlinkClick r:id="" action="ppaction://hlinkshowjump?jump=nextslide"/>
            </p:cNvPr>
            <p:cNvSpPr/>
            <p:nvPr/>
          </p:nvSpPr>
          <p:spPr>
            <a:xfrm>
              <a:off x="8674200" y="6442200"/>
              <a:ext cx="469800" cy="415800"/>
            </a:xfrm>
            <a:custGeom>
              <a:avLst/>
              <a:gdLst>
                <a:gd name="textAreaLeft" fmla="*/ 26640 w 469800"/>
                <a:gd name="textAreaRight" fmla="*/ 443160 w 46980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4403" h="21600">
                  <a:moveTo>
                    <a:pt x="0" y="0"/>
                  </a:moveTo>
                  <a:lnTo>
                    <a:pt x="24403" y="0"/>
                  </a:lnTo>
                  <a:lnTo>
                    <a:pt x="24403" y="21600"/>
                  </a:lnTo>
                  <a:lnTo>
                    <a:pt x="0" y="21600"/>
                  </a:lnTo>
                  <a:close/>
                </a:path>
                <a:path fill="lightenLess" w="24403" h="21600">
                  <a:moveTo>
                    <a:pt x="0" y="0"/>
                  </a:moveTo>
                  <a:lnTo>
                    <a:pt x="24403" y="0"/>
                  </a:lnTo>
                  <a:lnTo>
                    <a:pt x="23003" y="1400"/>
                  </a:lnTo>
                  <a:lnTo>
                    <a:pt x="1400" y="1400"/>
                  </a:lnTo>
                  <a:close/>
                </a:path>
                <a:path fill="darken" w="24403" h="21600">
                  <a:moveTo>
                    <a:pt x="24403" y="0"/>
                  </a:moveTo>
                  <a:lnTo>
                    <a:pt x="24403" y="21600"/>
                  </a:lnTo>
                  <a:lnTo>
                    <a:pt x="23003" y="20200"/>
                  </a:lnTo>
                  <a:lnTo>
                    <a:pt x="23003" y="1400"/>
                  </a:lnTo>
                  <a:close/>
                </a:path>
                <a:path fill="darkenLess" w="24403" h="21600">
                  <a:moveTo>
                    <a:pt x="244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003" y="20200"/>
                  </a:lnTo>
                  <a:close/>
                </a:path>
                <a:path fill="lighten" w="244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403" h="21600">
                  <a:moveTo>
                    <a:pt x="5195" y="3794"/>
                  </a:moveTo>
                  <a:lnTo>
                    <a:pt x="19208" y="10800"/>
                  </a:lnTo>
                  <a:lnTo>
                    <a:pt x="5195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>
              <a:hlinkClick r:id="" action="ppaction://hlinkshowjump?jump=previousslide"/>
            </p:cNvPr>
            <p:cNvSpPr/>
            <p:nvPr/>
          </p:nvSpPr>
          <p:spPr>
            <a:xfrm>
              <a:off x="7704000" y="6442200"/>
              <a:ext cx="487440" cy="415800"/>
            </a:xfrm>
            <a:custGeom>
              <a:avLst/>
              <a:gdLst>
                <a:gd name="textAreaLeft" fmla="*/ 26640 w 487440"/>
                <a:gd name="textAreaRight" fmla="*/ 460800 w 48744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5318" h="21600">
                  <a:moveTo>
                    <a:pt x="0" y="0"/>
                  </a:moveTo>
                  <a:lnTo>
                    <a:pt x="25318" y="0"/>
                  </a:lnTo>
                  <a:lnTo>
                    <a:pt x="25318" y="21600"/>
                  </a:lnTo>
                  <a:lnTo>
                    <a:pt x="0" y="21600"/>
                  </a:lnTo>
                  <a:close/>
                </a:path>
                <a:path fill="lightenLess" w="25318" h="21600">
                  <a:moveTo>
                    <a:pt x="0" y="0"/>
                  </a:moveTo>
                  <a:lnTo>
                    <a:pt x="25318" y="0"/>
                  </a:lnTo>
                  <a:lnTo>
                    <a:pt x="23918" y="1400"/>
                  </a:lnTo>
                  <a:lnTo>
                    <a:pt x="1400" y="1400"/>
                  </a:lnTo>
                  <a:close/>
                </a:path>
                <a:path fill="darken" w="25318" h="21600">
                  <a:moveTo>
                    <a:pt x="25318" y="0"/>
                  </a:moveTo>
                  <a:lnTo>
                    <a:pt x="25318" y="21600"/>
                  </a:lnTo>
                  <a:lnTo>
                    <a:pt x="23918" y="20200"/>
                  </a:lnTo>
                  <a:lnTo>
                    <a:pt x="23918" y="1400"/>
                  </a:lnTo>
                  <a:close/>
                </a:path>
                <a:path fill="darkenLess" w="25318" h="21600">
                  <a:moveTo>
                    <a:pt x="2531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918" y="20200"/>
                  </a:lnTo>
                  <a:close/>
                </a:path>
                <a:path fill="lighten" w="2531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318" h="21600">
                  <a:moveTo>
                    <a:pt x="5653" y="10800"/>
                  </a:moveTo>
                  <a:lnTo>
                    <a:pt x="19666" y="3794"/>
                  </a:lnTo>
                  <a:lnTo>
                    <a:pt x="19666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88200" y="6440400"/>
              <a:ext cx="484200" cy="417600"/>
            </a:xfrm>
            <a:custGeom>
              <a:avLst/>
              <a:gdLst>
                <a:gd name="textAreaLeft" fmla="*/ 27000 w 484200"/>
                <a:gd name="textAreaRight" fmla="*/ 457200 w 484200"/>
                <a:gd name="textAreaTop" fmla="*/ 27000 h 417600"/>
                <a:gd name="textAreaBottom" fmla="*/ 390600 h 417600"/>
              </a:gdLst>
              <a:ahLst/>
              <a:rect l="textAreaLeft" t="textAreaTop" r="textAreaRight" b="textAreaBottom"/>
              <a:pathLst>
                <a:path w="25042" h="21600">
                  <a:moveTo>
                    <a:pt x="0" y="0"/>
                  </a:moveTo>
                  <a:lnTo>
                    <a:pt x="25042" y="0"/>
                  </a:lnTo>
                  <a:lnTo>
                    <a:pt x="25042" y="21600"/>
                  </a:lnTo>
                  <a:lnTo>
                    <a:pt x="0" y="21600"/>
                  </a:lnTo>
                  <a:close/>
                </a:path>
                <a:path fill="lightenLess" w="25042" h="21600">
                  <a:moveTo>
                    <a:pt x="0" y="0"/>
                  </a:moveTo>
                  <a:lnTo>
                    <a:pt x="25042" y="0"/>
                  </a:lnTo>
                  <a:lnTo>
                    <a:pt x="23642" y="1400"/>
                  </a:lnTo>
                  <a:lnTo>
                    <a:pt x="1400" y="1400"/>
                  </a:lnTo>
                  <a:close/>
                </a:path>
                <a:path fill="darken" w="25042" h="21600">
                  <a:moveTo>
                    <a:pt x="25042" y="0"/>
                  </a:moveTo>
                  <a:lnTo>
                    <a:pt x="25042" y="21600"/>
                  </a:lnTo>
                  <a:lnTo>
                    <a:pt x="23642" y="20200"/>
                  </a:lnTo>
                  <a:lnTo>
                    <a:pt x="23642" y="1400"/>
                  </a:lnTo>
                  <a:close/>
                </a:path>
                <a:path fill="darkenLess" w="25042" h="21600">
                  <a:moveTo>
                    <a:pt x="25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642" y="20200"/>
                  </a:lnTo>
                  <a:close/>
                </a:path>
                <a:path fill="lighten" w="25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042" h="21600">
                  <a:moveTo>
                    <a:pt x="12521" y="3837"/>
                  </a:moveTo>
                  <a:lnTo>
                    <a:pt x="15097" y="6448"/>
                  </a:ln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lnTo>
                    <a:pt x="19484" y="10800"/>
                  </a:lnTo>
                  <a:lnTo>
                    <a:pt x="17830" y="10800"/>
                  </a:lnTo>
                  <a:lnTo>
                    <a:pt x="17830" y="17989"/>
                  </a:lnTo>
                  <a:lnTo>
                    <a:pt x="7212" y="17989"/>
                  </a:lnTo>
                  <a:lnTo>
                    <a:pt x="7212" y="10800"/>
                  </a:lnTo>
                  <a:lnTo>
                    <a:pt x="5558" y="10800"/>
                  </a:lnTo>
                  <a:close/>
                </a:path>
                <a:path fill="darkenLess" w="25042" h="21600">
                  <a:moveTo>
                    <a:pt x="15097" y="6448"/>
                  </a:move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close/>
                </a:path>
                <a:path fill="darkenLess" w="25042" h="21600">
                  <a:moveTo>
                    <a:pt x="11598" y="14299"/>
                  </a:moveTo>
                  <a:lnTo>
                    <a:pt x="13444" y="14299"/>
                  </a:lnTo>
                  <a:lnTo>
                    <a:pt x="13444" y="17989"/>
                  </a:lnTo>
                  <a:lnTo>
                    <a:pt x="17830" y="17989"/>
                  </a:lnTo>
                  <a:lnTo>
                    <a:pt x="17830" y="10800"/>
                  </a:lnTo>
                  <a:lnTo>
                    <a:pt x="7212" y="10800"/>
                  </a:lnTo>
                  <a:lnTo>
                    <a:pt x="7212" y="17989"/>
                  </a:lnTo>
                  <a:lnTo>
                    <a:pt x="11598" y="1798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6040" y="1140480"/>
            <a:ext cx="769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Comic Sans MS"/>
              </a:rPr>
              <a:t>Микроволновая печь</a:t>
            </a:r>
            <a:r>
              <a:rPr b="0" lang="en-US" sz="1600" spc="-1" strike="noStrike">
                <a:solidFill>
                  <a:srgbClr val="333399"/>
                </a:solidFill>
                <a:latin typeface="Comic Sans MS"/>
              </a:rPr>
              <a:t> — бытовой электроприбор, предназначенный для быстрого приготовления или быстрого подогрева пищи, а также для размораживания продуктов. В отличие от других устройств (например, духовки или русской печи) разогрев продуктов в микроволновой печи происходит не на поверхности, а по всему объёму. Это существенно сокращает время приготовления</a:t>
            </a:r>
            <a:r>
              <a:rPr b="0" lang="en-US" sz="1600" spc="-1" strike="noStrike">
                <a:solidFill>
                  <a:srgbClr val="80808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2040" y="3308040"/>
            <a:ext cx="47008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Comic Sans MS"/>
              </a:rPr>
              <a:t>Американский инженер </a:t>
            </a:r>
            <a:r>
              <a:rPr b="1" lang="ru-RU" sz="1400" spc="-1" strike="noStrike">
                <a:solidFill>
                  <a:srgbClr val="333399"/>
                </a:solidFill>
                <a:latin typeface="Comic Sans MS"/>
              </a:rPr>
              <a:t>Перси Спенсер</a:t>
            </a:r>
            <a:r>
              <a:rPr b="0" lang="ru-RU" sz="1400" spc="-1" strike="noStrike">
                <a:solidFill>
                  <a:srgbClr val="333399"/>
                </a:solidFill>
                <a:latin typeface="Comic Sans MS"/>
              </a:rPr>
              <a:t> впервые заметил способность сверхвысокочастотного излучения к нагреванию продуктов и запатентовал микроволновую печь. Спенсер работал в момент изобретения в компании Райтеон (</a:t>
            </a:r>
            <a:r>
              <a:rPr b="0" lang="en" sz="1400" spc="-1" strike="noStrike">
                <a:solidFill>
                  <a:srgbClr val="333399"/>
                </a:solidFill>
                <a:latin typeface="Comic Sans MS"/>
              </a:rPr>
              <a:t>Raytheon</a:t>
            </a:r>
            <a:r>
              <a:rPr b="0" lang="ru-RU" sz="1400" spc="-1" strike="noStrike">
                <a:solidFill>
                  <a:srgbClr val="333399"/>
                </a:solidFill>
                <a:latin typeface="Comic Sans MS"/>
              </a:rPr>
              <a:t>), занимающейся изготовлением оборудования для радаров. По легенде, когда он проводил эксперименты с очередным магнетроном, Спенсер заметил, что кусок шоколада в его кармане расплавился. По другой версии, он заметил, что нагрелся бутерброд, положенный на включённый магнетро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86240" y="212760"/>
            <a:ext cx="41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Микроволновая пе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6240" y="3465360"/>
            <a:ext cx="3323880" cy="2492640"/>
          </a:xfrm>
          <a:prstGeom prst="rect">
            <a:avLst/>
          </a:prstGeom>
          <a:ln w="0">
            <a:noFill/>
          </a:ln>
        </p:spPr>
      </p:pic>
      <p:grpSp>
        <p:nvGrpSpPr>
          <p:cNvPr id="90" name=""/>
          <p:cNvGrpSpPr/>
          <p:nvPr/>
        </p:nvGrpSpPr>
        <p:grpSpPr>
          <a:xfrm>
            <a:off x="7704000" y="6440400"/>
            <a:ext cx="1440000" cy="417600"/>
            <a:chOff x="7704000" y="6440400"/>
            <a:chExt cx="1440000" cy="417600"/>
          </a:xfrm>
        </p:grpSpPr>
        <p:sp>
          <p:nvSpPr>
            <p:cNvPr id="91" name="">
              <a:hlinkClick r:id="" action="ppaction://hlinkshowjump?jump=nextslide"/>
            </p:cNvPr>
            <p:cNvSpPr/>
            <p:nvPr/>
          </p:nvSpPr>
          <p:spPr>
            <a:xfrm>
              <a:off x="8674200" y="6442200"/>
              <a:ext cx="469800" cy="415800"/>
            </a:xfrm>
            <a:custGeom>
              <a:avLst/>
              <a:gdLst>
                <a:gd name="textAreaLeft" fmla="*/ 26640 w 469800"/>
                <a:gd name="textAreaRight" fmla="*/ 443160 w 46980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4403" h="21600">
                  <a:moveTo>
                    <a:pt x="0" y="0"/>
                  </a:moveTo>
                  <a:lnTo>
                    <a:pt x="24403" y="0"/>
                  </a:lnTo>
                  <a:lnTo>
                    <a:pt x="24403" y="21600"/>
                  </a:lnTo>
                  <a:lnTo>
                    <a:pt x="0" y="21600"/>
                  </a:lnTo>
                  <a:close/>
                </a:path>
                <a:path fill="lightenLess" w="24403" h="21600">
                  <a:moveTo>
                    <a:pt x="0" y="0"/>
                  </a:moveTo>
                  <a:lnTo>
                    <a:pt x="24403" y="0"/>
                  </a:lnTo>
                  <a:lnTo>
                    <a:pt x="23003" y="1400"/>
                  </a:lnTo>
                  <a:lnTo>
                    <a:pt x="1400" y="1400"/>
                  </a:lnTo>
                  <a:close/>
                </a:path>
                <a:path fill="darken" w="24403" h="21600">
                  <a:moveTo>
                    <a:pt x="24403" y="0"/>
                  </a:moveTo>
                  <a:lnTo>
                    <a:pt x="24403" y="21600"/>
                  </a:lnTo>
                  <a:lnTo>
                    <a:pt x="23003" y="20200"/>
                  </a:lnTo>
                  <a:lnTo>
                    <a:pt x="23003" y="1400"/>
                  </a:lnTo>
                  <a:close/>
                </a:path>
                <a:path fill="darkenLess" w="24403" h="21600">
                  <a:moveTo>
                    <a:pt x="244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003" y="20200"/>
                  </a:lnTo>
                  <a:close/>
                </a:path>
                <a:path fill="lighten" w="244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403" h="21600">
                  <a:moveTo>
                    <a:pt x="5195" y="3794"/>
                  </a:moveTo>
                  <a:lnTo>
                    <a:pt x="19208" y="10800"/>
                  </a:lnTo>
                  <a:lnTo>
                    <a:pt x="5195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>
              <a:hlinkClick r:id="" action="ppaction://hlinkshowjump?jump=previousslide"/>
            </p:cNvPr>
            <p:cNvSpPr/>
            <p:nvPr/>
          </p:nvSpPr>
          <p:spPr>
            <a:xfrm>
              <a:off x="7704000" y="6442200"/>
              <a:ext cx="487440" cy="415800"/>
            </a:xfrm>
            <a:custGeom>
              <a:avLst/>
              <a:gdLst>
                <a:gd name="textAreaLeft" fmla="*/ 26640 w 487440"/>
                <a:gd name="textAreaRight" fmla="*/ 460800 w 48744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5318" h="21600">
                  <a:moveTo>
                    <a:pt x="0" y="0"/>
                  </a:moveTo>
                  <a:lnTo>
                    <a:pt x="25318" y="0"/>
                  </a:lnTo>
                  <a:lnTo>
                    <a:pt x="25318" y="21600"/>
                  </a:lnTo>
                  <a:lnTo>
                    <a:pt x="0" y="21600"/>
                  </a:lnTo>
                  <a:close/>
                </a:path>
                <a:path fill="lightenLess" w="25318" h="21600">
                  <a:moveTo>
                    <a:pt x="0" y="0"/>
                  </a:moveTo>
                  <a:lnTo>
                    <a:pt x="25318" y="0"/>
                  </a:lnTo>
                  <a:lnTo>
                    <a:pt x="23918" y="1400"/>
                  </a:lnTo>
                  <a:lnTo>
                    <a:pt x="1400" y="1400"/>
                  </a:lnTo>
                  <a:close/>
                </a:path>
                <a:path fill="darken" w="25318" h="21600">
                  <a:moveTo>
                    <a:pt x="25318" y="0"/>
                  </a:moveTo>
                  <a:lnTo>
                    <a:pt x="25318" y="21600"/>
                  </a:lnTo>
                  <a:lnTo>
                    <a:pt x="23918" y="20200"/>
                  </a:lnTo>
                  <a:lnTo>
                    <a:pt x="23918" y="1400"/>
                  </a:lnTo>
                  <a:close/>
                </a:path>
                <a:path fill="darkenLess" w="25318" h="21600">
                  <a:moveTo>
                    <a:pt x="2531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918" y="20200"/>
                  </a:lnTo>
                  <a:close/>
                </a:path>
                <a:path fill="lighten" w="2531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318" h="21600">
                  <a:moveTo>
                    <a:pt x="5653" y="10800"/>
                  </a:moveTo>
                  <a:lnTo>
                    <a:pt x="19666" y="3794"/>
                  </a:lnTo>
                  <a:lnTo>
                    <a:pt x="19666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188200" y="6440400"/>
              <a:ext cx="484200" cy="417600"/>
            </a:xfrm>
            <a:custGeom>
              <a:avLst/>
              <a:gdLst>
                <a:gd name="textAreaLeft" fmla="*/ 27000 w 484200"/>
                <a:gd name="textAreaRight" fmla="*/ 457200 w 484200"/>
                <a:gd name="textAreaTop" fmla="*/ 27000 h 417600"/>
                <a:gd name="textAreaBottom" fmla="*/ 390600 h 417600"/>
              </a:gdLst>
              <a:ahLst/>
              <a:rect l="textAreaLeft" t="textAreaTop" r="textAreaRight" b="textAreaBottom"/>
              <a:pathLst>
                <a:path w="25042" h="21600">
                  <a:moveTo>
                    <a:pt x="0" y="0"/>
                  </a:moveTo>
                  <a:lnTo>
                    <a:pt x="25042" y="0"/>
                  </a:lnTo>
                  <a:lnTo>
                    <a:pt x="25042" y="21600"/>
                  </a:lnTo>
                  <a:lnTo>
                    <a:pt x="0" y="21600"/>
                  </a:lnTo>
                  <a:close/>
                </a:path>
                <a:path fill="lightenLess" w="25042" h="21600">
                  <a:moveTo>
                    <a:pt x="0" y="0"/>
                  </a:moveTo>
                  <a:lnTo>
                    <a:pt x="25042" y="0"/>
                  </a:lnTo>
                  <a:lnTo>
                    <a:pt x="23642" y="1400"/>
                  </a:lnTo>
                  <a:lnTo>
                    <a:pt x="1400" y="1400"/>
                  </a:lnTo>
                  <a:close/>
                </a:path>
                <a:path fill="darken" w="25042" h="21600">
                  <a:moveTo>
                    <a:pt x="25042" y="0"/>
                  </a:moveTo>
                  <a:lnTo>
                    <a:pt x="25042" y="21600"/>
                  </a:lnTo>
                  <a:lnTo>
                    <a:pt x="23642" y="20200"/>
                  </a:lnTo>
                  <a:lnTo>
                    <a:pt x="23642" y="1400"/>
                  </a:lnTo>
                  <a:close/>
                </a:path>
                <a:path fill="darkenLess" w="25042" h="21600">
                  <a:moveTo>
                    <a:pt x="25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642" y="20200"/>
                  </a:lnTo>
                  <a:close/>
                </a:path>
                <a:path fill="lighten" w="25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042" h="21600">
                  <a:moveTo>
                    <a:pt x="12521" y="3837"/>
                  </a:moveTo>
                  <a:lnTo>
                    <a:pt x="15097" y="6448"/>
                  </a:ln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lnTo>
                    <a:pt x="19484" y="10800"/>
                  </a:lnTo>
                  <a:lnTo>
                    <a:pt x="17830" y="10800"/>
                  </a:lnTo>
                  <a:lnTo>
                    <a:pt x="17830" y="17989"/>
                  </a:lnTo>
                  <a:lnTo>
                    <a:pt x="7212" y="17989"/>
                  </a:lnTo>
                  <a:lnTo>
                    <a:pt x="7212" y="10800"/>
                  </a:lnTo>
                  <a:lnTo>
                    <a:pt x="5558" y="10800"/>
                  </a:lnTo>
                  <a:close/>
                </a:path>
                <a:path fill="darkenLess" w="25042" h="21600">
                  <a:moveTo>
                    <a:pt x="15097" y="6448"/>
                  </a:move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close/>
                </a:path>
                <a:path fill="darkenLess" w="25042" h="21600">
                  <a:moveTo>
                    <a:pt x="11598" y="14299"/>
                  </a:moveTo>
                  <a:lnTo>
                    <a:pt x="13444" y="14299"/>
                  </a:lnTo>
                  <a:lnTo>
                    <a:pt x="13444" y="17989"/>
                  </a:lnTo>
                  <a:lnTo>
                    <a:pt x="17830" y="17989"/>
                  </a:lnTo>
                  <a:lnTo>
                    <a:pt x="17830" y="10800"/>
                  </a:lnTo>
                  <a:lnTo>
                    <a:pt x="7212" y="10800"/>
                  </a:lnTo>
                  <a:lnTo>
                    <a:pt x="7212" y="17989"/>
                  </a:lnTo>
                  <a:lnTo>
                    <a:pt x="11598" y="1798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1160" y="203040"/>
            <a:ext cx="8226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Comic Sans MS"/>
              </a:rPr>
              <a:t>Основные компоненты микроволновой пе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bbe0e3"/>
                </a:solidFill>
                <a:latin typeface="Comic Sans MS"/>
              </a:rPr>
              <a:t>источник микровол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Comic Sans MS"/>
              </a:rPr>
              <a:t>магнетр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Comic Sans MS"/>
              </a:rPr>
              <a:t>источник высоковольтного питания магнетро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Comic Sans MS"/>
              </a:rPr>
              <a:t>цепь управле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bbe0e3"/>
                </a:solidFill>
                <a:latin typeface="Comic Sans MS"/>
              </a:rPr>
              <a:t>волновод для передачи микроволн от магнетрона к каме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Comic Sans MS"/>
              </a:rPr>
              <a:t>        </a:t>
            </a:r>
            <a:r>
              <a:rPr b="0" lang="ru-RU" sz="1600" spc="-1" strike="noStrike">
                <a:solidFill>
                  <a:srgbClr val="bbe0e3"/>
                </a:solidFill>
                <a:latin typeface="Comic Sans MS"/>
              </a:rPr>
              <a:t>металлическая камера с металлизированой дверцей.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bbe0e3"/>
                </a:solidFill>
                <a:latin typeface="Comic Sans MS"/>
              </a:rPr>
              <a:t>Вспомогательные элементы</a:t>
            </a:r>
            <a:r>
              <a:rPr b="0" lang="ru-RU" sz="1600" spc="-1" strike="noStrike">
                <a:solidFill>
                  <a:srgbClr val="bbe0e3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Comic Sans MS"/>
              </a:rPr>
              <a:t>вращающийся столик в камер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Comic Sans MS"/>
              </a:rPr>
              <a:t>схемы обеспечивающие безопасность (блокировки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bbe0e3"/>
                </a:solidFill>
                <a:latin typeface="Comic Sans MS"/>
              </a:rPr>
              <a:t>вентилятор, охлаждающий магнетрон и продувающий камеру для удаления газов, образующихся при приготовлении пищ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7800" y="3522600"/>
            <a:ext cx="84362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be0e3"/>
                </a:solidFill>
                <a:latin typeface="Comic Sans MS"/>
              </a:rPr>
              <a:t>Нагревание продуктов в микроволновой печи происходит из-за значительного поглощения микроволнового излучения водой и другими диэлектриками, содержащимися в продуктах. Большое поглощение сверхвысокочастотного излучения водой связано с наличием у молекул воды большого дипольного момента. Это можно себе представить следующим образом: молекула воды, когда к ней приложено электрическое поле, всегда стремится сориентировать себя вдоль поля, подобно тому, как стрелка компаса стремится установиться вдоль магнитного поля Земли. Однако, в поле сверхвысокочастотной электромагнитной волны направление электрического поля меняется с очень высокой частотой (более миллиарда раз в секунду), и молекуле приходится постоянно вращаться. При столкновениях быстро вращающихся молекул часть энергии вращения переходит в энергию поступательного движения, что в конечном итоге приводит к повышению температуры 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Микроволновая печь"/>
          <p:cNvPicPr/>
          <p:nvPr/>
        </p:nvPicPr>
        <p:blipFill>
          <a:blip r:embed="rId1"/>
          <a:srcRect l="7359" t="0" r="0" b="0"/>
          <a:stretch/>
        </p:blipFill>
        <p:spPr>
          <a:xfrm>
            <a:off x="6905520" y="237960"/>
            <a:ext cx="2036880" cy="1654200"/>
          </a:xfrm>
          <a:prstGeom prst="rect">
            <a:avLst/>
          </a:prstGeom>
          <a:ln w="0">
            <a:noFill/>
          </a:ln>
        </p:spPr>
      </p:pic>
      <p:grpSp>
        <p:nvGrpSpPr>
          <p:cNvPr id="97" name=""/>
          <p:cNvGrpSpPr/>
          <p:nvPr/>
        </p:nvGrpSpPr>
        <p:grpSpPr>
          <a:xfrm>
            <a:off x="7704000" y="6440400"/>
            <a:ext cx="1440000" cy="417600"/>
            <a:chOff x="7704000" y="6440400"/>
            <a:chExt cx="1440000" cy="417600"/>
          </a:xfrm>
        </p:grpSpPr>
        <p:sp>
          <p:nvSpPr>
            <p:cNvPr id="98" name="">
              <a:hlinkClick r:id="" action="ppaction://hlinkshowjump?jump=nextslide"/>
            </p:cNvPr>
            <p:cNvSpPr/>
            <p:nvPr/>
          </p:nvSpPr>
          <p:spPr>
            <a:xfrm>
              <a:off x="8674200" y="6442200"/>
              <a:ext cx="469800" cy="415800"/>
            </a:xfrm>
            <a:custGeom>
              <a:avLst/>
              <a:gdLst>
                <a:gd name="textAreaLeft" fmla="*/ 26640 w 469800"/>
                <a:gd name="textAreaRight" fmla="*/ 443160 w 46980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4403" h="21600">
                  <a:moveTo>
                    <a:pt x="0" y="0"/>
                  </a:moveTo>
                  <a:lnTo>
                    <a:pt x="24403" y="0"/>
                  </a:lnTo>
                  <a:lnTo>
                    <a:pt x="24403" y="21600"/>
                  </a:lnTo>
                  <a:lnTo>
                    <a:pt x="0" y="21600"/>
                  </a:lnTo>
                  <a:close/>
                </a:path>
                <a:path fill="lightenLess" w="24403" h="21600">
                  <a:moveTo>
                    <a:pt x="0" y="0"/>
                  </a:moveTo>
                  <a:lnTo>
                    <a:pt x="24403" y="0"/>
                  </a:lnTo>
                  <a:lnTo>
                    <a:pt x="23003" y="1400"/>
                  </a:lnTo>
                  <a:lnTo>
                    <a:pt x="1400" y="1400"/>
                  </a:lnTo>
                  <a:close/>
                </a:path>
                <a:path fill="darken" w="24403" h="21600">
                  <a:moveTo>
                    <a:pt x="24403" y="0"/>
                  </a:moveTo>
                  <a:lnTo>
                    <a:pt x="24403" y="21600"/>
                  </a:lnTo>
                  <a:lnTo>
                    <a:pt x="23003" y="20200"/>
                  </a:lnTo>
                  <a:lnTo>
                    <a:pt x="23003" y="1400"/>
                  </a:lnTo>
                  <a:close/>
                </a:path>
                <a:path fill="darkenLess" w="24403" h="21600">
                  <a:moveTo>
                    <a:pt x="244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003" y="20200"/>
                  </a:lnTo>
                  <a:close/>
                </a:path>
                <a:path fill="lighten" w="244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403" h="21600">
                  <a:moveTo>
                    <a:pt x="5195" y="3794"/>
                  </a:moveTo>
                  <a:lnTo>
                    <a:pt x="19208" y="10800"/>
                  </a:lnTo>
                  <a:lnTo>
                    <a:pt x="5195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>
              <a:hlinkClick r:id="" action="ppaction://hlinkshowjump?jump=previousslide"/>
            </p:cNvPr>
            <p:cNvSpPr/>
            <p:nvPr/>
          </p:nvSpPr>
          <p:spPr>
            <a:xfrm>
              <a:off x="7704000" y="6442200"/>
              <a:ext cx="487440" cy="415800"/>
            </a:xfrm>
            <a:custGeom>
              <a:avLst/>
              <a:gdLst>
                <a:gd name="textAreaLeft" fmla="*/ 26640 w 487440"/>
                <a:gd name="textAreaRight" fmla="*/ 460800 w 48744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5318" h="21600">
                  <a:moveTo>
                    <a:pt x="0" y="0"/>
                  </a:moveTo>
                  <a:lnTo>
                    <a:pt x="25318" y="0"/>
                  </a:lnTo>
                  <a:lnTo>
                    <a:pt x="25318" y="21600"/>
                  </a:lnTo>
                  <a:lnTo>
                    <a:pt x="0" y="21600"/>
                  </a:lnTo>
                  <a:close/>
                </a:path>
                <a:path fill="lightenLess" w="25318" h="21600">
                  <a:moveTo>
                    <a:pt x="0" y="0"/>
                  </a:moveTo>
                  <a:lnTo>
                    <a:pt x="25318" y="0"/>
                  </a:lnTo>
                  <a:lnTo>
                    <a:pt x="23918" y="1400"/>
                  </a:lnTo>
                  <a:lnTo>
                    <a:pt x="1400" y="1400"/>
                  </a:lnTo>
                  <a:close/>
                </a:path>
                <a:path fill="darken" w="25318" h="21600">
                  <a:moveTo>
                    <a:pt x="25318" y="0"/>
                  </a:moveTo>
                  <a:lnTo>
                    <a:pt x="25318" y="21600"/>
                  </a:lnTo>
                  <a:lnTo>
                    <a:pt x="23918" y="20200"/>
                  </a:lnTo>
                  <a:lnTo>
                    <a:pt x="23918" y="1400"/>
                  </a:lnTo>
                  <a:close/>
                </a:path>
                <a:path fill="darkenLess" w="25318" h="21600">
                  <a:moveTo>
                    <a:pt x="2531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918" y="20200"/>
                  </a:lnTo>
                  <a:close/>
                </a:path>
                <a:path fill="lighten" w="2531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318" h="21600">
                  <a:moveTo>
                    <a:pt x="5653" y="10800"/>
                  </a:moveTo>
                  <a:lnTo>
                    <a:pt x="19666" y="3794"/>
                  </a:lnTo>
                  <a:lnTo>
                    <a:pt x="19666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188200" y="6440400"/>
              <a:ext cx="484200" cy="417600"/>
            </a:xfrm>
            <a:custGeom>
              <a:avLst/>
              <a:gdLst>
                <a:gd name="textAreaLeft" fmla="*/ 27000 w 484200"/>
                <a:gd name="textAreaRight" fmla="*/ 457200 w 484200"/>
                <a:gd name="textAreaTop" fmla="*/ 27000 h 417600"/>
                <a:gd name="textAreaBottom" fmla="*/ 390600 h 417600"/>
              </a:gdLst>
              <a:ahLst/>
              <a:rect l="textAreaLeft" t="textAreaTop" r="textAreaRight" b="textAreaBottom"/>
              <a:pathLst>
                <a:path w="25042" h="21600">
                  <a:moveTo>
                    <a:pt x="0" y="0"/>
                  </a:moveTo>
                  <a:lnTo>
                    <a:pt x="25042" y="0"/>
                  </a:lnTo>
                  <a:lnTo>
                    <a:pt x="25042" y="21600"/>
                  </a:lnTo>
                  <a:lnTo>
                    <a:pt x="0" y="21600"/>
                  </a:lnTo>
                  <a:close/>
                </a:path>
                <a:path fill="lightenLess" w="25042" h="21600">
                  <a:moveTo>
                    <a:pt x="0" y="0"/>
                  </a:moveTo>
                  <a:lnTo>
                    <a:pt x="25042" y="0"/>
                  </a:lnTo>
                  <a:lnTo>
                    <a:pt x="23642" y="1400"/>
                  </a:lnTo>
                  <a:lnTo>
                    <a:pt x="1400" y="1400"/>
                  </a:lnTo>
                  <a:close/>
                </a:path>
                <a:path fill="darken" w="25042" h="21600">
                  <a:moveTo>
                    <a:pt x="25042" y="0"/>
                  </a:moveTo>
                  <a:lnTo>
                    <a:pt x="25042" y="21600"/>
                  </a:lnTo>
                  <a:lnTo>
                    <a:pt x="23642" y="20200"/>
                  </a:lnTo>
                  <a:lnTo>
                    <a:pt x="23642" y="1400"/>
                  </a:lnTo>
                  <a:close/>
                </a:path>
                <a:path fill="darkenLess" w="25042" h="21600">
                  <a:moveTo>
                    <a:pt x="25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642" y="20200"/>
                  </a:lnTo>
                  <a:close/>
                </a:path>
                <a:path fill="lighten" w="25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042" h="21600">
                  <a:moveTo>
                    <a:pt x="12521" y="3837"/>
                  </a:moveTo>
                  <a:lnTo>
                    <a:pt x="15097" y="6448"/>
                  </a:ln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lnTo>
                    <a:pt x="19484" y="10800"/>
                  </a:lnTo>
                  <a:lnTo>
                    <a:pt x="17830" y="10800"/>
                  </a:lnTo>
                  <a:lnTo>
                    <a:pt x="17830" y="17989"/>
                  </a:lnTo>
                  <a:lnTo>
                    <a:pt x="7212" y="17989"/>
                  </a:lnTo>
                  <a:lnTo>
                    <a:pt x="7212" y="10800"/>
                  </a:lnTo>
                  <a:lnTo>
                    <a:pt x="5558" y="10800"/>
                  </a:lnTo>
                  <a:close/>
                </a:path>
                <a:path fill="darkenLess" w="25042" h="21600">
                  <a:moveTo>
                    <a:pt x="15097" y="6448"/>
                  </a:move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close/>
                </a:path>
                <a:path fill="darkenLess" w="25042" h="21600">
                  <a:moveTo>
                    <a:pt x="11598" y="14299"/>
                  </a:moveTo>
                  <a:lnTo>
                    <a:pt x="13444" y="14299"/>
                  </a:lnTo>
                  <a:lnTo>
                    <a:pt x="13444" y="17989"/>
                  </a:lnTo>
                  <a:lnTo>
                    <a:pt x="17830" y="17989"/>
                  </a:lnTo>
                  <a:lnTo>
                    <a:pt x="17830" y="10800"/>
                  </a:lnTo>
                  <a:lnTo>
                    <a:pt x="7212" y="10800"/>
                  </a:lnTo>
                  <a:lnTo>
                    <a:pt x="7212" y="17989"/>
                  </a:lnTo>
                  <a:lnTo>
                    <a:pt x="11598" y="1798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957320" y="314280"/>
            <a:ext cx="50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Электротост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3120" y="1374840"/>
            <a:ext cx="466560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Comic Sans MS"/>
              </a:rPr>
              <a:t>В 1909г. Американская компания Дженерал Электрик выпустила первый электрический тостер. Кусочек хлеба клали на проволочную решётку и нагревали её электротоком. Чтобы поджарить другую сторону, хлеб приходилось переворачива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Comic Sans MS"/>
              </a:rPr>
              <a:t>В 1927г. Американец Чарльз Страйт создал первый автоматический тостер. Хлеб одновременно поджаривался с обеих сторон. Затем реле времени выключало электричество, и специальная пружинка выбрасывала готовый хлеб из тост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27640" y="1122480"/>
            <a:ext cx="3816360" cy="475776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7704000" y="6440400"/>
            <a:ext cx="1440000" cy="417600"/>
            <a:chOff x="7704000" y="6440400"/>
            <a:chExt cx="1440000" cy="417600"/>
          </a:xfrm>
        </p:grpSpPr>
        <p:sp>
          <p:nvSpPr>
            <p:cNvPr id="105" name="">
              <a:hlinkClick r:id="" action="ppaction://hlinkshowjump?jump=nextslide"/>
            </p:cNvPr>
            <p:cNvSpPr/>
            <p:nvPr/>
          </p:nvSpPr>
          <p:spPr>
            <a:xfrm>
              <a:off x="8674200" y="6442200"/>
              <a:ext cx="469800" cy="415800"/>
            </a:xfrm>
            <a:custGeom>
              <a:avLst/>
              <a:gdLst>
                <a:gd name="textAreaLeft" fmla="*/ 26640 w 469800"/>
                <a:gd name="textAreaRight" fmla="*/ 443160 w 46980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4403" h="21600">
                  <a:moveTo>
                    <a:pt x="0" y="0"/>
                  </a:moveTo>
                  <a:lnTo>
                    <a:pt x="24403" y="0"/>
                  </a:lnTo>
                  <a:lnTo>
                    <a:pt x="24403" y="21600"/>
                  </a:lnTo>
                  <a:lnTo>
                    <a:pt x="0" y="21600"/>
                  </a:lnTo>
                  <a:close/>
                </a:path>
                <a:path fill="lightenLess" w="24403" h="21600">
                  <a:moveTo>
                    <a:pt x="0" y="0"/>
                  </a:moveTo>
                  <a:lnTo>
                    <a:pt x="24403" y="0"/>
                  </a:lnTo>
                  <a:lnTo>
                    <a:pt x="23003" y="1400"/>
                  </a:lnTo>
                  <a:lnTo>
                    <a:pt x="1400" y="1400"/>
                  </a:lnTo>
                  <a:close/>
                </a:path>
                <a:path fill="darken" w="24403" h="21600">
                  <a:moveTo>
                    <a:pt x="24403" y="0"/>
                  </a:moveTo>
                  <a:lnTo>
                    <a:pt x="24403" y="21600"/>
                  </a:lnTo>
                  <a:lnTo>
                    <a:pt x="23003" y="20200"/>
                  </a:lnTo>
                  <a:lnTo>
                    <a:pt x="23003" y="1400"/>
                  </a:lnTo>
                  <a:close/>
                </a:path>
                <a:path fill="darkenLess" w="24403" h="21600">
                  <a:moveTo>
                    <a:pt x="244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003" y="20200"/>
                  </a:lnTo>
                  <a:close/>
                </a:path>
                <a:path fill="lighten" w="244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403" h="21600">
                  <a:moveTo>
                    <a:pt x="5195" y="3794"/>
                  </a:moveTo>
                  <a:lnTo>
                    <a:pt x="19208" y="10800"/>
                  </a:lnTo>
                  <a:lnTo>
                    <a:pt x="5195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>
              <a:hlinkClick r:id="" action="ppaction://hlinkshowjump?jump=previousslide"/>
            </p:cNvPr>
            <p:cNvSpPr/>
            <p:nvPr/>
          </p:nvSpPr>
          <p:spPr>
            <a:xfrm>
              <a:off x="7704000" y="6442200"/>
              <a:ext cx="487440" cy="415800"/>
            </a:xfrm>
            <a:custGeom>
              <a:avLst/>
              <a:gdLst>
                <a:gd name="textAreaLeft" fmla="*/ 26640 w 487440"/>
                <a:gd name="textAreaRight" fmla="*/ 460800 w 48744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5318" h="21600">
                  <a:moveTo>
                    <a:pt x="0" y="0"/>
                  </a:moveTo>
                  <a:lnTo>
                    <a:pt x="25318" y="0"/>
                  </a:lnTo>
                  <a:lnTo>
                    <a:pt x="25318" y="21600"/>
                  </a:lnTo>
                  <a:lnTo>
                    <a:pt x="0" y="21600"/>
                  </a:lnTo>
                  <a:close/>
                </a:path>
                <a:path fill="lightenLess" w="25318" h="21600">
                  <a:moveTo>
                    <a:pt x="0" y="0"/>
                  </a:moveTo>
                  <a:lnTo>
                    <a:pt x="25318" y="0"/>
                  </a:lnTo>
                  <a:lnTo>
                    <a:pt x="23918" y="1400"/>
                  </a:lnTo>
                  <a:lnTo>
                    <a:pt x="1400" y="1400"/>
                  </a:lnTo>
                  <a:close/>
                </a:path>
                <a:path fill="darken" w="25318" h="21600">
                  <a:moveTo>
                    <a:pt x="25318" y="0"/>
                  </a:moveTo>
                  <a:lnTo>
                    <a:pt x="25318" y="21600"/>
                  </a:lnTo>
                  <a:lnTo>
                    <a:pt x="23918" y="20200"/>
                  </a:lnTo>
                  <a:lnTo>
                    <a:pt x="23918" y="1400"/>
                  </a:lnTo>
                  <a:close/>
                </a:path>
                <a:path fill="darkenLess" w="25318" h="21600">
                  <a:moveTo>
                    <a:pt x="2531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918" y="20200"/>
                  </a:lnTo>
                  <a:close/>
                </a:path>
                <a:path fill="lighten" w="2531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318" h="21600">
                  <a:moveTo>
                    <a:pt x="5653" y="10800"/>
                  </a:moveTo>
                  <a:lnTo>
                    <a:pt x="19666" y="3794"/>
                  </a:lnTo>
                  <a:lnTo>
                    <a:pt x="19666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>
              <a:hlinkClick r:id="rId2" action="ppaction://hlinksldjump"/>
            </p:cNvPr>
            <p:cNvSpPr/>
            <p:nvPr/>
          </p:nvSpPr>
          <p:spPr>
            <a:xfrm>
              <a:off x="8188200" y="6440400"/>
              <a:ext cx="484200" cy="417600"/>
            </a:xfrm>
            <a:custGeom>
              <a:avLst/>
              <a:gdLst>
                <a:gd name="textAreaLeft" fmla="*/ 27000 w 484200"/>
                <a:gd name="textAreaRight" fmla="*/ 457200 w 484200"/>
                <a:gd name="textAreaTop" fmla="*/ 27000 h 417600"/>
                <a:gd name="textAreaBottom" fmla="*/ 390600 h 417600"/>
              </a:gdLst>
              <a:ahLst/>
              <a:rect l="textAreaLeft" t="textAreaTop" r="textAreaRight" b="textAreaBottom"/>
              <a:pathLst>
                <a:path w="25042" h="21600">
                  <a:moveTo>
                    <a:pt x="0" y="0"/>
                  </a:moveTo>
                  <a:lnTo>
                    <a:pt x="25042" y="0"/>
                  </a:lnTo>
                  <a:lnTo>
                    <a:pt x="25042" y="21600"/>
                  </a:lnTo>
                  <a:lnTo>
                    <a:pt x="0" y="21600"/>
                  </a:lnTo>
                  <a:close/>
                </a:path>
                <a:path fill="lightenLess" w="25042" h="21600">
                  <a:moveTo>
                    <a:pt x="0" y="0"/>
                  </a:moveTo>
                  <a:lnTo>
                    <a:pt x="25042" y="0"/>
                  </a:lnTo>
                  <a:lnTo>
                    <a:pt x="23642" y="1400"/>
                  </a:lnTo>
                  <a:lnTo>
                    <a:pt x="1400" y="1400"/>
                  </a:lnTo>
                  <a:close/>
                </a:path>
                <a:path fill="darken" w="25042" h="21600">
                  <a:moveTo>
                    <a:pt x="25042" y="0"/>
                  </a:moveTo>
                  <a:lnTo>
                    <a:pt x="25042" y="21600"/>
                  </a:lnTo>
                  <a:lnTo>
                    <a:pt x="23642" y="20200"/>
                  </a:lnTo>
                  <a:lnTo>
                    <a:pt x="23642" y="1400"/>
                  </a:lnTo>
                  <a:close/>
                </a:path>
                <a:path fill="darkenLess" w="25042" h="21600">
                  <a:moveTo>
                    <a:pt x="25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642" y="20200"/>
                  </a:lnTo>
                  <a:close/>
                </a:path>
                <a:path fill="lighten" w="25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042" h="21600">
                  <a:moveTo>
                    <a:pt x="12521" y="3837"/>
                  </a:moveTo>
                  <a:lnTo>
                    <a:pt x="15097" y="6448"/>
                  </a:ln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lnTo>
                    <a:pt x="19484" y="10800"/>
                  </a:lnTo>
                  <a:lnTo>
                    <a:pt x="17830" y="10800"/>
                  </a:lnTo>
                  <a:lnTo>
                    <a:pt x="17830" y="17989"/>
                  </a:lnTo>
                  <a:lnTo>
                    <a:pt x="7212" y="17989"/>
                  </a:lnTo>
                  <a:lnTo>
                    <a:pt x="7212" y="10800"/>
                  </a:lnTo>
                  <a:lnTo>
                    <a:pt x="5558" y="10800"/>
                  </a:lnTo>
                  <a:close/>
                </a:path>
                <a:path fill="darkenLess" w="25042" h="21600">
                  <a:moveTo>
                    <a:pt x="15097" y="6448"/>
                  </a:move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close/>
                </a:path>
                <a:path fill="darkenLess" w="25042" h="21600">
                  <a:moveTo>
                    <a:pt x="11598" y="14299"/>
                  </a:moveTo>
                  <a:lnTo>
                    <a:pt x="13444" y="14299"/>
                  </a:lnTo>
                  <a:lnTo>
                    <a:pt x="13444" y="17989"/>
                  </a:lnTo>
                  <a:lnTo>
                    <a:pt x="17830" y="17989"/>
                  </a:lnTo>
                  <a:lnTo>
                    <a:pt x="17830" y="10800"/>
                  </a:lnTo>
                  <a:lnTo>
                    <a:pt x="7212" y="10800"/>
                  </a:lnTo>
                  <a:lnTo>
                    <a:pt x="7212" y="17989"/>
                  </a:lnTo>
                  <a:lnTo>
                    <a:pt x="11598" y="1798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236680" y="32220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Comic Sans MS"/>
              </a:rPr>
              <a:t>Электрический чай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08800" y="1279440"/>
            <a:ext cx="3344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be0e3"/>
                </a:solidFill>
                <a:latin typeface="Comic Sans MS"/>
              </a:rPr>
              <a:t>У первых электрочайников нагреватели находились под донышком. Вода не вступала в контакт с нагревателем и закипала очень долго. В 1923 г. Артур Лардж сделал подлинное открытие: он поместил нагреватель в особую медную трубку и вставил её внутрь чайника. Вода быстро закип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3680" y="896760"/>
            <a:ext cx="4546440" cy="2954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189080" y="4097160"/>
            <a:ext cx="2600280" cy="2076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84200" y="6292800"/>
            <a:ext cx="44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Comic Sans MS"/>
              </a:rPr>
              <a:t>Современный электрический чай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704000" y="6440400"/>
            <a:ext cx="1440000" cy="417600"/>
            <a:chOff x="7704000" y="6440400"/>
            <a:chExt cx="1440000" cy="417600"/>
          </a:xfrm>
        </p:grpSpPr>
        <p:sp>
          <p:nvSpPr>
            <p:cNvPr id="114" name="">
              <a:hlinkClick r:id="" action="ppaction://hlinkshowjump?jump=nextslide"/>
            </p:cNvPr>
            <p:cNvSpPr/>
            <p:nvPr/>
          </p:nvSpPr>
          <p:spPr>
            <a:xfrm>
              <a:off x="8674200" y="6442200"/>
              <a:ext cx="469800" cy="415800"/>
            </a:xfrm>
            <a:custGeom>
              <a:avLst/>
              <a:gdLst>
                <a:gd name="textAreaLeft" fmla="*/ 26640 w 469800"/>
                <a:gd name="textAreaRight" fmla="*/ 443160 w 46980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4403" h="21600">
                  <a:moveTo>
                    <a:pt x="0" y="0"/>
                  </a:moveTo>
                  <a:lnTo>
                    <a:pt x="24403" y="0"/>
                  </a:lnTo>
                  <a:lnTo>
                    <a:pt x="24403" y="21600"/>
                  </a:lnTo>
                  <a:lnTo>
                    <a:pt x="0" y="21600"/>
                  </a:lnTo>
                  <a:close/>
                </a:path>
                <a:path fill="lightenLess" w="24403" h="21600">
                  <a:moveTo>
                    <a:pt x="0" y="0"/>
                  </a:moveTo>
                  <a:lnTo>
                    <a:pt x="24403" y="0"/>
                  </a:lnTo>
                  <a:lnTo>
                    <a:pt x="23003" y="1400"/>
                  </a:lnTo>
                  <a:lnTo>
                    <a:pt x="1400" y="1400"/>
                  </a:lnTo>
                  <a:close/>
                </a:path>
                <a:path fill="darken" w="24403" h="21600">
                  <a:moveTo>
                    <a:pt x="24403" y="0"/>
                  </a:moveTo>
                  <a:lnTo>
                    <a:pt x="24403" y="21600"/>
                  </a:lnTo>
                  <a:lnTo>
                    <a:pt x="23003" y="20200"/>
                  </a:lnTo>
                  <a:lnTo>
                    <a:pt x="23003" y="1400"/>
                  </a:lnTo>
                  <a:close/>
                </a:path>
                <a:path fill="darkenLess" w="24403" h="21600">
                  <a:moveTo>
                    <a:pt x="24403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003" y="20200"/>
                  </a:lnTo>
                  <a:close/>
                </a:path>
                <a:path fill="lighten" w="24403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403" h="21600">
                  <a:moveTo>
                    <a:pt x="5195" y="3794"/>
                  </a:moveTo>
                  <a:lnTo>
                    <a:pt x="19208" y="10800"/>
                  </a:lnTo>
                  <a:lnTo>
                    <a:pt x="5195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>
              <a:hlinkClick r:id="" action="ppaction://hlinkshowjump?jump=previousslide"/>
            </p:cNvPr>
            <p:cNvSpPr/>
            <p:nvPr/>
          </p:nvSpPr>
          <p:spPr>
            <a:xfrm>
              <a:off x="7704000" y="6442200"/>
              <a:ext cx="487440" cy="415800"/>
            </a:xfrm>
            <a:custGeom>
              <a:avLst/>
              <a:gdLst>
                <a:gd name="textAreaLeft" fmla="*/ 26640 w 487440"/>
                <a:gd name="textAreaRight" fmla="*/ 460800 w 487440"/>
                <a:gd name="textAreaTop" fmla="*/ 26640 h 415800"/>
                <a:gd name="textAreaBottom" fmla="*/ 389160 h 415800"/>
              </a:gdLst>
              <a:ahLst/>
              <a:rect l="textAreaLeft" t="textAreaTop" r="textAreaRight" b="textAreaBottom"/>
              <a:pathLst>
                <a:path w="25318" h="21600">
                  <a:moveTo>
                    <a:pt x="0" y="0"/>
                  </a:moveTo>
                  <a:lnTo>
                    <a:pt x="25318" y="0"/>
                  </a:lnTo>
                  <a:lnTo>
                    <a:pt x="25318" y="21600"/>
                  </a:lnTo>
                  <a:lnTo>
                    <a:pt x="0" y="21600"/>
                  </a:lnTo>
                  <a:close/>
                </a:path>
                <a:path fill="lightenLess" w="25318" h="21600">
                  <a:moveTo>
                    <a:pt x="0" y="0"/>
                  </a:moveTo>
                  <a:lnTo>
                    <a:pt x="25318" y="0"/>
                  </a:lnTo>
                  <a:lnTo>
                    <a:pt x="23918" y="1400"/>
                  </a:lnTo>
                  <a:lnTo>
                    <a:pt x="1400" y="1400"/>
                  </a:lnTo>
                  <a:close/>
                </a:path>
                <a:path fill="darken" w="25318" h="21600">
                  <a:moveTo>
                    <a:pt x="25318" y="0"/>
                  </a:moveTo>
                  <a:lnTo>
                    <a:pt x="25318" y="21600"/>
                  </a:lnTo>
                  <a:lnTo>
                    <a:pt x="23918" y="20200"/>
                  </a:lnTo>
                  <a:lnTo>
                    <a:pt x="23918" y="1400"/>
                  </a:lnTo>
                  <a:close/>
                </a:path>
                <a:path fill="darkenLess" w="25318" h="21600">
                  <a:moveTo>
                    <a:pt x="2531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918" y="20200"/>
                  </a:lnTo>
                  <a:close/>
                </a:path>
                <a:path fill="lighten" w="2531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318" h="21600">
                  <a:moveTo>
                    <a:pt x="5653" y="10800"/>
                  </a:moveTo>
                  <a:lnTo>
                    <a:pt x="19666" y="3794"/>
                  </a:lnTo>
                  <a:lnTo>
                    <a:pt x="19666" y="17806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>
              <a:hlinkClick r:id="rId3" action="ppaction://hlinksldjump"/>
            </p:cNvPr>
            <p:cNvSpPr/>
            <p:nvPr/>
          </p:nvSpPr>
          <p:spPr>
            <a:xfrm>
              <a:off x="8188200" y="6440400"/>
              <a:ext cx="484200" cy="417600"/>
            </a:xfrm>
            <a:custGeom>
              <a:avLst/>
              <a:gdLst>
                <a:gd name="textAreaLeft" fmla="*/ 27000 w 484200"/>
                <a:gd name="textAreaRight" fmla="*/ 457200 w 484200"/>
                <a:gd name="textAreaTop" fmla="*/ 27000 h 417600"/>
                <a:gd name="textAreaBottom" fmla="*/ 390600 h 417600"/>
              </a:gdLst>
              <a:ahLst/>
              <a:rect l="textAreaLeft" t="textAreaTop" r="textAreaRight" b="textAreaBottom"/>
              <a:pathLst>
                <a:path w="25042" h="21600">
                  <a:moveTo>
                    <a:pt x="0" y="0"/>
                  </a:moveTo>
                  <a:lnTo>
                    <a:pt x="25042" y="0"/>
                  </a:lnTo>
                  <a:lnTo>
                    <a:pt x="25042" y="21600"/>
                  </a:lnTo>
                  <a:lnTo>
                    <a:pt x="0" y="21600"/>
                  </a:lnTo>
                  <a:close/>
                </a:path>
                <a:path fill="lightenLess" w="25042" h="21600">
                  <a:moveTo>
                    <a:pt x="0" y="0"/>
                  </a:moveTo>
                  <a:lnTo>
                    <a:pt x="25042" y="0"/>
                  </a:lnTo>
                  <a:lnTo>
                    <a:pt x="23642" y="1400"/>
                  </a:lnTo>
                  <a:lnTo>
                    <a:pt x="1400" y="1400"/>
                  </a:lnTo>
                  <a:close/>
                </a:path>
                <a:path fill="darken" w="25042" h="21600">
                  <a:moveTo>
                    <a:pt x="25042" y="0"/>
                  </a:moveTo>
                  <a:lnTo>
                    <a:pt x="25042" y="21600"/>
                  </a:lnTo>
                  <a:lnTo>
                    <a:pt x="23642" y="20200"/>
                  </a:lnTo>
                  <a:lnTo>
                    <a:pt x="23642" y="1400"/>
                  </a:lnTo>
                  <a:close/>
                </a:path>
                <a:path fill="darkenLess" w="25042" h="21600">
                  <a:moveTo>
                    <a:pt x="25042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3642" y="20200"/>
                  </a:lnTo>
                  <a:close/>
                </a:path>
                <a:path fill="lighten" w="25042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042" h="21600">
                  <a:moveTo>
                    <a:pt x="12521" y="3837"/>
                  </a:moveTo>
                  <a:lnTo>
                    <a:pt x="15097" y="6448"/>
                  </a:ln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lnTo>
                    <a:pt x="19484" y="10800"/>
                  </a:lnTo>
                  <a:lnTo>
                    <a:pt x="17830" y="10800"/>
                  </a:lnTo>
                  <a:lnTo>
                    <a:pt x="17830" y="17989"/>
                  </a:lnTo>
                  <a:lnTo>
                    <a:pt x="7212" y="17989"/>
                  </a:lnTo>
                  <a:lnTo>
                    <a:pt x="7212" y="10800"/>
                  </a:lnTo>
                  <a:lnTo>
                    <a:pt x="5558" y="10800"/>
                  </a:lnTo>
                  <a:close/>
                </a:path>
                <a:path fill="darkenLess" w="25042" h="21600">
                  <a:moveTo>
                    <a:pt x="15097" y="6448"/>
                  </a:moveTo>
                  <a:lnTo>
                    <a:pt x="15097" y="4707"/>
                  </a:lnTo>
                  <a:lnTo>
                    <a:pt x="16873" y="4707"/>
                  </a:lnTo>
                  <a:lnTo>
                    <a:pt x="16873" y="8224"/>
                  </a:lnTo>
                  <a:close/>
                </a:path>
                <a:path fill="darkenLess" w="25042" h="21600">
                  <a:moveTo>
                    <a:pt x="11598" y="14299"/>
                  </a:moveTo>
                  <a:lnTo>
                    <a:pt x="13444" y="14299"/>
                  </a:lnTo>
                  <a:lnTo>
                    <a:pt x="13444" y="17989"/>
                  </a:lnTo>
                  <a:lnTo>
                    <a:pt x="17830" y="17989"/>
                  </a:lnTo>
                  <a:lnTo>
                    <a:pt x="17830" y="10800"/>
                  </a:lnTo>
                  <a:lnTo>
                    <a:pt x="7212" y="10800"/>
                  </a:lnTo>
                  <a:lnTo>
                    <a:pt x="7212" y="17989"/>
                  </a:lnTo>
                  <a:lnTo>
                    <a:pt x="11598" y="1798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3T11:20:14Z</dcterms:created>
  <dc:creator>Данил</dc:creator>
  <dc:description/>
  <dc:language>en-US</dc:language>
  <cp:lastModifiedBy>Ольга</cp:lastModifiedBy>
  <dcterms:modified xsi:type="dcterms:W3CDTF">2001-01-01T00:09:24Z</dcterms:modified>
  <cp:revision>34</cp:revision>
  <dc:subject/>
  <dc:title>Физика на кухне</dc:title>
</cp:coreProperties>
</file>