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42F-01DE-4256-B4BE-77EEE6F9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4CF-35A3-45A3-B54D-B51E531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8BCD2-45A7-425D-A553-774B1702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4C539-88D3-4B7F-B03C-A996579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E70A3-FE0F-4C55-9F79-A797D785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66C4D-2C11-4E71-A84D-F6E74D4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12E45-B4C7-4A13-99FE-69A4CEE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4DD2-743C-4BD3-8A96-2185896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0D16A-8821-4C8E-A633-D729326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D6505-505A-411A-9C49-22DEB4EC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A566-4733-4774-9703-EA0F0D9F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0B446-82F5-41D1-95D8-8E0B82F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01E-ED2B-4E58-B631-021CE5DA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E80672-D1E9-4099-A2D7-46042023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35BAE7-59BF-4C6B-AE13-F904BDF9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5D746D-B109-49CC-8BF4-370B1698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5714A0-C203-440D-9AFF-3B8C70C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782BBF-10A9-4A76-B9CA-F48E0A4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4B0E5-5E37-4679-91EF-C5CC211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D52C0-8555-49A5-A4F0-BDB08B6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08A487-6643-4157-855B-E6FC0CD2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41B82B-5EB2-4A35-838F-369117C4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CE957D-BBB1-4DEE-AAB6-7B934B43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28D-9546-4A62-B457-E9755AEC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B5E1E6-0672-46BD-B1B3-19CF72DE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3CB2E-E1F2-4E43-9E6D-490DB3C8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91E0-FD5F-49D3-BEFE-15236120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30A39-E1B9-4E2F-B3DC-5CBD2F9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B4CF1-5A82-4523-95FC-CFB5CBC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16364-1C2D-4A68-95A8-5542E0FB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BCAD-C691-467C-A02F-84E283F3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D28A-4637-4D99-B792-F000977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7372-D838-4BD6-995F-BD45F49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2A797-41AD-488F-9F17-4362E596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DBD1-AAF1-4E01-AE2A-FC615DA7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E799-654F-4B24-B464-84715E39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86F20-113C-436A-A405-6191D1B8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A197C-48FF-4164-B061-3DA6603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DBE37-7B0F-438A-8971-052493CE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06A5E-ADAC-42EB-B54F-CEB2FAE3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91C31-5BFE-464A-BBC7-984A84F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C5521-6E11-492A-85EB-1389E4CD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A1F68-131B-4150-874C-68EE96A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E001D-D729-4C35-B711-38392CDA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AEED3-2368-46AE-907F-C4FE8A4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947-4DA4-44D5-AF67-7B887DD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5968F-49AF-4A9A-B715-EB90846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64020-003B-41B4-8C97-0D2BC04F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B428-9B9C-4B68-9241-054DFD9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63642-07F0-4397-9E3C-6E4F16AF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4904C-5F65-4E13-851A-4A09B6F6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CDA02-65E7-4CC9-B100-475B3D3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B515E-B9B5-4C7A-AF13-1495FE2D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B1DED-9D88-4E27-B506-6E19DAC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26D74-E2C3-4624-AC1B-96B5C8A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255EC-0EEC-4033-B538-3EC1EB23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244-EBFA-416D-A56F-EC6955D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BFF4F-0B1F-424C-A306-F2634BA6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FE2A7-1B71-4C96-B56C-ED5E554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60441-7847-49F1-84C5-4D10429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336D1-BA74-4318-969B-56CDA12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DEBD5-0A04-40D8-9C0B-736C767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E2780-7E6C-4ECA-A6C1-D79B3E50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21963-4DBD-4B09-9027-999C1A39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800BF-B59C-42F3-B46F-A19B9EB4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209F7-F3F7-4DA8-BF56-162C701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8EEA8-0428-4438-8F24-6BBCB2C1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B1C-5FB6-469D-A9B6-F85897AA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27D9E-DD89-4367-BA8F-93E86AB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33131-81AF-4392-848F-21DE3788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8BD7D-7D37-4717-B6E7-DA302C6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86570-1557-4C57-86A5-64F2257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908EA-738C-4687-ADC0-B2D7976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E28FF-2C89-43CE-B88A-7DFE2EB9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9C66D-E723-4D51-9693-6573B25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819A2-FF5A-495D-AF7C-FE2E4851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F3EB9-EFCA-4ECF-A941-195D61F1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72943-9EA3-4562-9FE9-F9A92AE7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A08F-64C2-4E03-9177-2199BF0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36F3C-AE2F-48C2-969A-AB2BBE4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15028-8995-4B19-B7AE-C97FE71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F61C3-8AE6-4A30-BEF5-C1FE387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02A73-900F-4559-9B80-0C3BB16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7B7F0-E2B7-424F-9A71-9228A0EE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C2714-E70B-4429-92DF-F95B573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6ADFB-EB3D-4472-ACBB-43A2023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EB02D-BB55-47A1-9820-EB2BE1B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A40B7-C94D-4095-B07D-BD81AAA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58AE1-B6D5-44DE-9877-2486D5E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F8CD-CA48-4514-958E-CBC5877B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F8490-ED00-47FB-A0B6-22C57416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96E-B11D-44A7-AB66-C7EC6E3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C90-1ADD-4A20-BBC3-075AFA0C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099D-E18E-45E2-85D1-87EA1E0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8CC-87DF-4658-A285-960775F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859E-119A-4F4F-8FFA-FAC6099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B9B-ADF9-4E1A-935C-885AF95A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EF7C-72B7-4255-BCC5-52520C1F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94D5-CF01-4DF3-92A8-C3FF265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C97A-A79C-4644-9ED3-077F0EE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C215-9A3A-44A3-B227-F4E98A4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838F-3F57-4EC3-BA08-CA7DBAF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0142-7121-4BDC-9CF9-3979A1CE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963-525F-46F4-ACF0-6140A00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3EC8-CFAC-46EC-BC19-22C03AB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299F-2989-4F4C-ACD2-AE14DCA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6D4F-32E9-4FB5-A5C2-A0F96B2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6A4E-6CE4-4673-9E9D-6CE4578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372D-99D2-436D-9C7E-8EF8204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4749-7B7B-4120-8A9E-83F6AD5B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0960-28EE-41AF-913E-180A3A1E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143D-8AC8-4F91-9EBA-8E323AE8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EC0B-B528-4B2D-8A42-AB16E9A9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33D6-45C0-4A9E-A884-5672145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259-6D5B-4CA8-8FB1-7610F0C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E02B-A753-4E1B-96F6-65EB1F5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6AEF-195E-4F58-89D7-F14476F5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6917-45B3-460F-AA45-EB2255E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489D-79F7-4507-BABB-C4D3B7A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78DD-F4E7-46F4-9C3C-6F355A0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3991-0E12-443D-A46E-9AC4482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2B6E-21CB-4731-A244-644DD44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C948C-02CC-42B4-98EE-2A929D99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15BE-9DE2-481B-9F02-C5E04D4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4FCE-3F05-4E40-BE58-2B64226C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483-8F4B-4CFA-A5B7-FB02E08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ECA5-5D35-48AD-8C51-2942621B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4631E-200F-4B54-851F-9158E286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2DD1-EE9B-4578-B7AA-8722621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AC05-603F-4AA3-9836-B2EA66F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06F6-A6F3-4DAF-BF08-D8F2209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F86F-A0A4-4BD9-B53C-F198A2F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E7AB-75B2-48D2-A243-92781A7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1158-DCC4-4E08-8096-E69723A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0172-3CBE-44FC-93CF-2964B4D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DDC91-C3E0-4E80-BEA2-C61920D7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B66-26BC-444F-9469-C8B1FBC5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5EEF-0056-45F0-875A-7A7F87EA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9450-31CD-49D4-B0ED-B951620D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43970-FB14-4C49-82D9-C6F37B6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5923-0E1F-4D31-81C6-3044AD0C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3A0AC-8D7F-49E7-91CA-EBA5D80D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E9425-9391-4D3A-B444-FAD1509B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A608-C4B0-47B1-9B48-22F6CF2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1CF2-6D54-4F02-A477-6FB00AE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C8CD-1A7E-4356-9285-76E04F9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F8D5-D792-4A62-BDF4-40665D4B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79D-3408-4875-AA9B-CC7A748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E1160-23C2-45DC-85F4-8DEFB02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4E1B-1440-4815-9C42-894EC69F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3302-BB56-4BBF-8251-6CF4585E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1EF6-2720-4B94-89BA-D01740A5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128A-E8C6-4F3D-8382-2AED581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D0FA-7292-40D3-9D9C-FDBF40F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98D8-B715-48FE-8A2A-4528342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7E65-010D-45E3-B7BA-A5C0FD3B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8EB45-8A77-4749-BB29-5BD0B664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BF36-52F6-4257-82E0-7581794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315-7299-457B-BA0A-E1C00E0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D7FB-DEED-4C1F-BE6B-EEF669B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5BDAD-D767-4AB7-B27E-41F22F9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C2D2-E752-4AD6-A944-3C7FBE6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3633-B518-49B3-A652-4FECA064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D950-C28D-491E-AB9F-32A1A9D7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872C-7E2B-43EE-8840-59B3C557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CBFAE-2661-4611-98F5-F334427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8A76-9810-4CDD-8A84-3AB8BDD1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B983-4D11-4DFD-97AE-E391B4C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67632-2DB5-4DBE-ACB5-713AA377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A18-D8B4-46EE-9795-83D434C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1D767-C928-4346-853C-8DBBCF7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1086-42AB-47B5-BC85-EE690F69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64A3-E997-463F-AA2D-E3537BA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E7482-10AF-4CFD-A679-7B1C769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01F9A-F98A-415D-B425-4DF9FA3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9722-850D-4174-A561-D300A22E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9173-DFF6-4F9E-97D6-240A50D2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9B78-3CCD-4549-A049-8DA8B8F6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6CA1-7E72-4547-A9F6-4EDDDE1B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2438-B43E-4629-98D6-60D10E1D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FFD-94CE-4371-AA24-864F2D084D2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ED7-AE85-492E-978E-161F8EDFB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7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ADED-269B-4F2F-AB9F-ECED5D5A6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2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8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8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F15E-7DDD-43A9-B699-2867245790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3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3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4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F03-05DC-4197-8AC9-52DB785AEE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45F-F0DF-40E1-A459-29A7587C2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89B-6306-4654-BB07-A207EFCF6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6FC-AC7D-4BB8-AAE6-7173AD2FE9A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7056-088A-4E06-8C77-9D01F3BD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912-F884-48EB-858A-BB5A4C54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BC32-28C1-4F72-8DD3-903F23324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FB9-39A5-4276-8656-5C808E96F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8B9-A82C-4D86-9196-11CD7834A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7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00E6-D878-42E8-8DB2-32ACC317EF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1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B5F8-ED36-4025-9F6D-888B7B519E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Forte"/>
              </a:rPr>
              <a:t>Какие электроприборы есть на кухн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5435280" y="4508640"/>
            <a:ext cx="33447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Команда:</a:t>
            </a:r>
            <a:r>
              <a:rPr b="0" lang="ru-RU" sz="3200" spc="-1" strike="noStrike">
                <a:solidFill>
                  <a:srgbClr val="ff3300"/>
                </a:solidFill>
                <a:latin typeface="Forte"/>
              </a:rPr>
              <a:t> «Девчат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Игровой номер:</a:t>
            </a:r>
            <a:r>
              <a:rPr b="0" lang="ru-RU" sz="3200" spc="-1" strike="noStrike">
                <a:solidFill>
                  <a:srgbClr val="ff3300"/>
                </a:solidFill>
                <a:latin typeface="Forte"/>
              </a:rPr>
              <a:t> 7</a:t>
            </a:r>
            <a:r>
              <a:rPr b="0" lang="en-US" sz="3200" spc="-1" strike="noStrike">
                <a:solidFill>
                  <a:srgbClr val="ff3300"/>
                </a:solidFill>
                <a:latin typeface="Forte"/>
              </a:rPr>
              <a:t>f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г. Ом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МОУ СОШ № 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с углубленным  изучени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Forte"/>
              </a:rPr>
              <a:t>отдельных предм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>
            <a:hlinkClick r:id="" action="ppaction://hlinkshowjump?jump=previousslide"/>
          </p:cNvPr>
          <p:cNvSpPr/>
          <p:nvPr/>
        </p:nvSpPr>
        <p:spPr>
          <a:xfrm>
            <a:off x="161928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Посудомоечная машина, первые посудомоечные машины появились в последней четверти 19 в. Современные посудомоечные машины. подразделяются на промышленные и бытовые, универсальные и специализированные, непрерывного и периодического действия. По способу обработки посуды бывают струйными и щёточными. Выпускаются  двух конструктивных типов — камерные и открытые. В посудомоечных машинах камерного типа посуда обрабатывается струей воды или моющего раствора при температуре 30—60 °С, в машинах открытого типа — водой или раствором с применением щёток или др. механически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619280" y="5013360"/>
            <a:ext cx="1657440" cy="1530360"/>
          </a:xfrm>
          <a:prstGeom prst="rect">
            <a:avLst/>
          </a:prstGeom>
          <a:ln w="0">
            <a:noFill/>
          </a:ln>
        </p:spPr>
      </p:pic>
      <p:pic>
        <p:nvPicPr>
          <p:cNvPr id="1144" name="" descr=""/>
          <p:cNvPicPr/>
          <p:nvPr/>
        </p:nvPicPr>
        <p:blipFill>
          <a:blip r:embed="rId2"/>
          <a:stretch/>
        </p:blipFill>
        <p:spPr>
          <a:xfrm>
            <a:off x="6012000" y="4941720"/>
            <a:ext cx="1728720" cy="16560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1692360" y="6354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95280" y="6354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Электрическая плита. Устанавливаются в жилых домах, столовых, ресторанах и др.Электрические плиты обеспечивают возможность автоматического регулирования теплового режима приготовления пищи и обладают высокими санитарно-гигиеническими кач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"/>
          <a:stretch/>
        </p:blipFill>
        <p:spPr>
          <a:xfrm>
            <a:off x="6443640" y="3500280"/>
            <a:ext cx="1513080" cy="179568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872000" cy="203364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Forte"/>
              </a:rPr>
              <a:t>              </a:t>
            </a:r>
            <a:r>
              <a:rPr b="1" i="1" lang="en-US" sz="5400" spc="-1" strike="noStrike">
                <a:solidFill>
                  <a:srgbClr val="ff0000"/>
                </a:solidFill>
                <a:latin typeface="Forte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orte"/>
              </a:rPr>
              <a:t>Миксер</a:t>
            </a:r>
            <a:r>
              <a:rPr b="1" lang="en-US" sz="2000" spc="-1" strike="noStrike">
                <a:solidFill>
                  <a:srgbClr val="ffffff"/>
                </a:solidFill>
                <a:latin typeface="Forte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 электрический прибор, служащий для быстрого смешивания холодных напитков, сбивания яиц, приготовления коктейлей, кремов, теста, пюре и пр.; </a:t>
            </a:r>
            <a:r>
              <a:rPr b="0" lang="ru-RU" sz="2000" spc="-1" strike="noStrike">
                <a:solidFill>
                  <a:srgbClr val="ffffff"/>
                </a:solidFill>
                <a:latin typeface="Forte"/>
              </a:rPr>
              <a:t>миксер </a:t>
            </a: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может быть снабжен, кроме того, приспособлениями для размола кофе, орехов, шоколада. Представляет собой пластмассовый корпус с заключённым в нём коллекторным электродвигателем и полиэтиленовым или стеклянным стаканом с крыш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276720" y="4437000"/>
            <a:ext cx="2376360" cy="220824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1146"/>
                </a:solidFill>
                <a:latin typeface="Forte"/>
              </a:rPr>
              <a:t>Продукты измельчаются пластинчатыми ножами, изогнутыми в различных плоскостях, закрепленными на валу электродвигателя. </a:t>
            </a:r>
            <a:r>
              <a:rPr b="0" i="1" lang="ru-RU" sz="2000" spc="-1" strike="noStrike">
                <a:solidFill>
                  <a:srgbClr val="001146"/>
                </a:solidFill>
                <a:latin typeface="Forte"/>
              </a:rPr>
              <a:t>Миксеры </a:t>
            </a:r>
            <a:r>
              <a:rPr b="0" i="1" lang="en-US" sz="2000" spc="-1" strike="noStrike">
                <a:solidFill>
                  <a:srgbClr val="001146"/>
                </a:solidFill>
                <a:latin typeface="Forte"/>
              </a:rPr>
              <a:t>работают от электрической сети, некоторые — от обычной батарейки для карманного фонаря.</a:t>
            </a:r>
            <a:r>
              <a:rPr b="0" lang="en-US" sz="2000" spc="-1" strike="noStrike">
                <a:solidFill>
                  <a:srgbClr val="001146"/>
                </a:solidFill>
                <a:latin typeface="Fort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176364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836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Кухонный комбайн, электропривод с насадками, служащими для обработки продуктов в домашних условиях. Ручной кухонный комбайн крепится к доске стола; к ней присоединяются мясорубка, жерновая кофейная мельница, шинковка, сбивалки. Распространены также электрические кухонные комбаины. Настольные кухонные комбаины выпускаются в пластмассовом или алюминиевом корпусе со встроенным редуктором и 2 выходными рабочими валиками, к которым поочерёдно подключаются насадки: мясорубка, картофелечистка, тестомесилка-сбивалка, шинковка-тёрка, кофейная мельница, ломтерезка, миксер (смеситель), соковыжималка. Средняя потребляемая мощность такой машины 350 Вт.</a:t>
            </a:r>
            <a:r>
              <a:rPr b="0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644480" cy="172728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1584360" cy="16970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47640" y="6354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50920" y="6354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Холодильник, 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аппарат, предназначенный для кратковременного сохранения пищевых продуктов в домашних условиях путём их искусственного охлаждения. 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Холодильники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в зависимости от типа 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холодильной машины 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подразделяются на компрессионные, абсорбционные и термоэлектр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3203640" y="4022640"/>
            <a:ext cx="2160360" cy="199080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1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orte"/>
              </a:rPr>
              <a:t>Холодильник</a:t>
            </a: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 представляет собой металлический шкаф с встроенным в него герметичным</a:t>
            </a:r>
            <a:r>
              <a:rPr b="0" lang="ru-RU" sz="2000" spc="-1" strike="noStrike">
                <a:solidFill>
                  <a:srgbClr val="ffffff"/>
                </a:solidFill>
                <a:latin typeface="Forte"/>
              </a:rPr>
              <a:t> холодильным агрегатом</a:t>
            </a: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. Внутри находится холодильная камера с полками для размещения продуктов. </a:t>
            </a:r>
            <a:r>
              <a:rPr b="0" lang="ru-RU" sz="2000" spc="-1" strike="noStrike">
                <a:solidFill>
                  <a:srgbClr val="ffffff"/>
                </a:solidFill>
                <a:latin typeface="Forte"/>
              </a:rPr>
              <a:t>Между её стенками и наружным корпусом размещена теплоизоляция. Охлаждение воздуха осуществляется путём теплообмена между ним и холодной поверхностью испарителя. Необходимый температурный режим в холодильнике обеспечивается посредством кратковременной периодической (циклической) работы холодильного агрегата, включение которого осуществляется с помощью реле температуры.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3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Водонагреватель</a:t>
            </a:r>
            <a:r>
              <a:rPr b="1" lang="en-US" sz="2000" spc="-1" strike="noStrike">
                <a:solidFill>
                  <a:srgbClr val="ffffff"/>
                </a:solidFill>
                <a:latin typeface="Forte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Forte"/>
              </a:rPr>
              <a:t> теплообменный аппарат для нагревания воды паром, горячей водой, горячими газами, электрическим током. Применяют в системах горячего водоснабжения, водяного отопления, нагрева питательной воды для котельных агрегатов, для бытовых и других нужд. Наиболее распространены водонагреватели поверхностного типа. Реже применяют контактные водонагревате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2376360" cy="251928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147636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79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К местным водонагревателям, работающим на газе 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или на твёрдом топливе, относятся ванные колонки, змеевики или водогрейные коробки, размещенные в плитах, кипятильники и др. Из местных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 водонагревателей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широко применяют ванные колонки. Они могут быть ёмкостными и проточными, работать на газообразном, твёрдом, жидком топливе и электричестве. Тепловая мощность ванных колонок — до 35 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кВт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(30 тыс. 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ккал/ч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2951280" cy="16812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Forte"/>
              </a:rPr>
              <a:t>СВЧ печь, электроприбор для приготовления или разогрева пищи. В наше время СВЧ печь присутствует почти в каждой кухне, как незаменимое средство для быстрого разогрева или приготовления пищ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Forte"/>
              </a:rPr>
              <a:t>СВЧ печь для приготовления пищи: 1 — стеклянная пластина, на которую кладется пища; 2 — вентилятор, лопасти которого, вращаясь, отражают электромагнитные волны СВЧ по всем направлениям с целью прогрева пищи со всех сторон; 3 — волновод; 4 — магнетрон; 5 — индикаторы, по которым производится отсчёт времени приготовления пищ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376720" cy="1512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1625760" cy="129564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1908000" y="6165720"/>
            <a:ext cx="1224000" cy="503280"/>
          </a:xfrm>
          <a:prstGeom prst="righ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11280" y="6165720"/>
            <a:ext cx="1224000" cy="503280"/>
          </a:xfrm>
          <a:prstGeom prst="leftArrow">
            <a:avLst>
              <a:gd name="adj1" fmla="val 50000"/>
              <a:gd name="adj2" fmla="val 60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8:01:53Z</dcterms:created>
  <dc:creator>intel</dc:creator>
  <dc:description/>
  <dc:language>en-US</dc:language>
  <cp:lastModifiedBy>паша</cp:lastModifiedBy>
  <dcterms:modified xsi:type="dcterms:W3CDTF">2007-03-21T19:43:07Z</dcterms:modified>
  <cp:revision>13</cp:revision>
  <dc:subject/>
  <dc:title>Какие электроприборы есть на кухне.</dc:title>
</cp:coreProperties>
</file>