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4.png" ContentType="image/png"/>
  <Override PartName="/ppt/media/image3.png" ContentType="image/png"/>
  <Override PartName="/ppt/media/image25.jpeg" ContentType="image/jpeg"/>
  <Override PartName="/ppt/media/image20.png" ContentType="image/pn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B14-5BAC-48D0-87B9-F534424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B0B-F4AD-40BA-9D73-DC40181B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D02-85AD-4E81-AAD2-6484DFAB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CF1-7235-4C1B-A1A6-074F1F1F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5B01-F3C8-4E04-A147-A140D6D6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B478-F767-4951-BD62-413C489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4CBA-D7EB-4868-8CD3-8FE2073A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E6E9-7213-4491-B7E3-8988213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22C-BB3F-4AAF-9DCB-F6CDEAA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8263-2D1C-4E2A-AF8E-C12B610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204D-4FDB-4AC1-BE99-0318AA4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494-798A-4D4F-A8E8-B9E582E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EA4F-D129-4D9D-9A87-8BF294C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443-8D27-42E7-992A-308EF5C1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4C8C-C5D0-459A-93C3-D7D814FF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7E8-BD35-4CF6-9893-FA0B007B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659-19EA-4D6A-B450-D17003CF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3932-1839-4BD1-97E2-948FBC63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2FC9-3609-418D-AF6E-F59F97A5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0CD62-C316-4DD4-A4F8-A4E2A2D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05EE-1769-4E17-8342-2385177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0C36-AAC5-437B-9D31-C9C4A8FA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6EB-AE81-4A55-A43A-3E1CD58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21B2-ABEE-49B4-AEEF-EE898C6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81A3-AC60-47C6-B05C-F6BE990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E1FB-41DF-4981-B622-717CDCB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0AF6-4F99-4522-94C2-D9D01FFE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E206-8C21-43C5-8070-17855B65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4435-6E44-427C-9897-A8CD4386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E817-3421-43D1-B8A4-FC68A9F9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902D-8346-4464-A179-6C1C2C92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BCAD-C015-4A04-BAA9-81C4FD24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95EF-31AB-46DC-8A81-B5038628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FB0-5CAB-475E-B64F-565FEE8F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0DC4-B66C-4CD7-B8E3-31BCE8ED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40D6-3384-4921-A200-10258B87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197C-BF5F-4764-B77A-68EC7B34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A0BA-C83A-4DA0-AE35-5B2BF90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BC8A-BE5F-44AF-A3A0-BE85A4F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7CD4-4EB5-4940-843D-0B8E16C9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1C60C-014A-4914-86EF-F363630E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4AEE-07E1-4BFD-B0AE-32D47B9A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84B1-21FB-470E-A065-3077FD77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C943-561F-4126-A471-59127714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D19-7134-44BB-9672-67B2CEF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D1B9-3A40-446D-AD11-E44C466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7321B-0336-4A04-8CB0-8712E7C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3F1D4-DB6D-4248-A864-FCBD47F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B5801-EA4B-4928-B131-0C5BD29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5898-780B-4386-BEC7-69C17083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153D-F065-47E8-919F-46987469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CEF1-4E87-4B1B-A1D2-CE9A27C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2600-9953-49C7-8B69-7C12B22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D6041-5076-4E92-8026-2CE7812B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43D8-3631-4DF1-828D-A0819DBE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6D8-9126-4443-A0EA-DF63E40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F9A8-6681-44D1-ADFF-A86A76D8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AEB8-ECC3-46C4-B4C4-95750FC4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6351-2E11-4A05-BEBB-1DE50DC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1030D-3D7F-4923-9CFA-7FE0C158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40E7-7882-4865-A62B-DEB7F43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68C8-A47F-47E0-AF1F-FD513A3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01E1-2048-4843-9F4D-DC4DE9BC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55C08-C294-4B43-AAE2-50686D90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95A1A-65CE-4A7E-8585-FB48551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C484-5973-4F92-80D3-929E065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DF4-EE5B-4783-8916-C143C9A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CB28-EBEC-4C01-8363-65EED115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34FC-2778-4CB0-85C9-4B53FDEF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E2DB-AD6B-43D7-A9C8-7EFEB71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6E9-5399-4A7E-8352-A323C1A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D4B-9E6E-4DBA-B27C-5C77D36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C6D-656F-4A65-B023-323E03DED6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9563-3859-412B-9D0A-5E4C74F374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98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1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C66-0EF4-4026-8241-0E26CFBCF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49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52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CC2F-5417-48D1-BB22-91E876ED7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98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9D40-15BF-46ED-A46F-CB6599ED6AF8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44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8599-CE6F-470E-BB50-75887EFF6CF9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403280" y="1844640"/>
            <a:ext cx="7272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Кухонные электроприбо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148000" y="2565360"/>
            <a:ext cx="35384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Что это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нтересн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ясо пригото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ома и везд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620640"/>
            <a:ext cx="3527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ндю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755640" y="-348444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50"/>
                            </p:stCondLst>
                            <p:childTnLst>
                              <p:par>
                                <p:cTn id="2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5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300"/>
                            </p:stCondLst>
                            <p:childTnLst>
                              <p:par>
                                <p:cTn id="2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00"/>
                            </p:stCondLst>
                            <p:childTnLst>
                              <p:par>
                                <p:cTn id="3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15237 L -0.00382 0.94937 E">
                                      <p:cBhvr>
                                        <p:cTn id="30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356000" y="3357360"/>
            <a:ext cx="433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Яйца ва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Вкус вам дар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рям как паров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Наша яйцева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87280" y="620640"/>
            <a:ext cx="43927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йцевар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26636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736 0.10497 L -5.55556E-007 4.39306E-006 E">
                                      <p:cBhvr>
                                        <p:cTn id="325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15640" y="3645000"/>
            <a:ext cx="482436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Если хочешь ты бли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То возьми, ведь он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 блиннице поджари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сем он вам понра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 rot="373800">
            <a:off x="1619280" y="404280"/>
            <a:ext cx="374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02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инниц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02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0338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9612360" y="765000"/>
            <a:ext cx="1008000" cy="1513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9144000" y="2997360"/>
            <a:ext cx="21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ясоруб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116000" y="6858000"/>
            <a:ext cx="990720" cy="1428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1835280" y="7893000"/>
            <a:ext cx="157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кс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9144000" y="6669000"/>
            <a:ext cx="1303200" cy="194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-571680"/>
            <a:ext cx="237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лебопечк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-1285920" y="29973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-3486240" y="476280"/>
            <a:ext cx="348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оковыжима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13727 C -0.03559 0.04491 -0.1066 -0.04722 -0.16771 0.00208 C -0.22882 0.05116 -0.29774 0.36782 -0.33125 0.4331 C -0.36476 0.49861 -0.3651 0.3956 -0.36927 0.39537 C -0.37344 0.39514 -0.35156 0.4169 -0.3566 0.43102 C -0.36163 0.44514 -0.3974 0.47477 -0.39948 0.47963 C -0.40156 0.48449 -0.38542 0.47245 -0.36927 0.46065 E">
                                      <p:cBhvr>
                                        <p:cTn id="36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39 0.04907 C 0.00312 -0.04375 -0.01615 -0.13635 -0.06198 -0.11158 C -0.10764 -0.08658 -0.19862 0.11898 -0.25157 0.19861 C -0.30469 0.27777 -0.35487 0.33449 -0.38021 0.36643 C -0.40539 0.39884 -0.40452 0.39537 -0.4033 0.39212 E">
                                      <p:cBhvr>
                                        <p:cTn id="365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-0.00695 -0.13473 -0.01372 -0.26899 0.02396 -0.36806 C 0.06163 -0.4669 0.21632 -0.52153 0.22552 -0.59399 C 0.23472 -0.66667 0.01371 -0.75348 0.07951 -0.80324 C 0.14531 -0.85324 0.52378 -0.87871 0.62066 -0.89422 C 0.71753 -0.90973 0.65382 -0.89561 0.66042 -0.8963 E">
                                      <p:cBhvr>
                                        <p:cTn id="368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C -0.05782 -0.14421 -0.11563 -0.28842 -0.09202 -0.39328 C -0.06841 -0.49791 0.11805 -0.54467 0.14132 -0.62801 C 0.16458 -0.71111 -0.01042 -0.85625 0.04757 -0.89213 C 0.10555 -0.92801 0.41371 -0.85139 0.48889 -0.84352 C 0.56406 -0.83541 0.53125 -0.83958 0.49843 -0.84352 E">
                                      <p:cBhvr>
                                        <p:cTn id="371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06011 C -0.1092 -0.18266 -0.13906 -0.3052 -0.22986 -0.31792 C -0.32066 -0.33063 -0.53316 -0.12763 -0.62361 -0.13618 C -0.71406 -0.14474 -0.7474 -0.32763 -0.77274 -0.36878 C -0.79809 -0.40994 -0.77587 -0.38266 -0.77587 -0.38358 E">
                                      <p:cBhvr>
                                        <p:cTn id="37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5 0.05017 C 0.06198 0.1274 -0.00643 0.20486 0.01788 0.32879 C 0.04219 0.45295 0.24184 0.68994 0.27673 0.79422 C 0.31163 0.89827 0.23559 0.9274 0.22743 0.95491 E">
                                      <p:cBhvr>
                                        <p:cTn id="37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22 0.04399 C 0.05017 -0.20902 0.0033 -0.46203 0.11944 -0.52453 C 0.23559 -0.58726 0.72951 -0.39884 0.79409 -0.33217 C 0.85868 -0.26574 0.55469 -0.15879 0.50677 -0.12546 E">
                                      <p:cBhvr>
                                        <p:cTn id="38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78 0.07731 C 0.05573 0.17685 0.05886 0.27685 0.15678 0.27963 C 0.25452 0.28241 0.56025 0.12477 0.64098 0.09398 E">
                                      <p:cBhvr>
                                        <p:cTn id="383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619280" y="765000"/>
            <a:ext cx="3313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йни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-58680" y="7101000"/>
            <a:ext cx="2203560" cy="2232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403280" y="2636640"/>
            <a:ext cx="481032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Чай хотите вы поп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Нужно чайник вскипя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Сам отключится у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И чай будет просто клас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45526 L 0.71459 -0.47699 E">
                                      <p:cBhvr>
                                        <p:cTn id="3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554508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Если кушать захот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ечку быстренько включ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экономит времеч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Крутая наша пече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03280" y="54936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еч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8527" t="0" r="12969" b="0"/>
          <a:stretch/>
        </p:blipFill>
        <p:spPr>
          <a:xfrm>
            <a:off x="6012000" y="2349360"/>
            <a:ext cx="266364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5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85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2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76720" y="2636640"/>
            <a:ext cx="56023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Продукты замороз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И срок хранения прод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Такой большой, такой 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Наш холодильник Индез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258920" y="549360"/>
            <a:ext cx="518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олодильник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rcRect l="20020" t="0" r="19987" b="0"/>
          <a:stretch/>
        </p:blipFill>
        <p:spPr>
          <a:xfrm>
            <a:off x="611280" y="2205000"/>
            <a:ext cx="259236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1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900000" y="2060280"/>
            <a:ext cx="408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н смешает и поре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вощи и фрук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И поможет каждый ра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Вам всегда на кух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58920" y="476280"/>
            <a:ext cx="48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хонный комбай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995640" y="3060720"/>
            <a:ext cx="4397400" cy="28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484000" y="2637000"/>
            <a:ext cx="496908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Утро трудное у в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Знаю я, что дел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Не поможет утром к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Нужно выпить вам сейч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Кофе – это д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55640" y="549360"/>
            <a:ext cx="6335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фемолка и кофевар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4283" r="7978" b="0"/>
          <a:stretch/>
        </p:blipFill>
        <p:spPr>
          <a:xfrm>
            <a:off x="6431040" y="3573360"/>
            <a:ext cx="2462040" cy="3284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1689120" cy="23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547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рубит, и смеш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зобьет и помо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ндер лучший друг для н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может вам сей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332000" y="54936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ленд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ff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30976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1773000"/>
            <a:ext cx="46659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сли мяса вы хот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леко в лес не ход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осто вы ее включ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 шашлык свой получ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332000" y="692280"/>
            <a:ext cx="46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ашлычниц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887640" cy="28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140000" y="1989000"/>
            <a:ext cx="43909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Вы мороженое хот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То мороженицу куп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И в жару и в х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Не будет страшен г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6920" y="549360"/>
            <a:ext cx="612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Мороже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808360" cy="232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8:33:19Z</dcterms:created>
  <dc:creator>zzz</dc:creator>
  <dc:description/>
  <dc:language>en-US</dc:language>
  <cp:lastModifiedBy>User</cp:lastModifiedBy>
  <dcterms:modified xsi:type="dcterms:W3CDTF">2007-03-22T11:02:28Z</dcterms:modified>
  <cp:revision>17</cp:revision>
  <dc:subject/>
  <dc:title>Слайд 1</dc:title>
</cp:coreProperties>
</file>