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png" ContentType="image/png"/>
  <Override PartName="/ppt/media/image31.jpeg" ContentType="image/jpeg"/>
  <Override PartName="/ppt/media/image3.png" ContentType="image/png"/>
  <Override PartName="/ppt/media/image4.png" ContentType="image/png"/>
  <Override PartName="/ppt/media/image27.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28.jpeg" ContentType="image/jpeg"/>
  <Override PartName="/ppt/media/image7.jpeg" ContentType="image/jpeg"/>
  <Override PartName="/ppt/media/image30.jpeg" ContentType="image/jpeg"/>
  <Override PartName="/ppt/media/image24.jpeg" ContentType="image/jpe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A715C-F201-4981-B8C9-170C50733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A07F2-9BB9-4334-8D4C-CC0DE7608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F3DF4-5AC8-492C-97AA-49B31AFEC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B8545-FED8-499F-ACC6-FE4664102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EEB7-2D51-4B3B-BB63-58CCEC623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E8F5F-513F-4692-AFAF-3756D041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62AF3-A408-47E2-B0CC-EF22CA3A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E4C84-7146-4257-8DFE-A61DDEE41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52F4E-9805-4328-8D79-7D51C3DC8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F9287-135C-488B-AB1C-38B6EBC5A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4087-FD34-462B-80EC-59CF4E5AD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9A05-8FEE-4E52-9457-7206DCC86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0803-2960-4749-BE6D-D0A436BC3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slide" Target="slide15.xm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24.jpeg"/><Relationship Id="rId3" Type="http://schemas.openxmlformats.org/officeDocument/2006/relationships/slide" Target="slide26.xm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25.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Здравствуйте!</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1676160"/>
            <a:ext cx="6400800" cy="37335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рады видеть Вас на кухне команды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варки1. Наш игровой номер- </a:t>
            </a:r>
            <a:r>
              <a:rPr b="0" lang="ru-RU" sz="2400" spc="-1" strike="noStrike">
                <a:solidFill>
                  <a:srgbClr val="009999"/>
                </a:solidFill>
                <a:latin typeface="Arial"/>
              </a:rPr>
              <a:t>7</a:t>
            </a:r>
            <a:r>
              <a:rPr b="0" lang="en-US" sz="2400" spc="-1" strike="noStrike">
                <a:solidFill>
                  <a:srgbClr val="009999"/>
                </a:solidFill>
                <a:latin typeface="Arial"/>
              </a:rPr>
              <a:t>f58</a:t>
            </a:r>
            <a:r>
              <a:rPr b="0" lang="ru-RU" sz="2400" spc="-1" strike="noStrike">
                <a:solidFill>
                  <a:srgbClr val="009999"/>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ьно пользуясь нашей кухней Вы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ете как изобрели выбранный Вами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бор и как он работает.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что то узнать про электроприбор-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щелкайте по нему мышкой.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9999"/>
                </a:solidFill>
                <a:latin typeface="Arial"/>
              </a:rPr>
              <a:t>Приятного просмотра!</a:t>
            </a:r>
            <a:r>
              <a:rPr b="0" lang="ru-RU" sz="2400" spc="-1" strike="noStrike">
                <a:solidFill>
                  <a:srgbClr val="000000"/>
                </a:solidFill>
                <a:latin typeface="Arial"/>
              </a:rPr>
              <a:t>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txBox="1"/>
          <p:nvPr/>
        </p:nvSpPr>
        <p:spPr>
          <a:xfrm>
            <a:off x="3276720" y="5715000"/>
            <a:ext cx="259056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На кухню...</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1600200" y="1676520"/>
            <a:ext cx="56008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Посуда для микроволновк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8" name=""/>
          <p:cNvSpPr txBox="1"/>
          <p:nvPr/>
        </p:nvSpPr>
        <p:spPr>
          <a:xfrm>
            <a:off x="2057400" y="2743200"/>
            <a:ext cx="4610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Что такое микроволны</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9" name=""/>
          <p:cNvSpPr txBox="1"/>
          <p:nvPr/>
        </p:nvSpPr>
        <p:spPr>
          <a:xfrm>
            <a:off x="1600200" y="3962520"/>
            <a:ext cx="55468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Три мифа о микроволновке</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80" name=""/>
          <p:cNvSpPr txBox="1"/>
          <p:nvPr/>
        </p:nvSpPr>
        <p:spPr>
          <a:xfrm>
            <a:off x="1371600" y="5105520"/>
            <a:ext cx="5997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Откуда берутся микроволны?</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81" name=""/>
          <p:cNvSpPr txBox="1"/>
          <p:nvPr/>
        </p:nvSpPr>
        <p:spPr>
          <a:xfrm>
            <a:off x="3962520" y="6172200"/>
            <a:ext cx="131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Назад</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066680" y="1766520"/>
            <a:ext cx="7239240" cy="4291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ьем воды в электрический чайник и включим его в сеть. Казалось бы, нехитрая операция,  а сколько физических явлений можно понаблюдать. Конечно же, за счет того, что электрическая спираль нагревателя обладает сопротивлением, происходит разогрев проводника, из которого изготовлена эта самая спираль. Как правило, материалом для изготовления спирали служит сплав никеля и хрома – нихром. Но не будем углубляться в физику сплавов. Посмотрим, что происходит с чаем  дальше. А дальше нагреватель передает тепло окружающей его среде – воде. Вода нагревается, теплые потоки ее устремляются вверх, а мы на этом примере можем рассказать о конвекции, физическом явлении, которое можно наблюдать не только в жидкостях, но и в газе: воздух, нагреваясь от батарей отопления, поднимается вверх, а на его место приходит холодный, от окна, вот оно «вечное движение».  Вода постепенно прогревается по всему объему, наверное, имеет место и диффузия – молекулы воды от нагревания «шевелятся» все быстрее и быстрее, передавая друг другу энергию (которую, мы этого не забыли, получили от нагревателя чайника). И вот наступает очередь демонстрации очередного физического явления – кипения! Еще чуть-чуть и будем пить чай! Но чайник отключается не сразу, а почему? оказывается еще не сработал отключающий электричество термодатчик – специальное устройство, использующее свойство биметаллической пластинки (то есть состоящей из двух, наложенных друг на друга пластинок из разных металлов) изгибаться под действием температуры. Ну, это, наверное, самое легко объяснимое физическое явление, когда под действием температуры металлы расширяются, а раз материалы разные, то и расширение приводит к изгибанию пластинки, так как  эти пластинки жестко соединены между собой. А вода продолжает кипеть и превращается в пар. Испарение – отрыв молекул воды с поверхности жидкости (впрочем, если расплавить металл, то и он начнет испаряться). Ура, сработал термодатчик! </a:t>
            </a:r>
            <a:endParaRPr b="0" lang="en-US" sz="1200" spc="-1" strike="noStrike">
              <a:solidFill>
                <a:srgbClr val="000000"/>
              </a:solidFill>
              <a:latin typeface="Arial"/>
            </a:endParaRPr>
          </a:p>
        </p:txBody>
      </p:sp>
      <p:sp>
        <p:nvSpPr>
          <p:cNvPr id="83" name=""/>
          <p:cNvSpPr txBox="1"/>
          <p:nvPr/>
        </p:nvSpPr>
        <p:spPr>
          <a:xfrm>
            <a:off x="2666880" y="457200"/>
            <a:ext cx="3429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работае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4" name=""/>
          <p:cNvSpPr txBox="1"/>
          <p:nvPr/>
        </p:nvSpPr>
        <p:spPr>
          <a:xfrm>
            <a:off x="7620120" y="6286680"/>
            <a:ext cx="990360" cy="571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ню</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1855080"/>
            <a:ext cx="8077320" cy="329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ует мнение, что посудомоечную машину изобрели мужчины, чтобы переложить на нее одну из самых неприятных домашних обязанностей. На самом деле посудомоечная машина — это единственный вид крупной бытовой техники, который изобрела женщин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Всемирной ярмарке 1893 г. в Чикаго всеобщее внимание привлек невиданный агрегат — машина для мыться посуды, созданная американкой Джозефиной Кокрейн. Поначалу привод машины был ручным, но неутомимая Джозефина продолжала совершенствовать свое детище, и через некоторое время ее машина обрела паровой, а затем электрический привод. А основанная ей фирма под названием Kitchen Aid со временем влилась в корпорацию Whirlpool вместе с этим брендом, популярным и по сей день. Любопытно, что домашние хозяйки поначалу отказывались признать преимущества посудомоечной машин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амым распространенным был такой довод: «Я лучше вымою посуду сама, это и так не занимает много времени». Но постепенно отношение к машинной мойке посуды изменилось: ведь современная женщина ведет активный образ жизни, и с удовольствием потратит время, не занятое мойкой посуды. А время экономится немалое: по данным немецкого журнала TEST мытье и вытирание вручную посуды в семье из 4 человек занимает 275 часов в год. </a:t>
            </a:r>
            <a:endParaRPr b="0" lang="en-US" sz="1400" spc="-1" strike="noStrike">
              <a:solidFill>
                <a:srgbClr val="000000"/>
              </a:solidFill>
              <a:latin typeface="Arial"/>
            </a:endParaRPr>
          </a:p>
        </p:txBody>
      </p:sp>
      <p:sp>
        <p:nvSpPr>
          <p:cNvPr id="86" name=""/>
          <p:cNvSpPr txBox="1"/>
          <p:nvPr/>
        </p:nvSpPr>
        <p:spPr>
          <a:xfrm>
            <a:off x="2666880" y="4572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изобрел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7" name=""/>
          <p:cNvSpPr txBox="1"/>
          <p:nvPr/>
        </p:nvSpPr>
        <p:spPr>
          <a:xfrm>
            <a:off x="7315200" y="6095880"/>
            <a:ext cx="1508040" cy="5716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88" name=""/>
          <p:cNvSpPr txBox="1"/>
          <p:nvPr/>
        </p:nvSpPr>
        <p:spPr>
          <a:xfrm>
            <a:off x="228600" y="6095880"/>
            <a:ext cx="1227240" cy="571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Схема...</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2666880" y="304920"/>
            <a:ext cx="3429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работае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90" name=""/>
          <p:cNvSpPr/>
          <p:nvPr/>
        </p:nvSpPr>
        <p:spPr>
          <a:xfrm>
            <a:off x="457200" y="1536120"/>
            <a:ext cx="8153280" cy="5115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Машина набирает из водопровода необходимое количество холодной или горячей воды. После этого уменьшает ее жесткость до заданного уровня, добавляет из специального контейнера моющее средство и подогревает полученный раствор до требуемой температуры.</a:t>
            </a:r>
            <a:br>
              <a:rPr sz="1100"/>
            </a:br>
            <a:br>
              <a:rPr sz="1100"/>
            </a:br>
            <a:r>
              <a:rPr b="1" lang="ru-RU" sz="1100" spc="-1" strike="noStrike">
                <a:solidFill>
                  <a:srgbClr val="000000"/>
                </a:solidFill>
                <a:latin typeface="Arial"/>
              </a:rPr>
              <a:t>Нагреватели.</a:t>
            </a:r>
            <a:br>
              <a:rPr sz="1100"/>
            </a:br>
            <a:r>
              <a:rPr b="0" lang="ru-RU" sz="1100" spc="-1" strike="noStrike">
                <a:solidFill>
                  <a:srgbClr val="000000"/>
                </a:solidFill>
                <a:latin typeface="Arial"/>
              </a:rPr>
              <a:t>   Все машины оснащены или трубчатыми нагревателями - тэнами, или проточными нагревателями.</a:t>
            </a:r>
            <a:br>
              <a:rPr sz="1100"/>
            </a:br>
            <a:r>
              <a:rPr b="0" lang="ru-RU" sz="1100" spc="-1" strike="noStrike">
                <a:solidFill>
                  <a:srgbClr val="000000"/>
                </a:solidFill>
                <a:latin typeface="Arial"/>
              </a:rPr>
              <a:t>   Тэновые нагреватели предназначены для погружения в жидкость (как в электрическом чайнике) и размещаются на дне моечной камеры под нижним разбрызгивателем. Проточные обычно представляют собой нагреваемую снаружи водопроводящую трубку и расположены вне моечной камеры.</a:t>
            </a:r>
            <a:br>
              <a:rPr sz="1100"/>
            </a:br>
            <a:r>
              <a:rPr b="1" lang="ru-RU" sz="1100" spc="-1" strike="noStrike">
                <a:solidFill>
                  <a:srgbClr val="000000"/>
                </a:solidFill>
                <a:latin typeface="Arial"/>
              </a:rPr>
              <a:t>Способы сушки</a:t>
            </a:r>
            <a:br>
              <a:rPr sz="1100"/>
            </a:br>
            <a:r>
              <a:rPr b="0" lang="ru-RU" sz="1100" spc="-1" strike="noStrike">
                <a:solidFill>
                  <a:srgbClr val="000000"/>
                </a:solidFill>
                <a:latin typeface="Arial"/>
              </a:rPr>
              <a:t>   Теперь остается лишь высушить посуду, что машины делают различными способами. Традиционный, самый простой и дешевый: </a:t>
            </a:r>
            <a:br>
              <a:rPr sz="1100"/>
            </a:br>
            <a:r>
              <a:rPr b="0" lang="ru-RU" sz="1100" spc="-1" strike="noStrike">
                <a:solidFill>
                  <a:srgbClr val="000000"/>
                </a:solidFill>
                <a:latin typeface="Arial"/>
              </a:rPr>
              <a:t>   Влага испаряется с поверхности теплой посуды, конденсируется на холодных стенках камеры, стекает на ее дно и отводится в сток. </a:t>
            </a:r>
            <a:br>
              <a:rPr sz="1100"/>
            </a:br>
            <a:r>
              <a:rPr b="0" lang="ru-RU" sz="1100" spc="-1" strike="noStrike">
                <a:solidFill>
                  <a:srgbClr val="000000"/>
                </a:solidFill>
                <a:latin typeface="Arial"/>
              </a:rPr>
              <a:t>  Turbo Dr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r>
              <a:rPr b="0" lang="ru-RU" sz="1100" spc="-1" strike="noStrike">
                <a:solidFill>
                  <a:srgbClr val="000000"/>
                </a:solidFill>
                <a:latin typeface="Arial"/>
              </a:rPr>
              <a:t>Машины оснащены системой Turbo Dry, с помощью которой воздух моечной камеры подогревается и обдувает посуду по принципу фена. Конденсирующаяся на стенках камеры влага отводится в дренаж. Для ускорения сушки влажный воздух может откачиваться из камеры.</a:t>
            </a:r>
            <a:br>
              <a:rPr sz="1100"/>
            </a:br>
            <a:r>
              <a:rPr b="0" lang="ru-RU" sz="1100" spc="-1" strike="noStrike">
                <a:solidFill>
                  <a:srgbClr val="000000"/>
                </a:solidFill>
                <a:latin typeface="Arial"/>
              </a:rPr>
              <a:t>   Еще один вариант - подача в нее сухого комнатного воздуха. При этом большая часть влаги конденсируется в машине и отводится в слив. </a:t>
            </a:r>
            <a:br>
              <a:rPr sz="1100"/>
            </a:br>
            <a:r>
              <a:rPr b="1" lang="ru-RU" sz="1100" spc="-1" strike="noStrike">
                <a:solidFill>
                  <a:srgbClr val="000000"/>
                </a:solidFill>
                <a:latin typeface="Arial"/>
              </a:rPr>
              <a:t>Подача воздуха</a:t>
            </a:r>
            <a:br>
              <a:rPr sz="1100"/>
            </a:br>
            <a:r>
              <a:rPr b="0" lang="ru-RU" sz="1100" spc="-1" strike="noStrike">
                <a:solidFill>
                  <a:srgbClr val="000000"/>
                </a:solidFill>
                <a:latin typeface="Arial"/>
              </a:rPr>
              <a:t>   Но следует уточнить, откуда подается воздух. Дело в том, что большинство посудомоечных машин подают воздух из пространства между задней стенкой агрегата и стеной - представляете, сколько пыли будет подаваться на чистую посуду?! </a:t>
            </a:r>
            <a:br>
              <a:rPr sz="1100"/>
            </a:br>
            <a:r>
              <a:rPr b="0" lang="ru-RU" sz="1100" spc="-1" strike="noStrike">
                <a:solidFill>
                  <a:srgbClr val="000000"/>
                </a:solidFill>
                <a:latin typeface="Arial"/>
              </a:rPr>
              <a:t>   Чтобы этого не случилось, убедитесь, что на пути загрязненного воздуха стоит надежный фильтр. Быстрее других сушат посуду машины с теплообменником. На этапе сушке в теплообменник заливается холодная вода из водопровода, и горячий влажный воздух конденсируется на холодной стенке моечной камеры, влага затем стекает в дренаж. Сушка происходит в замкнутом объеме без забора воздуха извне.</a:t>
            </a:r>
            <a:br>
              <a:rPr sz="1100"/>
            </a:br>
            <a:r>
              <a:rPr b="0" lang="ru-RU" sz="1100" spc="-1" strike="noStrike">
                <a:solidFill>
                  <a:srgbClr val="000000"/>
                </a:solidFill>
                <a:latin typeface="Arial"/>
              </a:rPr>
              <a:t>   Кроме этого, теплообменник предотвращает скачки температуры на этапах залива холодной воды и способствует тому, что посуда не испытывает "температурного шока". </a:t>
            </a:r>
            <a:endParaRPr b="0" lang="en-US" sz="1100" spc="-1" strike="noStrike">
              <a:solidFill>
                <a:srgbClr val="000000"/>
              </a:solidFill>
              <a:latin typeface="Arial"/>
            </a:endParaRPr>
          </a:p>
        </p:txBody>
      </p:sp>
      <p:sp>
        <p:nvSpPr>
          <p:cNvPr id="91" name=""/>
          <p:cNvSpPr txBox="1"/>
          <p:nvPr/>
        </p:nvSpPr>
        <p:spPr>
          <a:xfrm>
            <a:off x="8153280" y="6515280"/>
            <a:ext cx="762120" cy="342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ню</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Посудомоечная машина"/>
          <p:cNvPicPr/>
          <p:nvPr/>
        </p:nvPicPr>
        <p:blipFill>
          <a:blip r:embed="rId1"/>
          <a:stretch/>
        </p:blipFill>
        <p:spPr>
          <a:xfrm>
            <a:off x="1981080" y="1676520"/>
            <a:ext cx="4496040" cy="4016160"/>
          </a:xfrm>
          <a:prstGeom prst="rect">
            <a:avLst/>
          </a:prstGeom>
          <a:ln w="0">
            <a:noFill/>
          </a:ln>
        </p:spPr>
      </p:pic>
      <p:sp>
        <p:nvSpPr>
          <p:cNvPr id="93" name=""/>
          <p:cNvSpPr txBox="1"/>
          <p:nvPr/>
        </p:nvSpPr>
        <p:spPr>
          <a:xfrm>
            <a:off x="1981080" y="609480"/>
            <a:ext cx="516600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осудомоечная машина</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4" name=""/>
          <p:cNvSpPr/>
          <p:nvPr/>
        </p:nvSpPr>
        <p:spPr>
          <a:xfrm>
            <a:off x="1371600" y="5913360"/>
            <a:ext cx="693432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удомоечная машина: 1 — передняя стенка (открыта), 2 — дозатор, 3 — воздушный тракт системы сушки, 4 — верхняя корзина, 5 — нижняя корзина, 6 — корзинка для столовых приборов, 7 — верхнее коромысло, 8 — нижнее коромысло, 9 — нагнетательный насос, 10 — фильтр</a:t>
            </a:r>
            <a:endParaRPr b="0" lang="en-US" sz="1400" spc="-1" strike="noStrike">
              <a:solidFill>
                <a:srgbClr val="000000"/>
              </a:solidFill>
              <a:latin typeface="Arial"/>
            </a:endParaRPr>
          </a:p>
        </p:txBody>
      </p:sp>
      <p:sp>
        <p:nvSpPr>
          <p:cNvPr id="95" name=""/>
          <p:cNvSpPr txBox="1"/>
          <p:nvPr/>
        </p:nvSpPr>
        <p:spPr>
          <a:xfrm>
            <a:off x="0" y="6286680"/>
            <a:ext cx="10666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азад</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666880" y="4572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изобрел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97" name=""/>
          <p:cNvSpPr/>
          <p:nvPr/>
        </p:nvSpPr>
        <p:spPr>
          <a:xfrm>
            <a:off x="228600" y="1901520"/>
            <a:ext cx="8915400" cy="30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тца» холодильника зовут Джон Горри. По специальности он был врачом, по призванию – изобретателем.</a:t>
            </a:r>
            <a:br>
              <a:rPr sz="1400"/>
            </a:br>
            <a:r>
              <a:rPr b="0" lang="ru-RU" sz="1400" spc="-1" strike="noStrike">
                <a:solidFill>
                  <a:srgbClr val="000000"/>
                </a:solidFill>
                <a:latin typeface="Arial"/>
              </a:rPr>
              <a:t>Дело было в 19 веке. Американский доктор ухаживал за больными, страдающими желтой лихорадкой. Пациенты мучались от жара и недостатка прохладного воздуха. Тогда то Джог Горри и построил первый в мире аппарат для охлаждения воздуха.</a:t>
            </a:r>
            <a:br>
              <a:rPr sz="1400"/>
            </a:br>
            <a:r>
              <a:rPr b="0" lang="ru-RU" sz="1400" spc="-1" strike="noStrike">
                <a:solidFill>
                  <a:srgbClr val="000000"/>
                </a:solidFill>
                <a:latin typeface="Arial"/>
              </a:rPr>
              <a:t>Изобретатель открыл основной принцип работы холодильных установок – Сжатый компрессором воздух охлаждается при расширении, когда проходит через змеевик.</a:t>
            </a:r>
            <a:br>
              <a:rPr sz="1400"/>
            </a:br>
            <a:r>
              <a:rPr b="0" lang="ru-RU" sz="1400" spc="-1" strike="noStrike">
                <a:solidFill>
                  <a:srgbClr val="000000"/>
                </a:solidFill>
                <a:latin typeface="Arial"/>
              </a:rPr>
              <a:t>Вдохновленный инженерными успехами, Горри забросил врачебную практику и все время посвятил конструкторской деятельности. Он получил первый в мире патент на изобретение холодильника. Доходов, изобретение, правда, не приносило. Так что Джону Горри пришлось вернуться к своему прежнему занятию – врачеванию.</a:t>
            </a:r>
            <a:br>
              <a:rPr sz="1400"/>
            </a:br>
            <a:r>
              <a:rPr b="0" lang="ru-RU" sz="1400" spc="-1" strike="noStrike">
                <a:solidFill>
                  <a:srgbClr val="000000"/>
                </a:solidFill>
                <a:latin typeface="Arial"/>
              </a:rPr>
              <a:t>Теперь ни один современный человек не может представить без холодильника нормальной жизни. Холодильник стал необходимой составляющей комфортного быта.</a:t>
            </a:r>
            <a:br>
              <a:rPr sz="1400"/>
            </a:br>
            <a:endParaRPr b="0" lang="en-US" sz="1400" spc="-1" strike="noStrike">
              <a:solidFill>
                <a:srgbClr val="000000"/>
              </a:solidFill>
              <a:latin typeface="Arial"/>
            </a:endParaRPr>
          </a:p>
        </p:txBody>
      </p:sp>
      <p:sp>
        <p:nvSpPr>
          <p:cNvPr id="98" name=""/>
          <p:cNvSpPr txBox="1"/>
          <p:nvPr/>
        </p:nvSpPr>
        <p:spPr>
          <a:xfrm>
            <a:off x="7162920" y="6019920"/>
            <a:ext cx="1508040" cy="571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99" name=""/>
          <p:cNvSpPr txBox="1"/>
          <p:nvPr/>
        </p:nvSpPr>
        <p:spPr>
          <a:xfrm>
            <a:off x="304920" y="6019920"/>
            <a:ext cx="2057400" cy="533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Интересн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 том, как изобретение холодильника уничтожило индустрию по продаже льд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известное открытие Эйнштейна: Холодильник, который работает на спирт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7391520" y="6019920"/>
            <a:ext cx="1218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223920"/>
            <a:ext cx="9144000" cy="435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наменитый ученый Альберт Эйнштейн широко известен своим открытием теории относительности. Но он сделал еще одно изобретение - холодильник, который работает на спирте. Как отмечает издание, это говорит о том, что великий ученый был не только теоретиком, но и практиком, который не был оторван от реальной жизн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йнштейн родился в купеческой семье, и он знал цену денег, так как должен был унаследовать семейный бизнес", - говорит Юрген Ренн из берлинского института Max-Plank Instit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льберт Эйнштейн создал свою теорию относительности в 1905 году, когда он работал клерком в швейцарском патентном бюро. Холодильник он изобрел позднее, уже в 1926 году, когда получил Нобелевскую премию и жил в Берлин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еный изобрел свой холодильник после того, как прочел в газете о случае, произошедшем с одной берлинской семьей. Члены этой семьи получили отравление из-за неисправности холодильника, из которого произошла утечка диоксида сер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месте с физиком Лео Сцилардом Эйнштейн создал холодильник, в котором использовалось спиртовое топливо, которое не может стать причиной подобных отравлени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йнштейн получил патент на свое изобретение, но его модель холодильника никогда не была запущена в производство. Единственный созданный такой холодильник бесследно исчез, осталось лишь несколько его фотографи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следующем году в Германии будут отмечать две даты, связанные с Эйнштейном, - столетие теории относительности и 50 лет со дня смерти этого великого физика, отмечае. </a:t>
            </a:r>
            <a:endParaRPr b="0" lang="en-US" sz="1400" spc="-1" strike="noStrike">
              <a:solidFill>
                <a:srgbClr val="000000"/>
              </a:solidFill>
              <a:latin typeface="Arial"/>
            </a:endParaRPr>
          </a:p>
        </p:txBody>
      </p:sp>
      <p:pic>
        <p:nvPicPr>
          <p:cNvPr id="103" name="" descr=""/>
          <p:cNvPicPr/>
          <p:nvPr/>
        </p:nvPicPr>
        <p:blipFill>
          <a:blip r:embed="rId1"/>
          <a:stretch/>
        </p:blipFill>
        <p:spPr>
          <a:xfrm>
            <a:off x="3581280" y="5029200"/>
            <a:ext cx="1505160" cy="1123920"/>
          </a:xfrm>
          <a:prstGeom prst="rect">
            <a:avLst/>
          </a:prstGeom>
          <a:ln w="0">
            <a:noFill/>
          </a:ln>
        </p:spPr>
      </p:pic>
      <p:sp>
        <p:nvSpPr>
          <p:cNvPr id="104" name=""/>
          <p:cNvSpPr txBox="1"/>
          <p:nvPr/>
        </p:nvSpPr>
        <p:spPr>
          <a:xfrm>
            <a:off x="7543800" y="6286680"/>
            <a:ext cx="12193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Назад</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88920"/>
            <a:ext cx="9144000" cy="6299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14 июля 1850 года американский врач Джон Гори впервые продемонстрировал процесс получения искусственного льда в созданном им аппарате. В своем изобретении он использовал технологию компрессионного цикла, которая применяется в современных холодильниках, а сам аппарат мог служить одновременно морозильником и кондиционером. Сам изобретатель умер, не дождавшись начала производства холодильника своей разработки, и не стал свидетелем того, как его детище уничтожило огромную индустрию.</a:t>
            </a:r>
            <a:br>
              <a:rPr sz="1200"/>
            </a:br>
            <a:r>
              <a:rPr b="0" lang="ru-RU" sz="1200" spc="-1" strike="noStrike">
                <a:solidFill>
                  <a:srgbClr val="000000"/>
                </a:solidFill>
                <a:latin typeface="Arial"/>
              </a:rPr>
              <a:t>Америка всегда была знаменита своими чудачествами, превращавшимися в образ жизни народа и источник немалых доходов для отдельных его представителей. Одним из таких чудачеств стала торговля льдом. Предназначался он, в отличие от Европы, не столько для хранения продуктов, сколько для подтверждения имиджа переселенцев, которым море по колено, а уж лед в пустыне — это вообще дело обычное. Русские иммигранты, тоже кое-что понимавшие в деле добычи подснежников среди зимы, сорвали неплохой куш с замерзшей воды. В 1851 году договор на поставку 250 тонн льда по цене $75 за тонну был заключен с главным правителем русских колоний Николаем Розенбергом. Затраты на "добычу" тонны льда составляли около $2,5, таким образом, чистая прибыль компании по этому контракту составила $18 125.</a:t>
            </a:r>
            <a:br>
              <a:rPr sz="1200"/>
            </a:br>
            <a:r>
              <a:rPr b="0" lang="ru-RU" sz="1200" spc="-1" strike="noStrike">
                <a:solidFill>
                  <a:srgbClr val="000000"/>
                </a:solidFill>
                <a:latin typeface="Arial"/>
              </a:rPr>
              <a:t>По информации консула России в Сан-Франциско, за три года с продажи льда Российско-американская компания получила $89 тыс., в то время как на золоте, в основном ради добычи которого она и была основана, ей удалось заработать 62 325 руб. 35 коп.</a:t>
            </a:r>
            <a:br>
              <a:rPr sz="1200"/>
            </a:br>
            <a:r>
              <a:rPr b="0" lang="ru-RU" sz="1200" spc="-1" strike="noStrike">
                <a:solidFill>
                  <a:srgbClr val="000000"/>
                </a:solidFill>
                <a:latin typeface="Arial"/>
              </a:rPr>
              <a:t>Бизнес этот был сверхприбыльным: розничная цена составляла 30–40 центов за фунт, принося приличную маржу на всех уровнях поставки. Американцы экспортировали лед в тропические страны, где он был приметой роскоши, поставляли его ко двору королевы Виктории, а доставкой льда на дом пользовалась практически каждая семья Нового Света. В 1860-х годах Нью-Йорк стал настолько зависимым от продажи льда, что в газетах стали появляться целые статьи, посвященные битве за ледяной "урожай". Основное производство находилось на озерах Новой Англии, где трудилось множество компаний, имевших свои квоты на добычу льда. </a:t>
            </a:r>
            <a:br>
              <a:rPr sz="1200"/>
            </a:br>
            <a:r>
              <a:rPr b="0" lang="ru-RU" sz="1200" spc="-1" strike="noStrike">
                <a:solidFill>
                  <a:srgbClr val="000000"/>
                </a:solidFill>
                <a:latin typeface="Arial"/>
              </a:rPr>
              <a:t>Поначалу все изыскания в области производства холодильных машин упирались в монополию продавцов натурального льда — конструировать рефрижераторы было невыгодно. Однако по мере расширения городов, которые загрязняли источники чистого льда, и роста спроса вместе с ростом населения наметился дефицит натурального продукта.</a:t>
            </a:r>
            <a:br>
              <a:rPr sz="1200"/>
            </a:br>
            <a:r>
              <a:rPr b="0" lang="ru-RU" sz="1200" spc="-1" strike="noStrike">
                <a:solidFill>
                  <a:srgbClr val="000000"/>
                </a:solidFill>
                <a:latin typeface="Arial"/>
              </a:rPr>
              <a:t>Кроме того, в те годы люди опасались эпидемии тифа, один или два случая которого были вызваны именно грязным льдом. В этих условиях у инвесторов появился стимул вкладывать деньги в промышленное производство льда и развитие соответствующих технологий. Если бы производители искусственного льда захотели, то они могли бы полностью выдавить с рынка натуральный лед уже в 1860-х годах с помощью рефрижератора Гори. Однако в то время они еще не считали подобную затею выгодной. </a:t>
            </a:r>
            <a:br>
              <a:rPr sz="1200"/>
            </a:br>
            <a:r>
              <a:rPr b="0" lang="ru-RU" sz="1200" spc="-1" strike="noStrike">
                <a:solidFill>
                  <a:srgbClr val="000000"/>
                </a:solidFill>
                <a:latin typeface="Arial"/>
              </a:rPr>
              <a:t>Конкуренция между натуральным и искусственным льдом продолжалась до первой мировой войны. После нее еще некоторое время компании, осуществлявшие доставку льда на дом, успешно продавали уже искусственный лед, однако в 1930-е годы на рынке появились компактные домашние электрические холодильники. Их распространение привело к окончательному уходу промышленного производства льда в прошлое. Тем не менее то, что история бизнеса по продаже натурального льда, да еще в таких масштабах, длилась столько лет, удивляет до сих пор. </a:t>
            </a:r>
            <a:endParaRPr b="0" lang="en-US" sz="1200" spc="-1" strike="noStrike">
              <a:solidFill>
                <a:srgbClr val="000000"/>
              </a:solidFill>
              <a:latin typeface="Arial"/>
            </a:endParaRPr>
          </a:p>
        </p:txBody>
      </p:sp>
      <p:sp>
        <p:nvSpPr>
          <p:cNvPr id="106" name=""/>
          <p:cNvSpPr txBox="1"/>
          <p:nvPr/>
        </p:nvSpPr>
        <p:spPr>
          <a:xfrm>
            <a:off x="7467480" y="6286680"/>
            <a:ext cx="12193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2666880" y="304920"/>
            <a:ext cx="3429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работае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08" name=""/>
          <p:cNvSpPr/>
          <p:nvPr/>
        </p:nvSpPr>
        <p:spPr>
          <a:xfrm>
            <a:off x="0" y="1367640"/>
            <a:ext cx="9144000" cy="489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ринцип работы холодильника заключается в следующем: хладагент (рабочее вещество холодильника с температурой кипения от -150 °C до -30 °C) циркулирует в замкнутом контуре, доводится до кипения при низком давлении и, испаряясь, отнимает теплоту у охлаждаемого тела. Основным хладагентом служит фреон, обладающий самой низкой температурой кипения (-150 °C). По поводу использования данного вещества в свое время было много споров о возможном нанесении вреда его фторо- и хлоросодержащими компонентами окружающей среде, в частности озоновому слою. Результатом этого стало внедрение, так называемых CFC Free технологий, то есть использование хладагентов, не содержащих данные соединения. Однако последние исследования показали, что изменения, протекающие в озоновом слое носят периодический характер и факт нанесения вреда ему не получил полного доказательства. Таким образом, выбор между моделями, где хладагентом служит фреон или другое вещество не носит принципиального характера.</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Не многие задумываются о том, что происходит с продуктами при охлаждении / замораживании. Холодильник оперирует двумя основными характеристиками: температура и влажность. Для разных продуктов эти факторы играют разное значение. Поскольку любые продукты состоят по большей части из воды, то при замораживании кристаллики льда, расширяясь, разрушают его структуру, что приводит к потере многих ценных веществ при разморозке. Однако жизненная активность в продукте практически прекращается, что, собственно, и требуется для длительного хранения. Похожая ситуация происходит и при охлаждении, когда температура не опускается ниже 0 °C, за тем лишь исключением, что жизненная активность замедляется не столь сильно, а значит в продуктах продолжают происходить процессы жизнедеятельности клеток, что в конечном результате приведет к порче. Таким образом, срок хранения продуктов при охлаждении существенно короче, нежели при заморозке, однако продукты сохраняют большую полезность и свежесть.</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овременные технологии предлагают четыре основных способа сохранения продуктов:</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тандартная морозильная камера с температурой от -12 °C до -24 °C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Холодильное отделение с температурой около 6 °C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Нулевая зона" - соответственно 0 °C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Суперзаморозка" - доведение до -36 °C за считанные минуты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Данные способы реализуются в современных холодильниках с помощью следующих функций:</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BIOFRESH</a:t>
            </a:r>
            <a:br>
              <a:rPr sz="900"/>
            </a:br>
            <a:r>
              <a:rPr b="0" lang="ru-RU" sz="900" spc="-1" strike="noStrike">
                <a:solidFill>
                  <a:srgbClr val="000000"/>
                </a:solidFill>
                <a:latin typeface="Arial"/>
              </a:rPr>
              <a:t>Технология, позволяющая создать "нулевую зону", где температура держится на уровне 0 °C не давая воде кристаллизоваться. Это позволяет существенно замедлить процессы порчи и одновременно не разрушает структуру продуктов. Данная зона является оптимальной для хранения продуктов повседневного использования, таких как сыр, колбасы, мясо, рыба и т.д. В дорогих холодильниках эта зона делится на "сухую" и "влажную", что позволяет отделить растительные продукты, которые сохраняются гораздо лучше при 95% влажность, от мясных и рыбных, которым достаточно 50%.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Суперзаморозка</a:t>
            </a:r>
            <a:br>
              <a:rPr sz="900"/>
            </a:br>
            <a:r>
              <a:rPr b="0" lang="ru-RU" sz="900" spc="-1" strike="noStrike">
                <a:solidFill>
                  <a:srgbClr val="000000"/>
                </a:solidFill>
                <a:latin typeface="Arial"/>
              </a:rPr>
              <a:t>Учеными было отмечено, что при быстрой и глубокой заморозке кристаллическая решетка воды в продукте образуется иной формы, нежели при обычной заморозке. Кристаллы воды получаются крупнее, а это позволяет отчасти сохранить вкусовые качества и микроэлементы в продукте. После такой быстрой заморозки продукт можно переложить в обычное отделение морозильника.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Организация пространства холодильника / компоновка </a:t>
            </a:r>
            <a:br>
              <a:rPr sz="900"/>
            </a:br>
            <a:r>
              <a:rPr b="0" lang="ru-RU" sz="900" spc="-1" strike="noStrike">
                <a:solidFill>
                  <a:srgbClr val="000000"/>
                </a:solidFill>
                <a:latin typeface="Arial"/>
              </a:rPr>
              <a:t>Привычные для многих холодильники с одной дверью уходят в прошлое, и встретить нечто подобное теперь вы можете либо у маленьких холодильников, либо у холодильников, стилизованных под 60-е годы, ибо такая компоновка приводит к неэффективному расходу энергии, являющимся для современных производителей одним из самых значимых параметров. Так как на восстановление необходимой температуры в морозильнике уходит гораздо больше энергии, нежели в холодильном отделении, то производители, экономя наши с Вами расходы на электричество, выпускают стандартные холодильники с отдельными дверями для разных отделений. </a:t>
            </a:r>
            <a:endParaRPr b="0" lang="en-US" sz="900" spc="-1" strike="noStrike">
              <a:solidFill>
                <a:srgbClr val="000000"/>
              </a:solidFill>
              <a:latin typeface="Arial"/>
            </a:endParaRPr>
          </a:p>
        </p:txBody>
      </p:sp>
      <p:sp>
        <p:nvSpPr>
          <p:cNvPr id="109" name=""/>
          <p:cNvSpPr txBox="1"/>
          <p:nvPr/>
        </p:nvSpPr>
        <p:spPr>
          <a:xfrm>
            <a:off x="7772400" y="6572160"/>
            <a:ext cx="99072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ню</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10" name=""/>
          <p:cNvSpPr txBox="1"/>
          <p:nvPr/>
        </p:nvSpPr>
        <p:spPr>
          <a:xfrm>
            <a:off x="228600" y="6286680"/>
            <a:ext cx="1227240" cy="571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Схема...</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7086600"/>
          </a:xfrm>
          <a:prstGeom prst="rect">
            <a:avLst/>
          </a:prstGeom>
          <a:ln w="0">
            <a:noFill/>
          </a:ln>
        </p:spPr>
      </p:pic>
      <p:sp>
        <p:nvSpPr>
          <p:cNvPr id="45" name="">
            <a:hlinkClick r:id="rId2" action="ppaction://hlinksldjump"/>
          </p:cNvPr>
          <p:cNvSpPr/>
          <p:nvPr/>
        </p:nvSpPr>
        <p:spPr>
          <a:xfrm>
            <a:off x="7315200" y="4343400"/>
            <a:ext cx="1523880" cy="1981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3" action="ppaction://hlinksldjump"/>
          </p:cNvPr>
          <p:cNvSpPr/>
          <p:nvPr/>
        </p:nvSpPr>
        <p:spPr>
          <a:xfrm>
            <a:off x="838080" y="2057400"/>
            <a:ext cx="1219320" cy="99072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rId4" action="ppaction://hlinksldjump"/>
          </p:cNvPr>
          <p:cNvSpPr/>
          <p:nvPr/>
        </p:nvSpPr>
        <p:spPr>
          <a:xfrm>
            <a:off x="1371600" y="5486400"/>
            <a:ext cx="1295280" cy="167652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rot="223200">
            <a:off x="3503520" y="5905440"/>
            <a:ext cx="2290680" cy="140976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txBox="1"/>
          <p:nvPr/>
        </p:nvSpPr>
        <p:spPr>
          <a:xfrm>
            <a:off x="8926560" y="6858000"/>
            <a:ext cx="217440" cy="1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ТР</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0" name="">
            <a:hlinkClick r:id="rId5" action="ppaction://hlinksldjump"/>
          </p:cNvPr>
          <p:cNvSpPr/>
          <p:nvPr/>
        </p:nvSpPr>
        <p:spPr>
          <a:xfrm rot="531000">
            <a:off x="356760" y="3120840"/>
            <a:ext cx="1219320" cy="40384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txBox="1"/>
          <p:nvPr/>
        </p:nvSpPr>
        <p:spPr>
          <a:xfrm>
            <a:off x="152280" y="6346800"/>
            <a:ext cx="8845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7f58</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pic>
        <p:nvPicPr>
          <p:cNvPr id="52" name="" descr=""/>
          <p:cNvPicPr/>
          <p:nvPr/>
        </p:nvPicPr>
        <p:blipFill>
          <a:blip r:embed="rId6"/>
          <a:stretch/>
        </p:blipFill>
        <p:spPr>
          <a:xfrm>
            <a:off x="6400800" y="6473880"/>
            <a:ext cx="2362320" cy="38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
          <p:cNvSpPr/>
          <p:nvPr/>
        </p:nvSpPr>
        <p:spPr>
          <a:xfrm>
            <a:off x="0" y="4190400"/>
            <a:ext cx="9144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Главная часть холодильника — холодильный агрегат — производит охлаждение основной части, рабочей камеры холодильника. Холодильный агрегат состоит из трех больших модулей, соединенных между собой системой трубопроводов: конденсатора, испарителя и компрессора, который является «сердцем» холодильника. Система холодильного агрегата замкнута, она заполнена специальным холодильным газом, в качестве которого раньше использовали фреон-12. Сейчас в качестве холодильного газа используются вещества, которые не представляют угрозу для озонового слоя земли. Схематическое устройство холодильного агрегата показано на рисунке 1.</a:t>
            </a:r>
            <a:br>
              <a:rPr sz="1200"/>
            </a:br>
            <a:br>
              <a:rPr sz="1200"/>
            </a:br>
            <a:r>
              <a:rPr b="0" lang="en-US" sz="1200" spc="-1" strike="noStrike">
                <a:solidFill>
                  <a:srgbClr val="000000"/>
                </a:solidFill>
                <a:latin typeface="Arial"/>
              </a:rPr>
              <a:t>Компрессор, снабженный электрическим мотором, выкачивает холодильный газ из испарителя, обеспечивая охлаждение его стенок. Газ нагнетается в конденсатор, где, благодаря системе радиаторов, охлаждается, переходит в жидкое состояние. Жидкий холодильный газ поступает снова в испаритель, где, под низким давлением испаряется, отдавая тепло внутренним стенкам испарителя. Благодаря непрерывному циклу, при работающем моторе обеспечивается непрерывное испарение.</a:t>
            </a:r>
            <a:br>
              <a:rPr sz="1200"/>
            </a:br>
            <a:endParaRPr b="0" lang="en-US" sz="1200" spc="-1" strike="noStrike">
              <a:solidFill>
                <a:srgbClr val="000000"/>
              </a:solidFill>
              <a:latin typeface="Arial"/>
            </a:endParaRPr>
          </a:p>
        </p:txBody>
      </p:sp>
      <p:pic>
        <p:nvPicPr>
          <p:cNvPr id="113" name="" descr="Принцип работы холодильника"/>
          <p:cNvPicPr/>
          <p:nvPr/>
        </p:nvPicPr>
        <p:blipFill>
          <a:blip r:embed="rId1"/>
          <a:stretch/>
        </p:blipFill>
        <p:spPr>
          <a:xfrm>
            <a:off x="3124080" y="990720"/>
            <a:ext cx="2381400" cy="3238560"/>
          </a:xfrm>
          <a:prstGeom prst="rect">
            <a:avLst/>
          </a:prstGeom>
          <a:ln w="0">
            <a:noFill/>
          </a:ln>
        </p:spPr>
      </p:pic>
      <p:sp>
        <p:nvSpPr>
          <p:cNvPr id="114" name=""/>
          <p:cNvSpPr txBox="1"/>
          <p:nvPr/>
        </p:nvSpPr>
        <p:spPr>
          <a:xfrm>
            <a:off x="7848720" y="6286680"/>
            <a:ext cx="990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Назад</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2666880" y="304920"/>
            <a:ext cx="3429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работае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6" name=""/>
          <p:cNvSpPr/>
          <p:nvPr/>
        </p:nvSpPr>
        <p:spPr>
          <a:xfrm>
            <a:off x="0" y="1985040"/>
            <a:ext cx="9144000" cy="201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 всех на кухне есть плита. У кого газовая, у кого электрическая. У некоторых есть обычная печь, которая топится дровами или углем, а у кого-то </a:t>
            </a:r>
            <a:r>
              <a:rPr b="1" i="1" lang="en-US" sz="1400" spc="-1" strike="noStrike" u="sng">
                <a:solidFill>
                  <a:srgbClr val="009999"/>
                </a:solidFill>
                <a:uFillTx/>
                <a:latin typeface="Arial"/>
              </a:rPr>
              <a:t>микроволновая</a:t>
            </a:r>
            <a:r>
              <a:rPr b="0" lang="en-US" sz="1400" spc="-1" strike="noStrike">
                <a:solidFill>
                  <a:srgbClr val="000000"/>
                </a:solidFill>
                <a:latin typeface="Arial"/>
              </a:rPr>
              <a:t> или </a:t>
            </a:r>
            <a:r>
              <a:rPr b="1" i="1" lang="en-US" sz="1400" spc="-1" strike="noStrike" u="sng">
                <a:solidFill>
                  <a:srgbClr val="bbe0e3"/>
                </a:solidFill>
                <a:uFillTx/>
                <a:latin typeface="Arial"/>
              </a:rPr>
              <a:t>индукционная</a:t>
            </a:r>
            <a:r>
              <a:rPr b="0" lang="en-US" sz="1400" spc="-1" strike="noStrike">
                <a:solidFill>
                  <a:srgbClr val="000000"/>
                </a:solidFill>
                <a:latin typeface="Arial"/>
              </a:rPr>
              <a:t>.  Принцип работы почти у  всех этих печей одинаков: нагревательный элемент нагревается сам и отдает тепло.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 электрических плит нагревательный элемент представляет собой спираль из материала с высоким электрическим сопротивлением. Как правило, это нихром – сплав никеля и хрома. Из этого материала наматывается спираль, а потом спираль заключается в металлическую оболочку - так она дольше прослужит без доступа кислорода. А дальше все зависит от фантазии инженеров, кто то располагает нагревательный элемент снаружи плиты и мы готовим пищу поставив посуду прямо на него, а кто то помещает нагреватель за термостойкое кварцевое стекло – так красивее, и легче отмывать плиту. </a:t>
            </a:r>
            <a:endParaRPr b="0" lang="en-US" sz="1400" spc="-1" strike="noStrike">
              <a:solidFill>
                <a:srgbClr val="000000"/>
              </a:solidFill>
              <a:latin typeface="Arial"/>
            </a:endParaRPr>
          </a:p>
        </p:txBody>
      </p:sp>
      <p:sp>
        <p:nvSpPr>
          <p:cNvPr id="117" name=""/>
          <p:cNvSpPr txBox="1"/>
          <p:nvPr/>
        </p:nvSpPr>
        <p:spPr>
          <a:xfrm>
            <a:off x="8153280" y="6515280"/>
            <a:ext cx="762120" cy="342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ню</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18" name="" descr=""/>
          <p:cNvPicPr/>
          <p:nvPr/>
        </p:nvPicPr>
        <p:blipFill>
          <a:blip r:embed="rId5"/>
          <a:stretch/>
        </p:blipFill>
        <p:spPr>
          <a:xfrm>
            <a:off x="609480" y="4572000"/>
            <a:ext cx="143676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
          <p:cNvSpPr/>
          <p:nvPr/>
        </p:nvSpPr>
        <p:spPr>
          <a:xfrm>
            <a:off x="0" y="1524240"/>
            <a:ext cx="9144000" cy="3900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Явление электромагнитной индукции было открыто Майклом Фарадеем в 1831 г. Наверное, первые опыты гениального англичанина, в которых демонстрировалось появление наведенного тока в проводнике, находящемся рядом с другим проводником тока, без прямого соприкосновения между ними, «по воздуху», многим тоже казалось цирковым трюком. Должны были пройти десятилетия, чтобы электромагнитная индукция в полную силу заработала в трансформаторах и электродвигателях, став основой мира электричества.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ервая индукционная варочная поверхность была предложена компанией AEG еще в 1987 г., но поначалу не нашла широкого применения, как из-за дороговизны, так и из-за настороженного отношения потребителей к новому принципу нагрева. Распространение индукционных кухонных приборов пошло через профессиональные каналы: ресторанный бизнес предъявлял высокие требования к качеству и скорости приготовления пищи, и затраты на приобретение столь дорогостоящего оборудования здесь были оправданы.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 стеклокерамических плитах с обычной конфоркой (спиральной, ленточной или галогенной) тепло проходит следующий путь: вначале раскаляется нагревательный элемент конфорки, затем -- зона нагрева стеклокерамического покрытия плиты, а уже от поверхности стекла нагревается дно посуды Индукционная технология нагрева отличается тем, что тепло возникает в самом дне посуды. Откуда оно там берется?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д стеклянным покрытием плиты находится медная катушка, по которой протекает высокочастотный электрический ток (рис. 3). По законам, открытым Фарадеем, магнитное поле этого тока, пронизывая дно посуды, наводит в нем -- вы уже догадались -- электрические токи. Дно кастрюли представляет собой не длинную проволоку, а диск, поэтому токи в нем ходят по кругу, а не текут «по струнке». Эти крутящиеся в дне кастрюли вихревые электрические токи и разогревают дно, а с ним и пищу.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Есть только одно условие, которое должно в буквальном смысле «железно» соблюдаться: для того, чтобы индукционная конфорка работала, дно посуды должно быть выполнено из материала с четко выраженными ферромагнитными свойствами. Проверку материалов на наличие таких свойств производил в детстве любой из нас, когда получал в руки магнит: к одним предметам он не прилипал, к другим прилипал очень охотно: это и были ферромагнитные материалы. Под большим увеличением можно было бы разглядеть в срезе такого материала области естественной намагниченности (домены). В переменном магнитном поле происходит частая смена направления намагниченности этих областей, благодаря чему в днище посуды выделяется тепло: энергия магнитного поля переходит в тепловую.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икакой передачи тепла через стеклокерамику при этом не происходит. Если по окончании готовки стекло и остается теплым, то только потому, что оно нагрелось от дна кастрюли, а не наоборот. Можно проделать интересный опыт, проложив между стеклом и посудой лист бумаги: яичница поджарится, а бумага не сгорит (рис. 6). Наиболее эффектный вариант этого опыта, который показывают некоторые демонстраторы бытовой техники, выполняется с денежной купюрой. Попробуйте сами. </a:t>
            </a:r>
            <a:endParaRPr b="0" lang="en-US" sz="1000" spc="-1" strike="noStrike">
              <a:solidFill>
                <a:srgbClr val="000000"/>
              </a:solidFill>
              <a:latin typeface="Arial"/>
            </a:endParaRPr>
          </a:p>
        </p:txBody>
      </p:sp>
      <p:sp>
        <p:nvSpPr>
          <p:cNvPr id="121" name=""/>
          <p:cNvSpPr txBox="1"/>
          <p:nvPr/>
        </p:nvSpPr>
        <p:spPr>
          <a:xfrm>
            <a:off x="2286000" y="533520"/>
            <a:ext cx="438948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Индукционная плита</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sp>
        <p:nvSpPr>
          <p:cNvPr id="122" name=""/>
          <p:cNvSpPr txBox="1"/>
          <p:nvPr/>
        </p:nvSpPr>
        <p:spPr>
          <a:xfrm>
            <a:off x="7924680" y="6324480"/>
            <a:ext cx="1036800" cy="3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Назад</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pic>
        <p:nvPicPr>
          <p:cNvPr id="123" name="" descr=""/>
          <p:cNvPicPr/>
          <p:nvPr/>
        </p:nvPicPr>
        <p:blipFill>
          <a:blip r:embed="rId1"/>
          <a:stretch/>
        </p:blipFill>
        <p:spPr>
          <a:xfrm>
            <a:off x="3733920" y="5514840"/>
            <a:ext cx="1166760" cy="134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Но это ещё не всё!</a:t>
            </a:r>
            <a:endParaRPr b="0" lang="en-US" sz="4400" spc="-1" strike="noStrike">
              <a:solidFill>
                <a:srgbClr val="000000"/>
              </a:solidFill>
              <a:latin typeface="Arial"/>
            </a:endParaRPr>
          </a:p>
        </p:txBody>
      </p:sp>
      <p:pic>
        <p:nvPicPr>
          <p:cNvPr id="125" name="" descr="">
            <a:hlinkClick r:id="rId1" action="ppaction://hlinksldjump"/>
          </p:cNvPr>
          <p:cNvPicPr/>
          <p:nvPr/>
        </p:nvPicPr>
        <p:blipFill>
          <a:blip r:embed="rId2"/>
          <a:stretch/>
        </p:blipFill>
        <p:spPr>
          <a:xfrm>
            <a:off x="0" y="2438280"/>
            <a:ext cx="2362320" cy="2362320"/>
          </a:xfrm>
          <a:prstGeom prst="rect">
            <a:avLst/>
          </a:prstGeom>
          <a:ln w="0">
            <a:noFill/>
          </a:ln>
        </p:spPr>
      </p:pic>
      <p:pic>
        <p:nvPicPr>
          <p:cNvPr id="126" name="" descr="">
            <a:hlinkClick r:id="rId3" action="ppaction://hlinksldjump"/>
          </p:cNvPr>
          <p:cNvPicPr/>
          <p:nvPr/>
        </p:nvPicPr>
        <p:blipFill>
          <a:blip r:embed="rId4"/>
          <a:stretch/>
        </p:blipFill>
        <p:spPr>
          <a:xfrm>
            <a:off x="6172200" y="2895480"/>
            <a:ext cx="2025720" cy="2438640"/>
          </a:xfrm>
          <a:prstGeom prst="rect">
            <a:avLst/>
          </a:prstGeom>
          <a:ln w="0">
            <a:noFill/>
          </a:ln>
        </p:spPr>
      </p:pic>
      <p:pic>
        <p:nvPicPr>
          <p:cNvPr id="127" name="" descr=""/>
          <p:cNvPicPr/>
          <p:nvPr/>
        </p:nvPicPr>
        <p:blipFill>
          <a:blip r:embed="rId5"/>
          <a:stretch/>
        </p:blipFill>
        <p:spPr>
          <a:xfrm>
            <a:off x="3124080" y="1219320"/>
            <a:ext cx="2514600" cy="2514600"/>
          </a:xfrm>
          <a:prstGeom prst="rect">
            <a:avLst/>
          </a:prstGeom>
          <a:ln w="0">
            <a:noFill/>
          </a:ln>
        </p:spPr>
      </p:pic>
      <p:pic>
        <p:nvPicPr>
          <p:cNvPr id="128" name="" descr=""/>
          <p:cNvPicPr/>
          <p:nvPr/>
        </p:nvPicPr>
        <p:blipFill>
          <a:blip r:embed="rId6"/>
          <a:stretch/>
        </p:blipFill>
        <p:spPr>
          <a:xfrm>
            <a:off x="2286000" y="480060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3124080" y="457200"/>
            <a:ext cx="2667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Кофеварка</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30" name=""/>
          <p:cNvSpPr/>
          <p:nvPr/>
        </p:nvSpPr>
        <p:spPr>
          <a:xfrm>
            <a:off x="0" y="1748880"/>
            <a:ext cx="883908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ловечество, искренне полюбившее бодрящий крепкий ароматный напиток под названием кофе, изобрело много видов кофеварок. Это и кофеварка эспрессо, и французский пресс, и капельные (фильтрационные), и капсульные, и комбинированные кофеварки. Все они отличаются способом приготовления напитка.</a:t>
            </a:r>
            <a:br>
              <a:rPr sz="1400"/>
            </a:br>
            <a:r>
              <a:rPr b="0" lang="ru-RU" sz="1400" spc="-1" strike="noStrike">
                <a:solidFill>
                  <a:srgbClr val="000000"/>
                </a:solidFill>
                <a:latin typeface="Arial"/>
              </a:rPr>
              <a:t>    Каково главное отличие кофеварки эспрессо от других? Прежде всего, это быстрота приготовления напитка, ведь слово «эспрессо» в современном понимании и означает «быстро», а первое его значение - «выжатый, спрессованный», тоже отражает способ приготовления кофе, так как напиток готовится под давлением, и поэтому получается крепки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офеварка эспрессо по-другому называется рожковой. Кофе засыпают в рожок, пропускают через него горячую воду (90-95 градусов С) под давлением. Эту технологию изобрел и запатентовал итальянец Луиджи Беццера в 1901 г. В то время аппарат для варки кофе был огромных размеров, которые за сто лет, конечно, уменьшились во много раз. </a:t>
            </a:r>
            <a:br>
              <a:rPr sz="1400"/>
            </a:br>
            <a:r>
              <a:rPr b="0" lang="ru-RU" sz="1400" spc="-1" strike="noStrike">
                <a:solidFill>
                  <a:srgbClr val="000000"/>
                </a:solidFill>
                <a:latin typeface="Arial"/>
              </a:rPr>
              <a:t>    Сейчас знаменитый эспрессо можно попробовать не только в кафе, получив его из рук специалиста, но и приготовить самостоятельно, даже не зная точной технологии приготовления. </a:t>
            </a:r>
            <a:endParaRPr b="0" lang="en-US" sz="1400" spc="-1" strike="noStrike">
              <a:solidFill>
                <a:srgbClr val="000000"/>
              </a:solidFill>
              <a:latin typeface="Arial"/>
            </a:endParaRPr>
          </a:p>
        </p:txBody>
      </p:sp>
      <p:pic>
        <p:nvPicPr>
          <p:cNvPr id="131" name="" descr=""/>
          <p:cNvPicPr/>
          <p:nvPr/>
        </p:nvPicPr>
        <p:blipFill>
          <a:blip r:embed="rId1"/>
          <a:stretch/>
        </p:blipFill>
        <p:spPr>
          <a:xfrm>
            <a:off x="3657600" y="5045040"/>
            <a:ext cx="1359000" cy="1812960"/>
          </a:xfrm>
          <a:prstGeom prst="rect">
            <a:avLst/>
          </a:prstGeom>
          <a:ln w="0">
            <a:noFill/>
          </a:ln>
        </p:spPr>
      </p:pic>
      <p:sp>
        <p:nvSpPr>
          <p:cNvPr id="132" name=""/>
          <p:cNvSpPr txBox="1"/>
          <p:nvPr/>
        </p:nvSpPr>
        <p:spPr>
          <a:xfrm>
            <a:off x="228600" y="61722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азад</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3505320" y="380880"/>
            <a:ext cx="1828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Тостер</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34" name=""/>
          <p:cNvSpPr/>
          <p:nvPr/>
        </p:nvSpPr>
        <p:spPr>
          <a:xfrm>
            <a:off x="0" y="1374480"/>
            <a:ext cx="9144000" cy="410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учшее, что когда-либо могло произойти с хлебом, это, пожалуй, тосты. Но, как известно, их невозможно сделать без тостера.</a:t>
            </a:r>
            <a:br>
              <a:rPr sz="1200"/>
            </a:br>
            <a:br>
              <a:rPr sz="1200"/>
            </a:br>
            <a:r>
              <a:rPr b="0" lang="ru-RU" sz="1200" spc="-1" strike="noStrike">
                <a:solidFill>
                  <a:srgbClr val="000000"/>
                </a:solidFill>
                <a:latin typeface="Arial"/>
              </a:rPr>
              <a:t>В давние времена тосты делали для того, чтобы придать вкус несвежему хлебу. Особенно это было распространено в римские времена, а слово «тостум» в переводе с латыни означает «поджаренный» или «обожжённый».</a:t>
            </a:r>
            <a:br>
              <a:rPr sz="1200"/>
            </a:br>
            <a:r>
              <a:rPr b="0" lang="ru-RU" sz="1200" spc="-1" strike="noStrike">
                <a:solidFill>
                  <a:srgbClr val="000000"/>
                </a:solidFill>
                <a:latin typeface="Arial"/>
              </a:rPr>
              <a:t>Первый же электрический тостер был изобретён в 1893 году в Великобритании «Кромптоном и Ко», а затем заново открыт в 1909 году в Америке. </a:t>
            </a:r>
            <a:br>
              <a:rPr sz="1200"/>
            </a:br>
            <a:r>
              <a:rPr b="0" lang="ru-RU" sz="1200" spc="-1" strike="noStrike">
                <a:solidFill>
                  <a:srgbClr val="000000"/>
                </a:solidFill>
                <a:latin typeface="Arial"/>
              </a:rPr>
              <a:t>Тогда хлеб поджаривался в тостере то с одной, то с другой стороны, по очереди, к тому же кто-то должен был следить за этим процессом и выключать тостер, когда хлеб был готов. </a:t>
            </a:r>
            <a:br>
              <a:rPr sz="1200"/>
            </a:br>
            <a:r>
              <a:rPr b="0" lang="ru-RU" sz="1200" spc="-1" strike="noStrike">
                <a:solidFill>
                  <a:srgbClr val="000000"/>
                </a:solidFill>
                <a:latin typeface="Arial"/>
              </a:rPr>
              <a:t>Чарльз Страйт изобрёл современный вид тостера с таймером и с автоматическим подъёмом готовых тостов в 1919 году.</a:t>
            </a:r>
            <a:br>
              <a:rPr sz="1200"/>
            </a:br>
            <a:r>
              <a:rPr b="0" lang="ru-RU" sz="1200" spc="-1" strike="noStrike">
                <a:solidFill>
                  <a:srgbClr val="000000"/>
                </a:solidFill>
                <a:latin typeface="Arial"/>
              </a:rPr>
              <a:t>Отто Фредерик Роведдер изобрёл хлеборезку, над которой он начал работать в 1912 году. В 1928 году он сконструировал аппарат, который не только нарезал, но и заворачивал хлеб в плёнку, чтобы тот не черствел. Уже в 1930 году нарезанный хлеб стал популярным, предвещая дальнейшую славу тостеров.</a:t>
            </a:r>
            <a:br>
              <a:rPr sz="1200"/>
            </a:br>
            <a:r>
              <a:rPr b="0" lang="ru-RU" sz="1200" spc="-1" strike="noStrike">
                <a:solidFill>
                  <a:srgbClr val="000000"/>
                </a:solidFill>
                <a:latin typeface="Arial"/>
              </a:rPr>
              <a:t>”Дженерал Электрик” выпустили электрический тостер в 1909 году, запатентовав его под названием «Д-12». Широко распространено мнение о том, что это был первый электрический тостер на этом рынке продаж. </a:t>
            </a:r>
            <a:br>
              <a:rPr sz="1200"/>
            </a:br>
            <a:r>
              <a:rPr b="0" lang="ru-RU" sz="1200" spc="-1" strike="noStrike">
                <a:solidFill>
                  <a:srgbClr val="000000"/>
                </a:solidFill>
                <a:latin typeface="Arial"/>
              </a:rPr>
              <a:t>Тем не менее, это не совсем так. Не все знают, что самый первый тостер был выпущен брендом «Хотпоинт»…</a:t>
            </a:r>
            <a:br>
              <a:rPr sz="1200"/>
            </a:br>
            <a:br>
              <a:rPr sz="1200"/>
            </a:br>
            <a:r>
              <a:rPr b="0" lang="ru-RU" sz="1200" spc="-1" strike="noStrike">
                <a:solidFill>
                  <a:srgbClr val="000000"/>
                </a:solidFill>
                <a:latin typeface="Arial"/>
              </a:rPr>
              <a:t>В 1925 году, используя новый дизайн тостера Страйта, «Toastmaster Company» начала выпускать на рынок первый тостер, который мог работать в домашних условиях. Теперь можно было поджаривать хлеб с обеих сторон одновременно, задавать нужную температуру и время жарки, а также не было необходимости вручную выключать тостер, ведь готовый хлеб автоматически поднимался из него.</a:t>
            </a:r>
            <a:br>
              <a:rPr sz="1200"/>
            </a:br>
            <a:r>
              <a:rPr b="0" lang="ru-RU" sz="1200" spc="-1" strike="noStrike">
                <a:solidFill>
                  <a:srgbClr val="000000"/>
                </a:solidFill>
                <a:latin typeface="Arial"/>
              </a:rPr>
              <a:t>К 1926 году тостеры Чарльза Страйта были доступны широкому кругу людей и пользовались огромным успехом.</a:t>
            </a:r>
            <a:endParaRPr b="0" lang="en-US" sz="1200" spc="-1" strike="noStrike">
              <a:solidFill>
                <a:srgbClr val="000000"/>
              </a:solidFill>
              <a:latin typeface="Arial"/>
            </a:endParaRPr>
          </a:p>
        </p:txBody>
      </p:sp>
      <p:pic>
        <p:nvPicPr>
          <p:cNvPr id="135" name="" descr=""/>
          <p:cNvPicPr/>
          <p:nvPr/>
        </p:nvPicPr>
        <p:blipFill>
          <a:blip r:embed="rId1"/>
          <a:stretch/>
        </p:blipFill>
        <p:spPr>
          <a:xfrm>
            <a:off x="7848720" y="5562720"/>
            <a:ext cx="1295280" cy="1295280"/>
          </a:xfrm>
          <a:prstGeom prst="rect">
            <a:avLst/>
          </a:prstGeom>
          <a:ln w="0">
            <a:noFill/>
          </a:ln>
        </p:spPr>
      </p:pic>
      <p:pic>
        <p:nvPicPr>
          <p:cNvPr id="136" name="" descr=""/>
          <p:cNvPicPr/>
          <p:nvPr/>
        </p:nvPicPr>
        <p:blipFill>
          <a:blip r:embed="rId2"/>
          <a:stretch/>
        </p:blipFill>
        <p:spPr>
          <a:xfrm>
            <a:off x="5105520" y="5638680"/>
            <a:ext cx="952560" cy="952560"/>
          </a:xfrm>
          <a:prstGeom prst="rect">
            <a:avLst/>
          </a:prstGeom>
          <a:ln w="0">
            <a:noFill/>
          </a:ln>
        </p:spPr>
      </p:pic>
      <p:pic>
        <p:nvPicPr>
          <p:cNvPr id="137" name="" descr=""/>
          <p:cNvPicPr/>
          <p:nvPr/>
        </p:nvPicPr>
        <p:blipFill>
          <a:blip r:embed="rId3"/>
          <a:stretch/>
        </p:blipFill>
        <p:spPr>
          <a:xfrm>
            <a:off x="609480" y="5562720"/>
            <a:ext cx="887400" cy="1066680"/>
          </a:xfrm>
          <a:prstGeom prst="rect">
            <a:avLst/>
          </a:prstGeom>
          <a:ln w="0">
            <a:noFill/>
          </a:ln>
        </p:spPr>
      </p:pic>
      <p:pic>
        <p:nvPicPr>
          <p:cNvPr id="138" name="" descr=""/>
          <p:cNvPicPr/>
          <p:nvPr/>
        </p:nvPicPr>
        <p:blipFill>
          <a:blip r:embed="rId4"/>
          <a:stretch/>
        </p:blipFill>
        <p:spPr>
          <a:xfrm>
            <a:off x="2819520" y="5715000"/>
            <a:ext cx="904680" cy="952560"/>
          </a:xfrm>
          <a:prstGeom prst="rect">
            <a:avLst/>
          </a:prstGeom>
          <a:ln w="0">
            <a:noFill/>
          </a:ln>
        </p:spPr>
      </p:pic>
      <p:sp>
        <p:nvSpPr>
          <p:cNvPr id="139" name=""/>
          <p:cNvSpPr txBox="1"/>
          <p:nvPr/>
        </p:nvSpPr>
        <p:spPr>
          <a:xfrm>
            <a:off x="228600" y="61722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азад</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175248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обретатель(Перси Спенсер ) работал на оборону - делал устройство под названием</a:t>
            </a:r>
            <a:br>
              <a:rPr sz="2400"/>
            </a:br>
            <a:r>
              <a:rPr b="0" lang="en-US" sz="2400" spc="-1" strike="noStrike">
                <a:solidFill>
                  <a:srgbClr val="000000"/>
                </a:solidFill>
                <a:latin typeface="Arial"/>
              </a:rPr>
              <a:t>магнетрон. Магнетрон был важной частью радара, он передавал</a:t>
            </a:r>
            <a:br>
              <a:rPr sz="2400"/>
            </a:br>
            <a:r>
              <a:rPr b="0" lang="en-US" sz="2400" spc="-1" strike="noStrike">
                <a:solidFill>
                  <a:srgbClr val="000000"/>
                </a:solidFill>
                <a:latin typeface="Arial"/>
              </a:rPr>
              <a:t>микроволны и принимал сигнал, отраженный от удаленного объекта.</a:t>
            </a:r>
            <a:br>
              <a:rPr sz="2400"/>
            </a:br>
            <a:r>
              <a:rPr b="0" lang="en-US" sz="2400" spc="-1" strike="noStrike">
                <a:solidFill>
                  <a:srgbClr val="000000"/>
                </a:solidFill>
                <a:latin typeface="Arial"/>
              </a:rPr>
              <a:t>Однажды Перси случайно расплавил с помощью этого прибора</a:t>
            </a:r>
            <a:br>
              <a:rPr sz="2400"/>
            </a:br>
            <a:r>
              <a:rPr b="0" lang="en-US" sz="2400" spc="-1" strike="noStrike">
                <a:solidFill>
                  <a:srgbClr val="000000"/>
                </a:solidFill>
                <a:latin typeface="Arial"/>
              </a:rPr>
              <a:t>лежавшую на лабораторном столе шоколадку. После этого он</a:t>
            </a:r>
            <a:br>
              <a:rPr sz="2400"/>
            </a:br>
            <a:r>
              <a:rPr b="0" lang="en-US" sz="2400" spc="-1" strike="noStrike">
                <a:solidFill>
                  <a:srgbClr val="000000"/>
                </a:solidFill>
                <a:latin typeface="Arial"/>
              </a:rPr>
              <a:t>поэкспериментировал с другими продуктами и понял, что у него</a:t>
            </a:r>
            <a:br>
              <a:rPr sz="2400"/>
            </a:br>
            <a:r>
              <a:rPr b="0" lang="en-US" sz="2400" spc="-1" strike="noStrike">
                <a:solidFill>
                  <a:srgbClr val="000000"/>
                </a:solidFill>
                <a:latin typeface="Arial"/>
              </a:rPr>
              <a:t>получилось нечто особенное.</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
          <p:cNvSpPr txBox="1"/>
          <p:nvPr/>
        </p:nvSpPr>
        <p:spPr>
          <a:xfrm>
            <a:off x="2666880" y="45720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изобрел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6781680" y="6019920"/>
            <a:ext cx="1508400" cy="5713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Далее...</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56" name=""/>
          <p:cNvSpPr txBox="1"/>
          <p:nvPr/>
        </p:nvSpPr>
        <p:spPr>
          <a:xfrm>
            <a:off x="457200" y="6095880"/>
            <a:ext cx="1477800" cy="571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Схема...</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2286000" y="533520"/>
            <a:ext cx="4495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Микроволновая печь</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58" name="" descr="Устройство микроволновой печи"/>
          <p:cNvPicPr/>
          <p:nvPr/>
        </p:nvPicPr>
        <p:blipFill>
          <a:blip r:embed="rId1"/>
          <a:stretch/>
        </p:blipFill>
        <p:spPr>
          <a:xfrm>
            <a:off x="304920" y="1905120"/>
            <a:ext cx="4572000" cy="3402000"/>
          </a:xfrm>
          <a:prstGeom prst="rect">
            <a:avLst/>
          </a:prstGeom>
          <a:ln w="0">
            <a:noFill/>
          </a:ln>
        </p:spPr>
      </p:pic>
      <p:sp>
        <p:nvSpPr>
          <p:cNvPr id="59" name=""/>
          <p:cNvSpPr/>
          <p:nvPr/>
        </p:nvSpPr>
        <p:spPr>
          <a:xfrm>
            <a:off x="378720" y="5561640"/>
            <a:ext cx="43228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Устройство микроволновой печи</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0" name="" descr="Конструкция дверцы микроволновой печи"/>
          <p:cNvPicPr/>
          <p:nvPr/>
        </p:nvPicPr>
        <p:blipFill>
          <a:blip r:embed="rId2"/>
          <a:stretch/>
        </p:blipFill>
        <p:spPr>
          <a:xfrm>
            <a:off x="5029200" y="3352680"/>
            <a:ext cx="3657600" cy="1857600"/>
          </a:xfrm>
          <a:prstGeom prst="rect">
            <a:avLst/>
          </a:prstGeom>
          <a:ln w="0">
            <a:noFill/>
          </a:ln>
        </p:spPr>
      </p:pic>
      <p:sp>
        <p:nvSpPr>
          <p:cNvPr id="61" name=""/>
          <p:cNvSpPr/>
          <p:nvPr/>
        </p:nvSpPr>
        <p:spPr>
          <a:xfrm>
            <a:off x="5638680" y="5638320"/>
            <a:ext cx="2743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Конструкция дверцы микроволновой печ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txBox="1"/>
          <p:nvPr/>
        </p:nvSpPr>
        <p:spPr>
          <a:xfrm>
            <a:off x="228600" y="61722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азад</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2666880" y="457200"/>
            <a:ext cx="3429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ак работает?</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4" name=""/>
          <p:cNvSpPr/>
          <p:nvPr/>
        </p:nvSpPr>
        <p:spPr>
          <a:xfrm>
            <a:off x="533520" y="1676520"/>
            <a:ext cx="8153280" cy="443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е микроволновки стоили несколько тысяч долларов, а сейчас</a:t>
            </a:r>
            <a:br>
              <a:rPr sz="1200"/>
            </a:br>
            <a:r>
              <a:rPr b="0" lang="ru-RU" sz="1200" spc="-1" strike="noStrike">
                <a:solidFill>
                  <a:srgbClr val="000000"/>
                </a:solidFill>
                <a:latin typeface="Arial"/>
              </a:rPr>
              <a:t>ими пользуются около 90 процентов американцев. Принцип работы?Всё просто. Микроволны мгновенно проникают в продукт и поглощаются содержащимися в нем молекулами воды. Молекулы начинают беспорядочно двигаться, сталкиваться между собой, и от</a:t>
            </a:r>
            <a:br>
              <a:rPr sz="1200"/>
            </a:br>
            <a:r>
              <a:rPr b="0" lang="ru-RU" sz="1200" spc="-1" strike="noStrike">
                <a:solidFill>
                  <a:srgbClr val="000000"/>
                </a:solidFill>
                <a:latin typeface="Arial"/>
              </a:rPr>
              <a:t>этого температура повышается. Примерно то же самое происходит и при приготовлении пищи на газовой или электрической плите.Разница лишь во времени.</a:t>
            </a:r>
            <a:br>
              <a:rPr sz="1200"/>
            </a:br>
            <a:br>
              <a:rPr sz="1200"/>
            </a:br>
            <a:r>
              <a:rPr b="0" lang="ru-RU" sz="1200" spc="-1" strike="noStrike">
                <a:solidFill>
                  <a:srgbClr val="000000"/>
                </a:solidFill>
                <a:latin typeface="Arial"/>
              </a:rPr>
              <a:t>В СВЧ-печи термическая обработка производится со всех сторон, в том числе и изнутри, в отличие от традиционного способа, когда тепло постепенно проникает через наружные слои продукта ко внутренним. Такой процесс позволяет лучше сохранить витамины и полезные свойства продукта, тем более, что готовка в микроволновой печи не требует использования какого-либо жира или даже воды. К примеру, витамин С сохраняется на 75 - 98%, в то время, как после обычной тепловой обработки его сохранность составляет 38 - 60%. С другой стороны, чувствительность к электромагнитным излучениям у всех людей разная. В наше время, когда самой распространенной болезнью является аллергия, причиной ее могут стать и электромагнитные волны. Скопление таких волн в одном месте (линии высоковольтных передач, несколько "излучающих" приборов на близком расстоянии друг к другу) создают то, что специалисты называют электросмогом и могут вызвать у особо чувствительных людей раздражительность, перепады артериального давлени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касается коэффициента полезного действия микроволновой печи, то кроме того, что приготовленная в ней пища более богата витаминами и минералами, печь не создает традиционной кухонной атмосферы с жаром и запахами. Можно открывать дверцу, проверять готовность пищи, добавлять новые ингридиенты, не боясь потерять тепло и нарушить режим. Кроме того, наблюдается значительная экономия электроэнергии, так как время приготовления пищи резко снижается. Да еще современная СВЧ-печь способна готовить пятью разными способами: "микроволны", "гриль", "микроволны + гриль", "конвекция + гриль", "конвекция + микроволны". Такие печи называют коллекционными и эта техника способна на настоящие гастрономические чудеса: в ней можно размораживать, печь пироги, тушить овощи, мясо и даже помогать дрожжевому тесту поднятьс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txBox="1"/>
          <p:nvPr/>
        </p:nvSpPr>
        <p:spPr>
          <a:xfrm>
            <a:off x="7620120" y="6286680"/>
            <a:ext cx="990360" cy="571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ню</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6" name=""/>
          <p:cNvSpPr txBox="1"/>
          <p:nvPr/>
        </p:nvSpPr>
        <p:spPr>
          <a:xfrm>
            <a:off x="0" y="6172200"/>
            <a:ext cx="2209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ополнительно</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76520"/>
            <a:ext cx="8229600" cy="259056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Разные материалы по-разному ведут себя по отношению к микроволнам, и для СВЧ-печи годится не всякая посуда. Металл отражает микроволновое излучение, поэтому внутренние стенки полости печи делают из металла, чтобы он отражал волны к пище. Соответственно, металлическая посуда для микроволновок не годится.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сключением является низкая открытая металлическая посуда (например, алюминиевые лотки для продуктов). Такую посуду можно помещать в микроволновую печь, но, во-первых, только вниз, на самое дно, а не на второй по высоте уровень (некоторые микроволновки допускают «двухэтажное» размещение лотков); во-вторых, нужно, чтобы печь работала не на максимальной мощности (лучше увеличить время работы), а края лотка отстояли от стенок камеры не менее, чем на 2 см, чтобы не образовался электрический разряд.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текло, фарфор, сухие картон и бумага пропускают микроволны сквозь себя (влажный картон начнет разогреваться и не пропустит микроволны, пока не высохнет). Посуду из стекла можно применять в микроволновке, но только при условии, что она выдержит высокую температуру нагрева. Для СВЧ-печей выпускается посуда из специального стекла (например, Pyrex) с низким коэффициентом теплового расширения, стойкая к нагреву. </a:t>
            </a:r>
            <a:endParaRPr b="0" lang="en-US" sz="1400" spc="-1" strike="noStrike">
              <a:solidFill>
                <a:srgbClr val="000000"/>
              </a:solidFill>
              <a:latin typeface="Arial"/>
            </a:endParaRPr>
          </a:p>
        </p:txBody>
      </p:sp>
      <p:pic>
        <p:nvPicPr>
          <p:cNvPr id="68" name="" descr=""/>
          <p:cNvPicPr/>
          <p:nvPr/>
        </p:nvPicPr>
        <p:blipFill>
          <a:blip r:embed="rId1"/>
          <a:stretch/>
        </p:blipFill>
        <p:spPr>
          <a:xfrm>
            <a:off x="6553080" y="5029200"/>
            <a:ext cx="2381400" cy="1619280"/>
          </a:xfrm>
          <a:prstGeom prst="rect">
            <a:avLst/>
          </a:prstGeom>
          <a:ln w="0">
            <a:noFill/>
          </a:ln>
        </p:spPr>
      </p:pic>
      <p:sp>
        <p:nvSpPr>
          <p:cNvPr id="69" name=""/>
          <p:cNvSpPr txBox="1"/>
          <p:nvPr/>
        </p:nvSpPr>
        <p:spPr>
          <a:xfrm>
            <a:off x="304920" y="59436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Назад</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306440"/>
            <a:ext cx="8305560" cy="456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икроволны- это электромагнитные волны, которые существуют и в природе в виде световых волн с неионизирующей частотой, другими словами это волны, не вызывающие химических преобразований. Микроволны внутри печи проникают в пищу со всех сторон, нагревая молекулы воды, жира и сахара. Тепло проникает быстро и только внутри продуктов.  Микроволны, используемые при приготовлении пищи, могут проходить сквозь стекло, бумагу пластик и фарфор, но не проникают через металл. Молекулы пищи и жидкости содержат отрицательные и положительные частицы, которые постоянно медленно вращаются. При приготовлении пищи в микроволнах  это движение ускоряется. В результате  возникает тепло, которое готовит пищу и вызывает кипение воды. Приготовление пищи в обычной духовке или на плите тоже происходит за счет молекулярных воздействий, но микроволны делают это быстрее, поскольку они проникают в пищу напрямую, сокращая таким образом, время, необходимое для приготовления.</a:t>
            </a:r>
            <a:br>
              <a:rPr sz="1400"/>
            </a:br>
            <a:br>
              <a:rPr sz="1400"/>
            </a:br>
            <a:r>
              <a:rPr b="1" lang="en-US" sz="1400" spc="-1" strike="noStrike">
                <a:solidFill>
                  <a:srgbClr val="000000"/>
                </a:solidFill>
                <a:latin typeface="Arial"/>
              </a:rPr>
              <a:t>На что похожи микроволны?</a:t>
            </a:r>
            <a:br>
              <a:rPr sz="1400"/>
            </a:br>
            <a:r>
              <a:rPr b="0" lang="en-US" sz="1400" spc="-1" strike="noStrike">
                <a:solidFill>
                  <a:srgbClr val="000000"/>
                </a:solidFill>
                <a:latin typeface="Arial"/>
              </a:rPr>
              <a:t>Микроволновые печи работают от обычного электрического тока, который питает магнетон- "сердце " печи. При наличии питания магнетон генерирует высокочастотную электромагнитную энергию - микроволны. Затем через две форсунки они направляются в полость печи. Полость печи оборудована металлическими стенками, отражающими микроволны, и вращающимся поддоном, обеспечивающим однородное распределение волн.</a:t>
            </a:r>
            <a:endParaRPr b="0" lang="en-US" sz="1400" spc="-1" strike="noStrike">
              <a:solidFill>
                <a:srgbClr val="000000"/>
              </a:solidFill>
              <a:latin typeface="Arial"/>
            </a:endParaRPr>
          </a:p>
        </p:txBody>
      </p:sp>
      <p:sp>
        <p:nvSpPr>
          <p:cNvPr id="71" name=""/>
          <p:cNvSpPr txBox="1"/>
          <p:nvPr/>
        </p:nvSpPr>
        <p:spPr>
          <a:xfrm>
            <a:off x="304920" y="59436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Назад</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txBox="1"/>
          <p:nvPr/>
        </p:nvSpPr>
        <p:spPr>
          <a:xfrm>
            <a:off x="304920" y="59436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Назад</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sp>
        <p:nvSpPr>
          <p:cNvPr id="73" name=""/>
          <p:cNvSpPr/>
          <p:nvPr/>
        </p:nvSpPr>
        <p:spPr>
          <a:xfrm>
            <a:off x="228600" y="1676160"/>
            <a:ext cx="8305920" cy="3926880"/>
          </a:xfrm>
          <a:prstGeom prst="rect">
            <a:avLst/>
          </a:prstGeom>
          <a:noFill/>
          <a:ln w="0">
            <a:noFill/>
          </a:ln>
        </p:spPr>
        <p:style>
          <a:lnRef idx="0"/>
          <a:fillRef idx="0"/>
          <a:effectRef idx="0"/>
          <a:fontRef idx="minor"/>
        </p:style>
        <p:txBody>
          <a:bodyPr lIns="57240" rIns="5724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 микроволновыми печами связан ряд заблуждений, которые объясняются непониманием характера этого вида электромагнитных волн и механизма микроволнового нагрева. Надеемся, что наш рассказ поможет преодолеть такие предубеждени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Микроволны радиоактивны или делают продукты радиоактивными.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о неверно: микроволны относятся к категории неионизирующих излучений. Они не оказывают никакого радиоактивного воздействия на вещества, биологические ткани и продукты питани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Микроволны изменяют молекулярную структуру продуктов питания или делают продукты канцерогенным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о тоже неверно. Принцип действия микроволн иной, чем у рентгеновских лучей или у ионизирующих излучений, и сделать продукты канцерогенными они не могут. Напротив, поскольку приготовление пищи при помощи микроволн требует очень небольшого количества жиров, готовое блюдо содержит меньше перегоревшего жира с измененной при тепловой обработке молекулярной структурой. Поэтому приготовление пищи с помощью микроволн полезнее для здоровья и не представляет для человека никакой опасности.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Микроволновые печи испускают опасное излуче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о не соответствует действительности. Хотя непосредственное воздействие микроволн может вызвать тепловое поражение тканей, риск при пользовании исправной микроволновой печью полностью отсутствует. Конструкцией печи предусмотрены жесткие меры для предотвращения выхода излучения наружу: имеются продублированные устройства блокировки источника микроволн при открывании дверцы печи, а сама дверца исключает выход микроволн за пределы полости. Ни корпус, ни любая иная часть печи, ни помещенные в печь продукты питания не накапливают электромагнитное излучение микроволнового диапазона. Как только печь выключается, излучение микроволн прекращается.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304920" y="5943600"/>
            <a:ext cx="13111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a:rPr>
              <a:t>Назад</a:t>
            </a:r>
            <a:endParaRPr b="0" lang="en-US" sz="1800" spc="1" strike="noStrike">
              <a:ln w="12600">
                <a:solidFill>
                  <a:srgbClr val="eaeaea"/>
                </a:solidFill>
                <a:miter/>
              </a:ln>
              <a:gradFill rotWithShape="0">
                <a:gsLst>
                  <a:gs pos="0">
                    <a:srgbClr val="9400ed"/>
                  </a:gs>
                  <a:gs pos="100000">
                    <a:srgbClr val="0000ff"/>
                  </a:gs>
                </a:gsLst>
                <a:lin ang="10800000"/>
              </a:gradFill>
              <a:latin typeface="Arial"/>
              <a:ea typeface="Arial"/>
            </a:endParaRPr>
          </a:p>
        </p:txBody>
      </p:sp>
      <p:sp>
        <p:nvSpPr>
          <p:cNvPr id="75" name=""/>
          <p:cNvSpPr/>
          <p:nvPr/>
        </p:nvSpPr>
        <p:spPr>
          <a:xfrm>
            <a:off x="0" y="1842840"/>
            <a:ext cx="914400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точником микроволнового излучения является высоковольтный вакуумный прибор - магнетрон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Чтобы антенна магнетрона излучала микроволны, к нити накала магнетрона необходимо подать высокое напряжение (порядка 3-4 КВт). Поэтому сетевого напряжения питания (220 В) магнетрону недостаточно, и питается он через специальный высоковольтный трансформатор </a:t>
            </a:r>
            <a:endParaRPr b="0" lang="en-US" sz="1400" spc="-1" strike="noStrike">
              <a:solidFill>
                <a:srgbClr val="000000"/>
              </a:solidFill>
              <a:latin typeface="Arial"/>
            </a:endParaRPr>
          </a:p>
        </p:txBody>
      </p:sp>
      <p:sp>
        <p:nvSpPr>
          <p:cNvPr id="76" name=""/>
          <p:cNvSpPr/>
          <p:nvPr/>
        </p:nvSpPr>
        <p:spPr>
          <a:xfrm>
            <a:off x="0" y="2740320"/>
            <a:ext cx="9144000" cy="243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щность магнетрона современных микроволновых печей составляет 700-850 Вт. Этого достаточно, чтобы за несколько минут довести до кипения воду в 200-граммовом стакане. Для охлаждения магнетрона рядом с ним имеется вентилятор, непрерывно обдувающий его воздухом.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рожденные магнетроном микроволны поступают в полость печи по волноводу - каналу с металлическими стенками, отражающими СВЧ-излучение. В одних микроволновках волны входят в полость только через одно отверстие (как правило, под "потолком" полости), в других - через два отверстия: у «потолка» и у «дна». Если заглянуть в полость печи, то можно увидеть слюдяные пластинки, которые закрывают отверстия для ввода микроволн. Пластинки не позволяют попадать в волновод брызгам жира, а проходу микроволн они совершенно не мешают, поскольку слюда прозрачна для излучения. Слюдяные пластинки со временем пропитываются жиром, </a:t>
            </a:r>
            <a:br>
              <a:rPr sz="1400"/>
            </a:br>
            <a:r>
              <a:rPr b="0" lang="ru-RU" sz="1400" spc="-1" strike="noStrike">
                <a:solidFill>
                  <a:srgbClr val="000000"/>
                </a:solidFill>
                <a:latin typeface="Arial"/>
              </a:rPr>
              <a:t>становятся рыхлыми, и их нужно менять на новые.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MW</cp:lastModifiedBy>
  <dcterms:modified xsi:type="dcterms:W3CDTF">2007-03-21T10:33: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