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BFA3-4B5D-4E7B-B496-8FA04EC9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79B3-065A-4904-ADF8-12D99B5F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91D8-7F8A-4FE7-AD5D-B15E4333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A5E0-7866-4B26-811C-B427BC9C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EB3F-4F40-4593-A893-6B4536D6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E982-EC62-4FD5-BE1A-1F58C989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722A-7460-4B48-94FB-B481A386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E5CC-4479-4E81-B0BC-1C042F7A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424D-512B-484E-A73E-A1500B01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618C-9CF4-4CE2-B3AF-05F09F4C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1E1A-1EE9-4C97-9C60-90D17109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5269-4C90-4B16-B733-778F92F9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20C4-5702-4F85-9FF4-AF4C74AA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845D-5DBD-40A6-88EF-3FA3F43D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ACB3-B7D0-4414-AF1D-DA717C66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59B8-8278-4D91-A7A0-A25C34FE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7ABA-3788-4E6E-99A0-E9B9EF24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0D11-6DC5-4085-AFC7-7E6C1F02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A5ED-05C3-4BDB-8E10-4E472238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C94-AFE3-4386-8760-35DAC555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B508-99D3-4976-BD67-A7ED3FD6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A969-D00B-4F43-B183-908E8C2E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B615-2029-475A-AA5D-5AF2502C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07A3-B395-46B8-AED3-0024C411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54BD-6F7E-4F21-92F1-6B4514D56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0832-981F-41A7-AC44-3A34FDDD0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55640" y="476280"/>
            <a:ext cx="734544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80"/>
                    </a:gs>
                    <a:gs pos="100000">
                      <a:srgbClr val="d6fef1"/>
                    </a:gs>
                  </a:gsLst>
                  <a:lin ang="5400000"/>
                </a:gradFill>
                <a:latin typeface="Arial"/>
              </a:rPr>
              <a:t>Почемуч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80"/>
                  </a:gs>
                  <a:gs pos="100000">
                    <a:srgbClr val="d6fef1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55640" y="4005360"/>
            <a:ext cx="79218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5400000"/>
                </a:gradFill>
                <a:latin typeface="Arial"/>
              </a:rPr>
              <a:t>Какие электроприбор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5400000"/>
                </a:gradFill>
                <a:latin typeface="Arial"/>
              </a:rPr>
              <a:t>есть на кухне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987640" y="1844640"/>
            <a:ext cx="2922480" cy="2625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02880" y="5805360"/>
            <a:ext cx="41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Г. Омск, МОУ «СОШ № 49», 8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4600" y="189000"/>
            <a:ext cx="20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f8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8028000" y="645336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1030" y="3794"/>
                </a:moveTo>
                <a:lnTo>
                  <a:pt x="25042" y="10800"/>
                </a:lnTo>
                <a:lnTo>
                  <a:pt x="11030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7cdcc"/>
                                      </p:to>
                                    </p:animClr>
                                    <p:set>
                                      <p:cBhvr>
                                        <p:cTn id="2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7cdcc"/>
                                      </p:to>
                                    </p:animClr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708000" y="3500280"/>
            <a:ext cx="453708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6600cc"/>
                </a:solidFill>
                <a:latin typeface="Arial"/>
              </a:rPr>
              <a:t>Все приборы показали И о них мы рассказали, А сейчас чайку попьем И оценку подожд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55640" y="620640"/>
            <a:ext cx="748836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одведем итоги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77336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Может наши кухни далеки от совершенства и здесь нет современных электрических приборов, но зато в них живет «душа» дома. Здесь по вечерам можно собраться всем вместе за столом, попить чайку и поделиться секр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5589720"/>
            <a:ext cx="60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Приходите в гости! Будем рад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1280" y="3716280"/>
            <a:ext cx="2665440" cy="177660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95672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60436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79240" y="189000"/>
            <a:ext cx="20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f8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e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11280" y="404640"/>
            <a:ext cx="8209080" cy="115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83e1a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71640" y="5300640"/>
            <a:ext cx="24462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c7dfd3">
                      <a:alpha val="50000"/>
                    </a:srgbClr>
                  </a:outerShdw>
                </a:effectLst>
                <a:latin typeface="Arial"/>
              </a:rPr>
              <a:t>ХОЛОДИЛЬН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07932" dir="8100000" blurRad="0" rotWithShape="0">
                  <a:srgbClr val="c7dfd3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77080" y="3429000"/>
            <a:ext cx="187164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c7dfd3">
                      <a:alpha val="50000"/>
                    </a:srgbClr>
                  </a:outerShdw>
                </a:effectLst>
                <a:latin typeface="Arial"/>
              </a:rPr>
              <a:t>ТЕЛЕВИЗО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07932" dir="13500000" blurRad="0" rotWithShape="0">
                  <a:srgbClr val="c7dfd3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940360" y="5229360"/>
            <a:ext cx="2519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c7dfd3">
                      <a:alpha val="50000"/>
                    </a:srgbClr>
                  </a:outerShdw>
                </a:effectLst>
                <a:latin typeface="Arial"/>
              </a:rPr>
              <a:t>МИКРОВОЛНОВ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07932" dir="2700000" blurRad="0" rotWithShape="0">
                  <a:srgbClr val="c7dfd3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492360" y="1844640"/>
            <a:ext cx="3167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7dfd3">
                      <a:alpha val="50000"/>
                    </a:srgbClr>
                  </a:outerShdw>
                </a:effectLst>
                <a:latin typeface="Arial"/>
              </a:rPr>
              <a:t>кухонный комба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07932" dir="18900000" blurRad="0" rotWithShape="0">
                  <a:srgbClr val="c7dfd3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640" y="3357720"/>
            <a:ext cx="201636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50000">
                      <a:srgbClr val="005cbf"/>
                    </a:gs>
                    <a:gs pos="100000">
                      <a:srgbClr val="03d4a8"/>
                    </a:gs>
                  </a:gsLst>
                  <a:lin ang="5400000"/>
                </a:gradFill>
                <a:latin typeface="Arial"/>
              </a:rPr>
              <a:t>ЭЛ. ПЛИ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50000">
                    <a:srgbClr val="005cbf"/>
                  </a:gs>
                  <a:gs pos="100000">
                    <a:srgbClr val="03d4a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51280" y="2924280"/>
            <a:ext cx="1944720" cy="1800000"/>
          </a:xfrm>
          <a:prstGeom prst="ellipse">
            <a:avLst/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140360" y="3284640"/>
            <a:ext cx="1295280" cy="57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289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и это ещё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140360" y="3789360"/>
            <a:ext cx="1514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не всё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859280" y="2492280"/>
            <a:ext cx="0" cy="3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00000" y="371628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203280" y="4508640"/>
            <a:ext cx="57780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508640"/>
            <a:ext cx="57636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40360" y="371628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93080" y="189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f8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853272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8920" y="4005000"/>
            <a:ext cx="74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Во всех плитах имеется духовой шкаф, или просто духовка, которая прогревается вся целиком. В ней пекут пироги, запекают большие куски мяса и птицу.               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А есть духовки, в которых можно даже жарить шашлык: чтобы он не подгорал, небольшой электрический мотор медленно вращает шампуры или вертел.          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Сейчас все больше в квартирах появляются плиты со стеклокерамической панелью и встроенным таймер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Это удобно, стильно, комфорт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16000" y="620640"/>
            <a:ext cx="705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Электрическая пли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50520" y="189000"/>
            <a:ext cx="20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f8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604360" y="638172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24720" y="4365720"/>
            <a:ext cx="1257480" cy="1485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340000" y="1773360"/>
            <a:ext cx="63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В кухонных плитах стоят электр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нагреватели. Их температура меняется, если переключатель переводится в одно из нескольких положений (от слабого до сильного нагре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Сам нагреватель остывает медленно, и это необходимо учитывать: чтобы не «упустить» закипающее молоко или не пережарить яичницу, горелку электроплиты нужно выключать зара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1346400" cy="15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79280" y="3428640"/>
            <a:ext cx="8569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Многие считают, что кухня — самое уютное место во всей квартире и без телевизора его представить просто не возможно. Десятки каналов, которые принимает телевизор, передают информацию обо всех событиях в ми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Принцип действия: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Несут новости радиоволны — колебания электрического и магнитного полей. В радиосигнале «записаны» все сведения о телевизионном изображении — его цвет, яркость, громкость и высота звука. В телевизоре из него выделяется видеосигнал, который и создает изображение на экране. Сам экран является плоской стенкой большой стеклянной колбы — телевизионной трубки, из которой откачан возд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26920" y="692280"/>
            <a:ext cx="7921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телевизо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04600" y="189000"/>
            <a:ext cx="20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f8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8604360" y="6308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0920" y="1700280"/>
            <a:ext cx="709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Из истори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сновоположником телевидения явля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ется американский ученый российского происхожде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. К. Зворыкин (1889-1982)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н изобрел первую передающую телевизионную труб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у (иконоскоп) и первую приемную трубку (кинескоп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1384200" cy="151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8920" y="1773360"/>
            <a:ext cx="88203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cc"/>
                </a:solidFill>
                <a:latin typeface="Arial"/>
              </a:rPr>
              <a:t>         </a:t>
            </a:r>
            <a:r>
              <a:rPr b="1" lang="en-US" sz="2200" spc="-1" strike="noStrike">
                <a:solidFill>
                  <a:srgbClr val="6600cc"/>
                </a:solidFill>
                <a:latin typeface="Arial"/>
              </a:rPr>
              <a:t>Кухонный комбайн</a:t>
            </a:r>
            <a:r>
              <a:rPr b="0" lang="en-US" sz="1600" spc="-1" strike="noStrike">
                <a:solidFill>
                  <a:srgbClr val="d6e0e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365444"/>
                </a:solidFill>
                <a:latin typeface="Arial"/>
              </a:rPr>
              <a:t>— это незаменимый помощник на кухн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00cc"/>
                </a:solidFill>
                <a:latin typeface="Arial"/>
              </a:rPr>
              <a:t>          </a:t>
            </a:r>
            <a:r>
              <a:rPr b="0" lang="en-US" sz="1900" spc="-1" strike="noStrike">
                <a:solidFill>
                  <a:srgbClr val="6600cc"/>
                </a:solidFill>
                <a:latin typeface="Arial"/>
              </a:rPr>
              <a:t>Назначение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65444"/>
                </a:solidFill>
                <a:latin typeface="Arial"/>
              </a:rPr>
              <a:t>тонко и аккуратно резать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65444"/>
                </a:solidFill>
                <a:latin typeface="Arial"/>
              </a:rPr>
              <a:t>измельчать овощи и фрукты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65444"/>
                </a:solidFill>
                <a:latin typeface="Arial"/>
              </a:rPr>
              <a:t>превращать куски мяса в фарш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65444"/>
                </a:solidFill>
                <a:latin typeface="Arial"/>
              </a:rPr>
              <a:t>сбивать яйца и многое друго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600cc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Преимуще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65444"/>
                </a:solidFill>
                <a:latin typeface="Arial"/>
              </a:rPr>
              <a:t>минимум затрат времени и сил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65444"/>
                </a:solidFill>
                <a:latin typeface="Arial"/>
              </a:rPr>
              <a:t>заменяет несколько бытовых приборо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00cc"/>
                </a:solidFill>
                <a:latin typeface="Arial"/>
              </a:rPr>
              <a:t>     </a:t>
            </a:r>
            <a:r>
              <a:rPr b="1" lang="en-US" sz="1700" spc="-1" strike="noStrike">
                <a:solidFill>
                  <a:srgbClr val="6600cc"/>
                </a:solidFill>
                <a:latin typeface="Arial"/>
              </a:rPr>
              <a:t>Принцип действия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6e0e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365444"/>
                </a:solidFill>
                <a:latin typeface="Arial"/>
              </a:rPr>
              <a:t>Все эти операции ему проделывает электромотор, к которому крепятся специальные сменные насадки. Их целый набор. Одна из таких насадок — мясорубка, другая — кофемолка, третья — терка с сетками разных размеров и с ножами, которые аккуратно нарезают овощи на ломтик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65444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365444"/>
                </a:solidFill>
                <a:latin typeface="Arial"/>
              </a:rPr>
              <a:t>В комплект комбайна может входить соковыжималка и даже большая чаша, в которой машина замесит тесто для пирог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87280" y="620640"/>
            <a:ext cx="676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50000">
                      <a:srgbClr val="55261c"/>
                    </a:gs>
                    <a:gs pos="100000">
                      <a:srgbClr val="dcebf5"/>
                    </a:gs>
                  </a:gsLst>
                  <a:lin ang="5400000"/>
                </a:gradFill>
                <a:latin typeface="Arial"/>
              </a:rPr>
              <a:t>кухонный комбай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50000">
                    <a:srgbClr val="55261c"/>
                  </a:gs>
                  <a:gs pos="100000">
                    <a:srgbClr val="dcebf5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79240" y="189000"/>
            <a:ext cx="20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f8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8604360" y="638172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940360" y="2421000"/>
            <a:ext cx="1800360" cy="14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79280" y="3284640"/>
            <a:ext cx="89647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6600cc"/>
                </a:solidFill>
                <a:latin typeface="Arial"/>
              </a:rPr>
              <a:t>Устройство:</a:t>
            </a: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 В холодильнике несколько отсеков с разной температуро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В большом отсеке температура от +2 до +3 °С. В морозильных камерах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где хранятся замороженные продукты, температура гораздо ниж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(-10 °С и -20 °С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ринцип действия: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Низкая температура получается при испарении лег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жидкости, которую перекачивает электрический насос. Жидкость под больш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давлением поступает в трубки морозильной камеры и там испаряется. Необходимое для испарения  жидкости тепло, она забирает из морози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камеры. Насос откачивает пары, сжимает их, и они превращаются в нагрет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жидкость. На задней стенке холодильника имеется радиатор —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трубочек, которые отводят тепло от пара и жид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71640" y="765000"/>
            <a:ext cx="69879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ХОЛОДИЛЬН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50520" y="0"/>
            <a:ext cx="20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f8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8604360" y="638172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d6e0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68360" y="1773360"/>
            <a:ext cx="1512720" cy="1511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124000" y="1628640"/>
            <a:ext cx="70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История: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Первые домашние холодильники появились в середине 19 века. Это были обыкновенные деревянные шкафы, набитые льдом. В 1879 г. немецкий инженер Карл Линде придумал механический холодильник, в котором использовался паровой насос. Электрические холодильники поступили в продажу в Чикаго в 1913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642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ногие блюда удобно, просто и быстро готовить в микроволновой печи, которая похож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небольшую духовку, стоящую на столе в которой нет ни горелки, ни электричес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гревате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11280" y="620640"/>
            <a:ext cx="763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"/>
              </a:rPr>
              <a:t>МИКРОВОЛНОВАЯ ПЕЧ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50520" y="0"/>
            <a:ext cx="20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f8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8604360" y="638172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2421000"/>
            <a:ext cx="722952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5444"/>
                </a:solidFill>
                <a:latin typeface="Arial"/>
              </a:rPr>
              <a:t>История изобрете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мериканский инженер П. Спенс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учая генератор электромагнитных  волн сверхвысокой  частоты - заметил, что прибор действует как нагреватель: рядом с н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укуруза превратилась в попкорн. В 1945 году он получил патен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использование волн СВЧ для приготовления пищи, а в 1949 г. компания «Рейтон» уже продавала  микроволновые пе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3933720"/>
            <a:ext cx="858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5444"/>
                </a:solidFill>
                <a:latin typeface="Arial"/>
              </a:rPr>
              <a:t>Принцип работы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печи генератор создает переменный ток высокой  частоты. Проводник, по которому течет этот ток, излучает радиоволны — очень быстрые колебания электрического и магнитного поля. Вещество, проводящее электричество, в этом поле начинает нагреваться целиком и очень сильно. Во всех продуктах есть вода, которая электричество проводит хорошо, поэтому приготовить кусок мяса в микроволновке можно за несколько минут. А тарелка из стекла или фарфора останется холодной, т.к. изоляторы, плохо проводят электрич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218360" y="2276640"/>
            <a:ext cx="1222200" cy="163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1465200" cy="2303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580000" y="1781280"/>
            <a:ext cx="3238560" cy="426204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5444"/>
                </a:solidFill>
                <a:latin typeface="Arial"/>
              </a:rPr>
              <a:t>Кофев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мире лучшего подар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олько ни ищите, н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тому что кофеварка 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дивительный предм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ливаешь в емкость вод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сыпаешь порошок 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в любое время го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фе в чашке. Хорошо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 окном зима со снег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ли летняя жар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 ты в комнате с ут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ливаешь в горло нег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при этом ника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рвотрепки и запар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арит ведь сама соб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ебе кофе кофеварк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86800" y="3002040"/>
            <a:ext cx="399060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365444"/>
                </a:solidFill>
                <a:latin typeface="Arial"/>
              </a:rPr>
              <a:t>Кофемо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тоб кофе отведать, ты зерна возьм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о их не бросай в кипято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тоб были готовы при варке он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х надо смолоть в порош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о чтоб порошку намолоть из зер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ебе кофемолка нужн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Я тоже люблю сей напиток бог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 зря он у многих в че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гда будет он к потребленью гот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ня, не забудь, угост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26920" y="549360"/>
            <a:ext cx="756144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. приборы для души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604360" y="6308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3794"/>
                </a:moveTo>
                <a:lnTo>
                  <a:pt x="18680" y="10800"/>
                </a:lnTo>
                <a:lnTo>
                  <a:pt x="4667" y="17806"/>
                </a:lnTo>
                <a:close/>
              </a:path>
            </a:pathLst>
          </a:custGeom>
          <a:solidFill>
            <a:srgbClr val="89d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79240" y="189000"/>
            <a:ext cx="20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f8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427640" y="1844640"/>
            <a:ext cx="9507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50920" y="1773360"/>
            <a:ext cx="374472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 пыхчу, пыхчу, пыхч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ьше греться не хоч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ышка громко зазвене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Пейте чай, вода вскипел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(Чайник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том папа наш прив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белом ящике моро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теперь мороз се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ма летом и зи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режет продук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ясо, рыбу, фру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(Холодильн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ивет в нем вся вселенн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вещь обыкновенн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(Телевиз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604360" y="6308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3794"/>
                </a:moveTo>
                <a:lnTo>
                  <a:pt x="18680" y="10800"/>
                </a:lnTo>
                <a:lnTo>
                  <a:pt x="4667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79240" y="189000"/>
            <a:ext cx="20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f8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26920" y="549360"/>
            <a:ext cx="777744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80"/>
                    </a:gs>
                    <a:gs pos="100000">
                      <a:srgbClr val="d6fef1"/>
                    </a:gs>
                  </a:gsLst>
                  <a:lin ang="5400000"/>
                </a:gradFill>
                <a:latin typeface="Arial"/>
              </a:rPr>
              <a:t>Лирическое отступл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80"/>
                  </a:gs>
                  <a:gs pos="100000">
                    <a:srgbClr val="d6fef1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5400000">
            <a:off x="2303640" y="3680640"/>
            <a:ext cx="4175280" cy="502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родный фольклор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76720" y="1695240"/>
            <a:ext cx="3384720" cy="46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37f2"/>
                </a:solidFill>
                <a:latin typeface="Arial"/>
              </a:rPr>
              <a:t>Микроволновая печ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ставьте: гости к вам иду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ять минут лишь на готовк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делать? Пригодится ту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раз-то вам микроволнов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шли, хозяевам сюрпри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поднеся. Два -три мгновенья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остает хозяйка и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волновки угощень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тят вопросы: «Как смог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петь, поведайте дета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дь мы случайно к вам зашл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ы как будто нас и ждали?..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зяйка, выставив на сто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нос, любезно отвеча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Вот так живем — кто б ни заше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гда всех ждем и привечаем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се-таки один секр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ть кухонной суперсноровк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их проблем с готовкой нет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ль в доме есть микроволновк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6618" t="4963" r="6775" b="4963"/>
          <a:stretch/>
        </p:blipFill>
        <p:spPr>
          <a:xfrm>
            <a:off x="3059280" y="3716280"/>
            <a:ext cx="936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0:24:00Z</dcterms:created>
  <dc:creator>Катерина</dc:creator>
  <dc:description/>
  <dc:language>en-US</dc:language>
  <cp:lastModifiedBy>1</cp:lastModifiedBy>
  <dcterms:modified xsi:type="dcterms:W3CDTF">2007-03-18T11:16:25Z</dcterms:modified>
  <cp:revision>47</cp:revision>
  <dc:subject/>
  <dc:title>Слайд 1</dc:title>
</cp:coreProperties>
</file>