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png" ContentType="image/png"/>
  <Override PartName="/ppt/media/image46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55.png" ContentType="image/png"/>
  <Override PartName="/ppt/media/image45.jpeg" ContentType="image/jpeg"/>
  <Override PartName="/ppt/media/image44.jpeg" ContentType="image/jpe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1.png" ContentType="image/png"/>
  <Override PartName="/ppt/media/image15.jpeg" ContentType="image/jpeg"/>
  <Override PartName="/ppt/media/image18.jpeg" ContentType="image/jpeg"/>
  <Override PartName="/ppt/media/image20.png" ContentType="image/png"/>
  <Override PartName="/ppt/media/image57.png" ContentType="image/png"/>
  <Override PartName="/ppt/media/image3.jpeg" ContentType="image/jpeg"/>
  <Override PartName="/ppt/media/image67.png" ContentType="image/png"/>
  <Override PartName="/ppt/media/image64.png" ContentType="image/png"/>
  <Override PartName="/ppt/media/image60.jpeg" ContentType="image/jpeg"/>
  <Override PartName="/ppt/media/image24.jpeg" ContentType="image/jpeg"/>
  <Override PartName="/ppt/media/image22.png" ContentType="image/png"/>
  <Override PartName="/ppt/media/image49.png" ContentType="image/png"/>
  <Override PartName="/ppt/media/image12.png" ContentType="image/png"/>
  <Override PartName="/ppt/media/image42.png" ContentType="image/png"/>
  <Override PartName="/ppt/media/image26.jpeg" ContentType="image/jpeg"/>
  <Override PartName="/ppt/media/image51.jpeg" ContentType="image/jpeg"/>
  <Override PartName="/ppt/media/image62.png" ContentType="image/png"/>
  <Override PartName="/ppt/media/image76.jpeg" ContentType="image/jpeg"/>
  <Override PartName="/ppt/media/image75.jpeg" ContentType="image/jpeg"/>
  <Override PartName="/ppt/media/image21.jpeg" ContentType="image/jpeg"/>
  <Override PartName="/ppt/media/image65.png" ContentType="image/png"/>
  <Override PartName="/ppt/media/image73.jpeg" ContentType="image/jpeg"/>
  <Override PartName="/ppt/media/image71.jpeg" ContentType="image/jpeg"/>
  <Override PartName="/ppt/media/image70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63.png" ContentType="image/png"/>
  <Override PartName="/ppt/media/image61.jpeg" ContentType="image/jpeg"/>
  <Override PartName="/ppt/media/image74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4.wmf" ContentType="image/x-wmf"/>
  <Override PartName="/ppt/media/image29.jpeg" ContentType="image/jpeg"/>
  <Override PartName="/ppt/media/image43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36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B9F-D890-4269-ABBE-D58A4BE4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9C4-1CB1-4EAC-945D-36CAA938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C25A4-396A-4B6C-B356-2F68CAA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E96C7-4B83-450A-93E9-508B7060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4197B-A411-4EC0-B442-D249314B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39CCF-AD23-41FF-90A1-A959EFA8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2278-D97E-41F9-B6AE-30B2A42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F09EC-D27F-4E7D-B138-6E93A68B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242BA-9F92-42EC-9C46-98B255C9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CFC0B-23D7-4AEC-B34D-BAED7B7C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290D4-A82C-46B1-B226-77597E1F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79D09-C118-4614-A091-088E98B3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012-DE09-463A-9DF8-CEACEC9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356CC-3EBA-4D86-8B4E-A1DF8D6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D4D71-E580-45E0-90FE-577E3079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7B5BE-00EA-4B1F-8E0F-5F1CF70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F3271-8B58-4732-B860-D7A17C2E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12B99-4158-4B0F-BEC8-9C2C224C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BFEEF-013C-4BDC-AEBF-96CE45A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B0241-F296-49AC-B79E-9DDAD4D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BDE29-B5DA-45A6-A5B6-A62CA79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D668D-55D2-423E-BC50-21653313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EA8B2-695A-4BFF-9FDD-F2BAF3F0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E46-8836-447A-A252-F27F8C23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12E50-2285-4F5C-92C0-721C54EA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CE1CB-6194-48E2-ACF1-80102643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D753C-584F-489F-97A1-F3CED259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20A7-6E8D-4F5D-B9B5-E942AFED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6DE35-A960-410C-BC22-E742F3E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A4FE-0D3E-445A-9F16-990D86D1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82FF9-8D7C-45FF-8453-439F353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DD4C-FAE1-4A9C-9B5E-404FE9E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19112-EF4E-4EED-94B7-71B143F8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59DB1-F84F-406C-9F5C-D6BCBD5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E24B-4FA2-4D64-8315-7FD5ED1C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6F581-606E-4835-B96A-F9DD6BB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2581A-7FB2-433C-B510-9F659BF2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6B611-7A64-4561-B203-27E8F883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92F8D-67D0-4E37-8FB1-7BC22501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E17BB-097F-4EA9-80D5-26AE30C9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6651B-B0D8-455C-9133-E44AA22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D7A3A-3B23-4F9C-B836-AE27FEB9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8BFAF-0631-43B5-A028-0E826C20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4D468-CF13-4BBF-9DC6-B599B7DC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FF9F1-0DDD-4E37-ADE7-FAE5E311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EE3C-6EF9-44F7-9AAA-A55DBC6C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BB7DC-314D-4508-B8CC-459ADC79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13498-2A90-4415-B298-BE612D2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601B5-DB16-4DEE-A57B-6343C40C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7B8C2-6605-4CFB-B566-C389B0AF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A0186-5B26-4FB8-91AA-A6536343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64E62-0456-4B72-A1C9-ACE72F8C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4C064-CACA-4685-9AA2-46BDD91D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4E942-99C9-424E-BB7F-B3A9BCBD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0FAF2-5AE4-4A74-8186-C9CACAB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4029D-294E-41E8-BF23-F851503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FBD4-8153-4922-974D-4F84CA2B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872E2-3CA2-45FD-89E4-59211C40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BB9C7-32DF-4AF3-84D4-E7E658B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172AD-EE42-449D-8214-72C652A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D7E10-6054-42EA-BC72-6F6846ED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F8C56-CF50-4FAD-9EE9-061F602D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74F18-FCF2-4792-B1A0-2D05E14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2FED3-CCA5-4D3C-AA8D-BE3EC4AD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9D511-D616-49BF-A160-057F8210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927BB-A2D1-435F-B730-1E90AE64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21AE6-56C4-4851-A612-FFCA67D5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2547-A4F5-4D06-A31F-B74E54E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A227B-AB08-4697-AE60-3852EA89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BBC59-F2D5-4F16-AF5A-10660ED7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4E937-6DBC-47E5-A5FC-87316635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CC933-4EDD-4F04-A441-57C7C8A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B83E8-BEF2-41C0-A98C-AD5C089E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F27CC-DC8B-44F2-919A-D59F8C73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0C731-B963-414B-B7A3-A4B1D47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5E247-B3D3-4AA8-940E-16ABE65F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ADCD3-7617-481E-9B1A-59DE6E0C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F3728-DC66-4C63-802D-93657A47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A46F-768A-4517-85D7-A864242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B4C64-8A3C-478E-8EF5-FBE8D896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6592A-2E3B-40EE-913F-6DDF09F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802AB-AD35-4FBF-B53B-EAC324B8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66086-8756-4F3D-8A20-891AC869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06766-28E2-4D4C-94C7-0BE6C53B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662C5-1C1F-4610-B6FB-0F8F9E3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0866E-8D89-40DE-8D1B-1F234E8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D96DC-E909-4C61-97AC-1AA9976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F6C9B-6B7F-43E6-BF69-8D26C24B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75C87-DC3A-4714-9BDE-42CB850F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9B97-C94D-4F81-96B0-7E0E3B27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3F56D-BFD6-4A07-A7A8-2F4A94E7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960C8-2FEA-4CDF-AA17-5472D1F3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C5A0B-686A-4F37-A946-87705AC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E05A4-A0BE-44F1-BC78-1D33C3B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DED10-67E2-4545-8FBF-CD9A948F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CCE13-C693-48E6-AEDA-57E593B2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D163A-8889-405A-B566-909C2E08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ACE50-FB15-468F-A558-A7006B4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6BC1E-050F-41C3-A2A3-26F037C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91C7F-52AB-46F8-9DD1-1C8BB87B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6EFC-3443-461D-8BF5-6215F36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FD02B5-1ECB-480B-9C15-AAD121E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08E3F-ECD5-4387-A988-03DBEE31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40DDC-4E35-4301-8FE3-B46C4024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D5FD0-297D-44B2-8319-6E271989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79822-965E-4B43-BD0E-7FBE14E0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4FF0A-5719-4F2F-9CFA-8D7217E5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0A702-751E-4253-B56D-8D5DC18D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AF5BA-F978-4574-8B23-A6C66DF7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B54BE-E4B2-41DC-B1B8-2C877C36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76C8A-EF9E-44B0-BCE5-3834D2F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CEC-EAEE-4F8F-8CD5-6B1D1554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24DE-0A3C-4770-A738-3CF2B269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55AEC-E3A9-49F7-84BC-CCF05D1C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CE5FF-A88A-4B3C-AE11-FFA97ED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92D21-FD56-4BF5-8207-ADD6766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5D692-651F-4FB5-859B-A72320F4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8E718-8C03-491F-AAAA-7E9DA8E1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6BE6D-9E8D-4C61-9FCD-2507A75D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4FBB8-2C82-4C1F-9C17-4991BF0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A009F-3497-481D-94D0-0F760C2B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D6869-DBA4-41C4-94BC-4486E254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58781-3D83-4CDF-BD39-B6E3C2BF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D0C-4EF8-4EF2-B742-48A3491B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E87E5-14A3-459A-95ED-4A7AC8A7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8D2C7-EF19-422E-9605-6D3E7F4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3F1DC-10A5-4469-8FF2-77D5C3B8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9983C-35AF-4385-AC28-1138FCFE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DEF1B-E6FF-4789-9C48-1837A1D5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4CB16-5A90-474B-880F-6F32C96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3929C-F936-455D-A0C2-61A0530B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97B0A0-506B-4D00-BF08-D60535B5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BF116-FD9C-4B71-B1E5-CD5FDC2C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62FA6-7CC0-428D-A4D3-E08E5C5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BC51-C7CB-4820-818A-EB48A80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DFDA2-BD18-4483-B525-9763B927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F8C42-02C3-4CA0-B6D3-4F7E2806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3F133-256B-458A-9F41-59DDB1FD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D3D43-34C1-4B08-B227-C382399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07349-511F-4EE6-BA74-31C4359C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07644-9BDA-416F-9159-690BCAD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EF37A-D0FD-41C8-95E7-67A0F172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6A6B7-BB65-4F48-89C5-260E83A3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45D33-5598-4F66-8773-C43AAA5B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9EEF5B-369F-4EA2-8079-AB404B6A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2AA5-02A8-4960-899E-2F7A97C1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87796-A6D2-4EA5-A7B9-265DDA4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D42E4-BC05-451B-B47E-565287A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B9672-24C4-4F2F-AA76-2F3C930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58FDF5-3BE8-431A-A9FC-10E3EC4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2CF2A-3E1D-4E56-AC9F-9ED863C2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00C02-F600-4F60-8901-238DA92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388A5-9092-474A-A435-5753A4A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093B3-E0B9-4E1C-BADC-C68A891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5C70F-6D13-4B89-A149-CF590DA3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6EF0D-6FE6-4AF3-BB97-D5A467DD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D84A-F47F-437E-A27D-91D9CF76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1BD26-A48E-47E3-B9F1-7812E91E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9EE57D-6D3C-4924-AF1C-199F6605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AC25A-69C7-4BD0-8017-4028F767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A0575B-4B05-4E3A-9CF0-7F77E1D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A7019-3AA5-4C64-9338-7E7AA193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C25E6-B5C4-4A84-B888-08ADCB6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3987C2-4DD5-48CF-A988-3550B234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EEC4F-15F6-42DE-976E-AC1B027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F40BD-FF9C-458C-90E7-80C45A84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D3108-E6C6-4124-83A9-5FE9C35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F072-A758-43BC-BB55-8E2B1BAA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9C8E0-8907-45B1-8045-43950F0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73C647-2E9B-4E83-97C7-1D497B0D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7793CD-C7EE-4C97-8815-70077553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8B39BC0-7E1B-40B6-9651-47251BD8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94A2B7-3F18-43A6-88B1-CD779B4E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CDCC5FF-5C70-4878-B99E-99A853A5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A975FD-27B5-4F3D-8891-60E9443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1EA237D-208A-44A9-8602-9825A90D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5EC6BBD-C7D5-431D-BC74-56554FB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9E50223-45FD-4066-BA78-9544778B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87DD-2E9D-45D5-B47A-F85DA275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67BDA2-F293-4A0D-8F53-538845FF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91B704-3AB4-4E7C-90BB-F74AA2D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F8DDF4-D424-4343-91C2-CC07D433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3F75CDC-79AD-4E0C-A0F8-49E11FAD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8E9A05-755E-4E29-B03F-9EC958E1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AECA9-C3BD-44F8-864A-C5D55752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6CACD-1589-40FC-8BA1-20D6ACC3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F736F-AA47-4959-9484-5A5EF92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E9D5EB-DD87-4FEE-89EA-2C6BD59B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D7474-57CB-4185-8C9B-BE2F9097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C510-9FFB-426C-ADB4-44DF260B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7BC85-0D00-4DFA-87E8-58F321AF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1F56A-8C2B-4236-85F1-0AF18E4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81E8F9-300C-466A-8D4F-776AFA87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6C1822-B747-49FF-A059-13F4F52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1E0988-EE2D-4C14-959B-A9D5049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8D2034-9354-40AF-B4D2-553ECE5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21DF0C-9D32-4130-A65B-FD38DF43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48ADDA-B629-4A63-ABA5-11C1F793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25BF9-5DFA-4862-AF08-EDE0105C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73CA06-4EDA-4BC3-BB56-1A93AED5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D40B-6245-4675-87C9-6B4BF218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D02D8-E028-4E47-9399-8E3DBA83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2DEF0C-F4FD-403D-87AE-16F85265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76D372-91BA-486E-9910-0C40D9C7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23C834-2BFB-4258-8B15-07B82DC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DE4B7C-937B-4752-859C-310C15F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7AEB12-BABC-4B91-BA55-8FBDF9C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CE7922-B5F3-4952-AF3A-A7BB8865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A6A656-9049-4E68-B33A-F8760C44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7D7461-4208-452E-9DBD-7EF7C161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7FEF6E-9D8B-4844-A954-B17B302A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D98D-8CD5-4F64-843D-95F94BEF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944A7B-E2DB-452A-BCC0-0446298D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A59C82-52EC-41D3-87DD-3FB1C245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682842-B9E9-4373-B6D4-A61B5D0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684A7C-9E77-4736-8358-78E0983E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0135E5-F82D-487F-A24F-64A1BF7F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BCFD91-ABBC-4BC5-B911-58FAF29C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D765F8-E18D-413F-A4FB-5758ABD8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98C7FF-51E3-45F4-8EDE-28DC9784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7752DE-9A5B-43CA-9238-CFC3C060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711B26-F938-4978-8A05-9D824445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750-78CB-4568-86EA-C22612CF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886D-F8DE-4E1F-8CE1-AC1427BB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87AAA7-C734-46E9-A3A5-099C0E5B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C290F4-4AE6-4FBB-831F-31DD7BF3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AA9335-621D-40D8-BD8F-518E5B4A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2B4958-0E74-4C50-A9B3-610ED1DE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BBE5A3-C734-4663-850B-62691E74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4E5700-E451-448C-A6C3-3A922910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F7C3AC-CA83-47DF-8F8E-1C9B459E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EC3368-14F0-4357-9FBD-642E304F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0F20AF-2CF3-497A-AA60-5AFA4E44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3089E8-720F-4D3C-A698-30AD18A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14CD-19A3-47EF-BC31-858A88DF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F0BB1A-14A6-41DE-9741-6498B56A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C5DF0-B546-4741-ABA6-2FAA8804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77F064-35D0-4827-B448-B80A142E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FE2B2E-242E-44ED-A796-436FA28D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EBAA32-5DE0-400B-89A4-2F4F77A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1FC3A4-3E23-4A13-8C6A-2F083E75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5479C7-7B1E-4483-8234-CD0D0212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047EC8-B753-49F5-B067-AB9BA095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B62446-A2A2-4EB4-860A-79A29744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EB7475-2BA1-435B-BABC-646AE2C5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D116-A308-4DCB-916D-E129236B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E57AA8-1F8F-4F36-B973-5DFE577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7B715E-21B0-47ED-B945-8716EDE8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F3BB8D-6CA0-40AA-A7F0-271A8445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D745EF-8BB6-4F44-B48C-E683CB19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651802-CAD7-4B70-B52F-BC3D63C7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F3FC7C-9296-4C3A-801D-8F33DCDD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274D77-351E-44A2-8AAA-D7A1E8DB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57E544-D9DB-46AE-B1D9-2BA4A8A0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73AE5F-FFDD-49E8-9256-DC869392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288A83-488A-4961-B018-8A8C346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6134-C44E-4EE3-ACFA-50246E3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B9FC57-B4CD-47F6-BB13-D6656B5A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0A6E2C-8617-4637-AD5C-601AA6F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F14F6-6F36-44D3-A9F6-4D7DD1B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C12B52-3A2C-44D6-AB2B-2E5D54F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B35C84-0C0A-4E0D-8847-85DC0877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8E9C32-68DF-49C7-B838-8254A282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8F0722-DEFD-4D84-A5AA-349F52DC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052E-3153-4577-8C51-D96C01BB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B749-9C14-4542-826A-F6E729BE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D6D4E-791C-4F8D-A5EE-19B45A8F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8F5A-186B-466D-866E-C127A7E5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C93D-5832-4E97-934E-C3D19ECE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E335-E0AE-41A5-BF6A-9B38C51D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94F-BA33-422F-BE65-E7414BEB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30D6-A0BC-4308-A996-BBFA143D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B67D-4EAE-44FF-8716-E2714D41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A8E69-366A-42D2-B640-880453A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6CD3-7D18-4DD9-8A34-E34075B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7AEE-1BCE-44FB-9C48-B385DDC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8891-65DA-47C4-846C-5054685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5A47-0E9B-46F9-888B-FB71292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F83C-C733-4DE7-BC4D-0783F394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0EFA0-1D5C-4579-A22A-161AD8BB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4E26-776C-496D-8A61-7C769404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33C-A5C7-4066-B8A1-CBAEF14A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8F5D-CECC-4E67-A276-D0E83E3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964F-688B-41EA-825B-549722A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839D-B522-40DE-8A2A-4763B466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B2E4-3C51-4ACD-BC94-5F654B12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9CCA-45D7-48F6-86A7-816A85F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D90B-663B-4877-8FB4-3CF56D0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D206-420E-4ED6-8B2A-51C4A8F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FC8AA-6DA0-410B-9C5E-9400D90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8D3B-AAFA-45D2-914F-10DAF60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2C21-3BD3-404A-9C7B-3B520F6C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404-4AD6-4BAB-A7E4-81BF1E7E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5D3FC-C41A-415A-B1F8-7730046E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00510-C5BA-4548-BDA0-28EB9AB4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91DD3-3881-4BCE-91DD-5808F59E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C53A-2910-4243-A85B-6A840F45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38ECC-5029-4460-A466-2353DEE1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6CDA-6276-4BD3-BF9C-C06521AF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52CA-A9FE-457E-B123-05BB0B3C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E852B-2F8E-4BEC-9D13-CC1E3EE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90F8-F57A-4C28-A027-9E48744F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C732-8F47-4A6A-9D29-4BCDF4F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795-9207-4029-81C6-2654F884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FE838-40C0-490B-AC2A-7AD0E6FB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3ED6-E7C8-47A8-9AC8-5D71C6A3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8A812-3468-4E74-BA2D-FA3C98D8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83448-B859-4D26-B11C-D34A9B58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C483E-204E-4291-8343-AF336E26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6176-8211-4334-A5DC-384175EF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5B3B-3175-4BF5-87E8-C3080C47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8386-05CD-43D7-8EA0-F72AD02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5106A-FF84-458F-9665-64754B93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20881-874D-4E63-87DF-EA1B079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0D5-1853-4F88-B814-6F773C30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37C5-AE62-4DC6-AAAE-00BC7D27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0FD68-9BDC-4997-978C-64DD08E1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BB443-93A0-44AC-A4E7-53C4E734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0D8EE-53DD-47AA-B890-DE546A59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F887F-04DD-47E8-94E6-CEDAC614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ED519-F7C9-4B69-8157-C00D76ED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CF481-50F5-4B92-98A3-27BF10F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0C72-5B0D-448B-8A69-F0368BA9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D5600-798A-4DD5-A641-93E8DD97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886A-B39D-4BFD-AB38-6A17245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2FD-ED9C-43B8-BB9D-7A0A0B9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284BF-DF5F-491F-986D-05364D75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D9389-4FCA-4033-9FAA-405AA895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EE13-226D-4111-8854-98A4512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23D3A-2E84-4606-BE17-AAE0A03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F92D5-A5CF-45E7-A878-F0177C13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A83E-04E3-47F0-9168-023C1CBA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69CF-83CD-48EB-AC57-976DFBB6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FB708-FD02-45FF-9B48-B3F8DA53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B9123-DC6E-477D-8F49-74FDFA2E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8597C-6C90-4301-9DB4-7C069DD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21.xml"/><Relationship Id="rId32" Type="http://schemas.openxmlformats.org/officeDocument/2006/relationships/slideLayout" Target="../slideLayouts/slideLayout122.xml"/><Relationship Id="rId33" Type="http://schemas.openxmlformats.org/officeDocument/2006/relationships/slideLayout" Target="../slideLayouts/slideLayout123.xml"/><Relationship Id="rId34" Type="http://schemas.openxmlformats.org/officeDocument/2006/relationships/slideLayout" Target="../slideLayouts/slideLayout124.xml"/><Relationship Id="rId35" Type="http://schemas.openxmlformats.org/officeDocument/2006/relationships/slideLayout" Target="../slideLayouts/slideLayout125.xml"/><Relationship Id="rId36" Type="http://schemas.openxmlformats.org/officeDocument/2006/relationships/slideLayout" Target="../slideLayouts/slideLayout126.xml"/><Relationship Id="rId37" Type="http://schemas.openxmlformats.org/officeDocument/2006/relationships/slideLayout" Target="../slideLayouts/slideLayout127.xml"/><Relationship Id="rId38" Type="http://schemas.openxmlformats.org/officeDocument/2006/relationships/slideLayout" Target="../slideLayouts/slideLayout128.xml"/><Relationship Id="rId39" Type="http://schemas.openxmlformats.org/officeDocument/2006/relationships/slideLayout" Target="../slideLayouts/slideLayout129.xml"/><Relationship Id="rId40" Type="http://schemas.openxmlformats.org/officeDocument/2006/relationships/slideLayout" Target="../slideLayouts/slideLayout130.xml"/><Relationship Id="rId41" Type="http://schemas.openxmlformats.org/officeDocument/2006/relationships/slideLayout" Target="../slideLayouts/slideLayout131.xml"/><Relationship Id="rId4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F86-F0B8-4068-B0E2-86C82766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EAB6-8CA5-4706-841B-88394776E1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8DFA-F5D3-4B85-AF24-D9D1E99B3D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1"/>
    <p:sldLayoutId id="2147483780" r:id="rId32"/>
    <p:sldLayoutId id="2147483781" r:id="rId33"/>
    <p:sldLayoutId id="2147483782" r:id="rId34"/>
    <p:sldLayoutId id="2147483783" r:id="rId35"/>
    <p:sldLayoutId id="2147483784" r:id="rId36"/>
    <p:sldLayoutId id="2147483785" r:id="rId37"/>
    <p:sldLayoutId id="2147483786" r:id="rId38"/>
    <p:sldLayoutId id="2147483787" r:id="rId39"/>
    <p:sldLayoutId id="2147483788" r:id="rId40"/>
    <p:sldLayoutId id="2147483789" r:id="rId41"/>
    <p:sldLayoutId id="2147483790" r:id="rId4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7DA3-23A5-4746-88EA-31749103B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5862-07FD-4AC7-B131-20795C883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846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0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41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4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DCAD-2BFC-4CFD-84F8-BD5C49B0A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892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4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44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4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A0F0-D584-45E4-97D7-92F10CB0B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937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46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47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48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C23-66F7-40A2-B219-CD99E0060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999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1021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1023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1035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3" name="PlaceHolder 2"/>
          <p:cNvSpPr>
            <a:spLocks noGrp="1"/>
          </p:cNvSpPr>
          <p:nvPr>
            <p:ph type="dt" idx="49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ftr" idx="50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sldNum" idx="51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E1F-9838-4494-839D-37518F27F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5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5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5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8DD4-596B-447D-BAFD-2BF70FFFC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dt" idx="5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ftr" idx="56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sldNum" idx="5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A84F-A671-458F-BE1E-46835BFE7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4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ECA-CBDD-4110-B5F6-D90F5156B03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61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7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2ED-46C4-416D-88AC-43FFFCCA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52D3-65B1-4296-BB1B-F5F041A5C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427-C87E-491F-9065-E6783E7DB6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AE50-72AF-4830-A54F-986E381123B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6216-8271-4EA3-B597-344E29796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7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7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7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5A70-F0FA-4F9E-921F-3E844868E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dt" idx="7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 type="ftr" idx="7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 type="sldNum" idx="7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347-8265-41AE-94E5-09CD72681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4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C495-FF16-4EAC-A1F8-23229AB8BB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0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78F-C981-4741-8A09-3CE1D609B6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10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11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7D17-F123-47E1-8893-DE7733EDEFC2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3805-3C81-4262-99F9-E920C7A1211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0717-1C17-4830-B64D-18E44BC8608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1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854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854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F786-4079-4506-9FC9-31EF085CF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38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3d2458"/>
                </a:gs>
                <a:gs pos="100000">
                  <a:srgbClr val="854f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3d2458"/>
                </a:gs>
                <a:gs pos="50000">
                  <a:srgbClr val="854fc1"/>
                </a:gs>
                <a:gs pos="100000">
                  <a:srgbClr val="3d24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854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854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41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54fc1"/>
                      </a:gs>
                      <a:gs pos="100000">
                        <a:srgbClr val="3d245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d2458"/>
                      </a:gs>
                      <a:gs pos="100000">
                        <a:srgbClr val="854fc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54fc1"/>
                      </a:gs>
                      <a:gs pos="100000">
                        <a:srgbClr val="3d245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d2458"/>
                      </a:gs>
                      <a:gs pos="100000">
                        <a:srgbClr val="854fc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d2458"/>
                    </a:gs>
                    <a:gs pos="100000">
                      <a:srgbClr val="854fc1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d2458"/>
                    </a:gs>
                    <a:gs pos="100000">
                      <a:srgbClr val="854fc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4fc1"/>
                    </a:gs>
                    <a:gs pos="100000">
                      <a:srgbClr val="3d24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d2458"/>
                    </a:gs>
                    <a:gs pos="100000">
                      <a:srgbClr val="854fc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3d2458"/>
                    </a:gs>
                    <a:gs pos="100000">
                      <a:srgbClr val="854fc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854fc1"/>
                    </a:gs>
                    <a:gs pos="100000">
                      <a:srgbClr val="3d24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3d2458"/>
                    </a:gs>
                    <a:gs pos="50000">
                      <a:srgbClr val="854fc1"/>
                    </a:gs>
                    <a:gs pos="100000">
                      <a:srgbClr val="3d24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3d2458"/>
                    </a:gs>
                    <a:gs pos="100000">
                      <a:srgbClr val="854fc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3d2458"/>
                    </a:gs>
                    <a:gs pos="100000">
                      <a:srgbClr val="854fc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d2458"/>
                    </a:gs>
                    <a:gs pos="100000">
                      <a:srgbClr val="854fc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4E9D-6D58-4360-98CF-BA2621F8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74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77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A1C0-3BA9-48D2-A565-90A99C157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25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28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25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F651-7F14-48BD-92D2-5B00879F3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3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7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0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8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7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7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27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7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27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27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4.pn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27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27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2057400" y="30492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манда "ДВН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3809880" y="1752480"/>
            <a:ext cx="1438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f9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2057400" y="27432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914400" y="3962520"/>
            <a:ext cx="7391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Какие электроприбор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сть на кухне?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1065600" y="281844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Готовьте с музыкой и новостями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0" y="5531040"/>
            <a:ext cx="57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Микроволновка с функцией кофев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20640" y="228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СВЧ + вытя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8920" y="510444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Управление пуль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6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2762280" cy="1694160"/>
          </a:xfrm>
          <a:prstGeom prst="rect">
            <a:avLst/>
          </a:prstGeom>
          <a:ln w="0">
            <a:noFill/>
          </a:ln>
        </p:spPr>
      </p:pic>
      <p:pic>
        <p:nvPicPr>
          <p:cNvPr id="1687" name="" descr=""/>
          <p:cNvPicPr/>
          <p:nvPr/>
        </p:nvPicPr>
        <p:blipFill>
          <a:blip r:embed="rId3"/>
          <a:stretch/>
        </p:blipFill>
        <p:spPr>
          <a:xfrm>
            <a:off x="6172200" y="533520"/>
            <a:ext cx="2359080" cy="1699920"/>
          </a:xfrm>
          <a:prstGeom prst="rect">
            <a:avLst/>
          </a:prstGeom>
          <a:ln w="0">
            <a:noFill/>
          </a:ln>
        </p:spPr>
      </p:pic>
      <p:pic>
        <p:nvPicPr>
          <p:cNvPr id="1688" name="" descr=""/>
          <p:cNvPicPr/>
          <p:nvPr/>
        </p:nvPicPr>
        <p:blipFill>
          <a:blip r:embed="rId4"/>
          <a:stretch/>
        </p:blipFill>
        <p:spPr>
          <a:xfrm>
            <a:off x="1371600" y="3657600"/>
            <a:ext cx="2527200" cy="1646280"/>
          </a:xfrm>
          <a:prstGeom prst="rect">
            <a:avLst/>
          </a:prstGeom>
          <a:ln w="0">
            <a:noFill/>
          </a:ln>
        </p:spPr>
      </p:pic>
      <p:pic>
        <p:nvPicPr>
          <p:cNvPr id="1689" name="" descr=""/>
          <p:cNvPicPr/>
          <p:nvPr/>
        </p:nvPicPr>
        <p:blipFill>
          <a:blip r:embed="rId5"/>
          <a:stretch/>
        </p:blipFill>
        <p:spPr>
          <a:xfrm>
            <a:off x="5715000" y="3276720"/>
            <a:ext cx="260496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Bookman Old Style"/>
              </a:rPr>
              <a:t>Сегодня микроволновая печь заняла прочное место в нашей жизни. Если верить статистике, 85% семей по обе стороны Атлантического океана предпочитают микроволновую печь традиционным газовым и электрическим плитам и духовкам. А по всему миру количество пользователей    микроволновок приближается к 700 млн. человек!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304920" y="2286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кроволновая печь сегод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/>
          </p:nvPr>
        </p:nvSpPr>
        <p:spPr>
          <a:xfrm>
            <a:off x="228600" y="380988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рия изобрет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тройство электрочай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нцип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2438280" y="12952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ктрочай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7482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4626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стория изобрете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1900 году американский инженер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Джеймс Уиткомб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изобрел электрочайник. Получив вначале 40х современный кувшинообразный дизайн, стал постоянным жильцом на кухне и символом социального значения, вокруг которого собираются в тесном семейном или дружеском кругу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2"/>
          <a:stretch/>
        </p:blipFill>
        <p:spPr>
          <a:xfrm>
            <a:off x="0" y="3803760"/>
            <a:ext cx="238140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Современный пластмассовый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электрочайник  - цилиндрический, меньшего диаметра и большей высоты, он не занимает много места на кухонном столе и быстрее закипает, поскольку от нагревательного элемента тепло поднимается вертикально вверх и скорее нагревает слои воды. Потери тепла при этом минимальные. Чайник такой формы дольше сохраняет тепло и после кипячения. Этому способствует также жаропрочный, теплосберегающий, механически прочный корпус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1447920" y="304920"/>
            <a:ext cx="64008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тройство электрочай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00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8163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 txBox="1"/>
          <p:nvPr/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/>
          </p:nvPr>
        </p:nvSpPr>
        <p:spPr>
          <a:xfrm>
            <a:off x="1447560" y="17521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33"/>
                </a:solidFill>
                <a:latin typeface="Arial"/>
              </a:rPr>
              <a:t>Вода нагревается в чайнике от электронагревателя, включенного в сеть. Для защиты от влаги он размещен внутри металлической трубки, служащей экраном. Корпус  электрочайника  размещается на подставке, он легко устанавливается на ней и так же легко с нее снимается. Подставка имеет контактный разъем, одна его половина соединяется со шнуром питания электросети, а другая находится в дне корпуса, где через выключатели напрямую связывается с нагревательным элементом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3124080" y="228600"/>
            <a:ext cx="47246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нцип действия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устройство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/>
          </p:nvPr>
        </p:nvSpPr>
        <p:spPr>
          <a:xfrm>
            <a:off x="304560" y="2133360"/>
            <a:ext cx="4343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тория изобрет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стройство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нцип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2438280" y="4572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1bd"/>
                </a:solidFill>
                <a:latin typeface="Impact"/>
              </a:rPr>
              <a:t>Мясоруб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1bd"/>
              </a:solidFill>
              <a:latin typeface="Impact"/>
              <a:ea typeface="Impact"/>
            </a:endParaRPr>
          </a:p>
        </p:txBody>
      </p:sp>
      <p:pic>
        <p:nvPicPr>
          <p:cNvPr id="1707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784680" cy="37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8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/>
          </p:nvPr>
        </p:nvSpPr>
        <p:spPr>
          <a:xfrm>
            <a:off x="1523520" y="17524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Насколько известно, первую   мясорубку   изобрел   в                середине XIX века Карл Фридрих Христиан Людвиг барон Дрез фон Зауэрбронн.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Вслед за ним подобную конструкцию предложил, желая облегчить труд своей жене, австрийский изобретатель Петер Миттерхофер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2286000" y="380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История изобретения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-Толкач; 2-Собственно мясоруб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вод: 3-Вал приводной; 4-Отверстие для контроля уровня масла; 5-Облицовка передняя; 6-Пробка сливная; 7-Зажим заземления; 8-Облицовка задняя; 9-Электродвигатель; 10-Кнопка "Пуск"; 11-Кнопка "Стоп"; 12-Пробка; 13-Чаша с предохранителем; 14-Зажим; 15-Опора; 16-Блок зажимов; 17-Индика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1523880" y="304920"/>
            <a:ext cx="6324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стройство мясоруб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4"/>
          <a:stretch/>
        </p:blipFill>
        <p:spPr>
          <a:xfrm>
            <a:off x="1371600" y="1295280"/>
            <a:ext cx="64008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Мясорубка измельчает мясо вращающимися от электродвигателя изогнутыми ножами, результат достигается не за счет силы, а за счет скор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Появление электромотора многое изменило в трудоемком процессе измельчения мяса и твердых продуктов. Прежде всего, он просто заменил мускульную силу человека. Первые электрические мясорубки появились в начале XX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457200" y="457200"/>
            <a:ext cx="838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работы мясорубки XXI ве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Во многих сказках живут маленькие человечки – гномы, которые помогают добрым людям. Гномы стараются оставаться незамеченными, делая за людей очень важную и трудную рабо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ного примеров сказочных воплощений в нашей жизни. Но как же гномы? Кем «стали» они? А вспомните о наших повседневных помощниках – привычных бытовых приборах!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Разве не напоминают они в своей работе сказочных гномов? Только устают они намного меньше, потому что работают на электричеств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609480" y="38088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e5a871"/>
                    </a:gs>
                    <a:gs pos="100000">
                      <a:srgbClr val="6c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щники человека XXI века</a:t>
            </a:r>
            <a:endParaRPr b="0" lang="en-US" sz="1800" spc="1" strike="noStrike">
              <a:ln w="1260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e5a871"/>
                  </a:gs>
                  <a:gs pos="100000">
                    <a:srgbClr val="6c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/>
          </p:nvPr>
        </p:nvSpPr>
        <p:spPr>
          <a:xfrm>
            <a:off x="4495680" y="2133360"/>
            <a:ext cx="46483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ория изобрет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ройство холодильник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работ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2286000" y="6858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лодильни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4"/>
          <a:stretch/>
        </p:blipFill>
        <p:spPr>
          <a:xfrm>
            <a:off x="685800" y="1863720"/>
            <a:ext cx="3494160" cy="49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1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/>
          </p:nvPr>
        </p:nvSpPr>
        <p:spPr>
          <a:xfrm>
            <a:off x="2576160" y="1904760"/>
            <a:ext cx="65674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«Отца»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холодильника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зовут Джон Горри. По специальности он был врачом, по призванию –       изобретателем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1981080" y="228600"/>
            <a:ext cx="5867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История изобре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4"/>
          <a:stretch/>
        </p:blipFill>
        <p:spPr>
          <a:xfrm>
            <a:off x="990720" y="4086360"/>
            <a:ext cx="289548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73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3ba7"/>
                </a:solidFill>
                <a:latin typeface="Arial"/>
              </a:rPr>
              <a:t>Основной принцип работы холодильных установок: сжатый компрессором воздух охлаждается при расширении, когда проходит через змеевик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1295280" y="380880"/>
            <a:ext cx="5410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e3ba7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рабо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e3ba7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8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то изобрел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новидность и принцип дейст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лько стоит соковыжимал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1905120" y="22860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ковыжима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2789280" cy="296712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3581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 txBox="1"/>
          <p:nvPr/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/>
          </p:nvPr>
        </p:nvSpPr>
        <p:spPr>
          <a:xfrm>
            <a:off x="1652400" y="1752480"/>
            <a:ext cx="749124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Изобретателем первой электрифицированной соковыжималки, которая появилась в США в 1933 году, считается доктор Уокер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1981080" y="3808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 изобрет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Самая простая соковыжималка для цитрусовых. Принцип работы элементарный: на вращающуюся ребристую насадку нужно положить половинку апельсина и надавить рукой. Когда перестанет отжиматься, пустую корку выкинуть и приложить следующую половинку. Сок при этом стекает в специальную емкость. Влажная мякоть накапливается в рабочей камер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1752480" y="457200"/>
            <a:ext cx="4800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f131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 работы</a:t>
            </a:r>
            <a:endParaRPr b="0" lang="en-US" sz="1800" spc="1" strike="noStrike">
              <a:ln w="12600">
                <a:solidFill>
                  <a:srgbClr val="2f1311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5175000" cy="41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3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37"/>
                </a:solidFill>
                <a:latin typeface="Tahoma"/>
              </a:rPr>
              <a:t>Вторая, разновидность соковыжималок – универсальные или центробежные. В них плоды измельчаются во вращающемся терочном диске. Под действием центробежной силы фруктовая кашица отбрасывается на сетку фильтра-сепаратора, сок стекает в специальную емкость, а отжатая мякоть накапливается в специальном отсеке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4" name="" descr=""/>
          <p:cNvPicPr/>
          <p:nvPr/>
        </p:nvPicPr>
        <p:blipFill>
          <a:blip r:embed="rId2"/>
          <a:stretch/>
        </p:blipFill>
        <p:spPr>
          <a:xfrm>
            <a:off x="2452680" y="1295280"/>
            <a:ext cx="433080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6" dur="500"/>
                                        <p:tgtEl>
                                          <p:spTgt spid="1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2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66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5" name=""/>
          <p:cNvGraphicFramePr/>
          <p:nvPr/>
        </p:nvGraphicFramePr>
        <p:xfrm>
          <a:off x="380880" y="2438280"/>
          <a:ext cx="8382240" cy="3816360"/>
        </p:xfrm>
        <a:graphic>
          <a:graphicData uri="http://schemas.openxmlformats.org/drawingml/2006/table">
            <a:tbl>
              <a:tblPr/>
              <a:tblGrid>
                <a:gridCol w="4981680"/>
                <a:gridCol w="3400560"/>
              </a:tblGrid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рус-прес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–92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ная центробеж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–660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чественная центробеж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–140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6" name=""/>
          <p:cNvSpPr txBox="1"/>
          <p:nvPr/>
        </p:nvSpPr>
        <p:spPr>
          <a:xfrm>
            <a:off x="609480" y="30492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стоит соковыжималка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eaeaea"/>
            </a:gs>
            <a:gs pos="100000">
              <a:srgbClr val="9696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1905120" y="1752480"/>
            <a:ext cx="6348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стория изобрет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Устройство скоровар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2971800" y="4572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корова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87656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Микроволновая печ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Электрочайни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Мясоруб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Холодильни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Соковыжимал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Скоровар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Тосте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Вафельниц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714b25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14b25"/>
                </a:solidFill>
                <a:latin typeface="Copperplate Gothic Bold"/>
              </a:rPr>
              <a:t>Паровар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2133720" y="380880"/>
            <a:ext cx="4876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держание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3399"/>
                </a:solidFill>
                <a:latin typeface="Comic Sans MS"/>
              </a:rPr>
              <a:t>ДЭНИ ПАПЕН - знаменитый французский физик XVII столетия. Именно ему принадлежит   изобретение , которое широко используется в наши дни, а именно  скороварка. 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1752480" y="304920"/>
            <a:ext cx="6096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e470bd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изобрет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e470bd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26528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тройство скороварки несложно. Скороварка имеет герметически закрывающуюся крышку, в которой установлены два клапана - рабочий и аварийный Рабочий клапан открывается и выпускает наружу излишек пара при превышении определённого уровня давления внутри скороварки. Аварийный клапан делает то же самое, но с более высоким уровнем давления. обеспечивают варку при повышенном давлении, что создаёт соответственно повышенную температуру приготовлени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1905120" y="380880"/>
            <a:ext cx="6324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тройство скоровар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/>
          </p:nvPr>
        </p:nvSpPr>
        <p:spPr>
          <a:xfrm>
            <a:off x="1828800" y="380880"/>
            <a:ext cx="6858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3ba7"/>
                </a:solidFill>
                <a:latin typeface="Arial"/>
              </a:rPr>
              <a:t>Скороварки могут иметь однослойное или многослойное, толстое или тонкое дно, крышки овальной формы прижимающиеся изнутри или круглые прижимающиеся снаружи с помощью пружин или винтовых зажимов, с герметизирующими прокладками из пластичных материалов или без прокладок - "цельнометаллические" скороварки. Они могут быть алюминиевые, из нержавеющей стали и даже эмалированные ( встречаются очень редко ), могут иметь внутренний объём от 0,5 до 40 литро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583416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Тостер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то изобрё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остер в жизни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много из истор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цип дей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 txBox="1"/>
          <p:nvPr/>
        </p:nvSpPr>
        <p:spPr>
          <a:xfrm>
            <a:off x="533520" y="30492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ОСТЕ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2" name=""/>
          <p:cNvSpPr/>
          <p:nvPr/>
        </p:nvSpPr>
        <p:spPr>
          <a:xfrm>
            <a:off x="1143000" y="1447920"/>
            <a:ext cx="69343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Тостер – электроприбор на кухне, конечно, не самый важ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Но любители готовых тостов знают, какие они получаются поджаристые и хрустящие! Готовые ломтики хлеба – не жирные, благодаря тому, что в тостере они готовятся без использования масла. Такая еда, безусловно, здоровая, и что главное – вкусная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1"/>
          <a:stretch/>
        </p:blipFill>
        <p:spPr>
          <a:xfrm>
            <a:off x="2514600" y="3990960"/>
            <a:ext cx="38196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 txBox="1"/>
          <p:nvPr/>
        </p:nvSpPr>
        <p:spPr>
          <a:xfrm>
            <a:off x="228600" y="22860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емного из истори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" y="1066680"/>
            <a:ext cx="792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ились тостеры очень давно. Первые модели были на столько примитивны, что сейчас, практически, никто и не поверит, что когда-то существовали такие чудные приборы. К примеру: первые модели тостеров работали на раскалённых угольках, а чтобы ломтик хлеба обжаривался равномерно, и не пригорел с одной из сторон, использовалась механическая ручка, прикреплённая к пластинкам, между которыми и устанавливался ломтик хле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752480" y="54864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Вот так давно человеку хотелось сделать из обычного хлеба какое-то лакомст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2057400" y="39625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дном из штатов Америки даже имеется музей ТОСТЕРОВ! В нём собрана уникальная коллекция от антеквариатных экземпляров, до соврем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28600" y="3124080"/>
            <a:ext cx="8077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июле 1909 года служащий компании General Electric Фрэнк Шейлор запатентовал  изобретение  электрического  тостера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3"/>
          <a:stretch/>
        </p:blipFill>
        <p:spPr>
          <a:xfrm>
            <a:off x="380880" y="4952880"/>
            <a:ext cx="1295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4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 txBox="1"/>
          <p:nvPr/>
        </p:nvSpPr>
        <p:spPr>
          <a:xfrm>
            <a:off x="152280" y="228600"/>
            <a:ext cx="582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бор этот не замысловат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ddebc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1" name=""/>
          <p:cNvSpPr/>
          <p:nvPr/>
        </p:nvSpPr>
        <p:spPr>
          <a:xfrm>
            <a:off x="225720" y="914400"/>
            <a:ext cx="69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Вставляется ломтик хлеба в  тостер, подключенный к с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27520" y="1676520"/>
            <a:ext cx="816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Находящийся внутри тостера, нагревательный эле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ставляет нагреваться пластинки, которые и поджаривают ломтик хле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обеи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28600" y="1295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Опущенные пластинки с хлебом включают тай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28600" y="2438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Когда время выйдет, таймер автоматически отключит тостер и вытащит готовые ломтики хле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5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886200" cy="2629080"/>
          </a:xfrm>
          <a:prstGeom prst="rect">
            <a:avLst/>
          </a:prstGeom>
          <a:ln w="0">
            <a:noFill/>
          </a:ln>
        </p:spPr>
      </p:pic>
      <p:pic>
        <p:nvPicPr>
          <p:cNvPr id="1776" name="" descr=""/>
          <p:cNvPicPr/>
          <p:nvPr/>
        </p:nvPicPr>
        <p:blipFill>
          <a:blip r:embed="rId2"/>
          <a:stretch/>
        </p:blipFill>
        <p:spPr>
          <a:xfrm>
            <a:off x="4038480" y="4191120"/>
            <a:ext cx="162000" cy="99720"/>
          </a:xfrm>
          <a:prstGeom prst="rect">
            <a:avLst/>
          </a:prstGeom>
          <a:ln w="0">
            <a:noFill/>
          </a:ln>
        </p:spPr>
      </p:pic>
      <p:pic>
        <p:nvPicPr>
          <p:cNvPr id="1777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3124080" cy="1965240"/>
          </a:xfrm>
          <a:prstGeom prst="rect">
            <a:avLst/>
          </a:prstGeom>
          <a:ln w="0">
            <a:noFill/>
          </a:ln>
        </p:spPr>
      </p:pic>
      <p:pic>
        <p:nvPicPr>
          <p:cNvPr id="1778" name="" descr=""/>
          <p:cNvPicPr/>
          <p:nvPr/>
        </p:nvPicPr>
        <p:blipFill>
          <a:blip r:embed="rId4"/>
          <a:stretch/>
        </p:blipFill>
        <p:spPr>
          <a:xfrm>
            <a:off x="1676520" y="1828800"/>
            <a:ext cx="1935000" cy="2133720"/>
          </a:xfrm>
          <a:prstGeom prst="rect">
            <a:avLst/>
          </a:prstGeom>
          <a:ln w="0">
            <a:noFill/>
          </a:ln>
        </p:spPr>
      </p:pic>
      <p:pic>
        <p:nvPicPr>
          <p:cNvPr id="1779" name="" descr=""/>
          <p:cNvPicPr/>
          <p:nvPr/>
        </p:nvPicPr>
        <p:blipFill>
          <a:blip r:embed="rId5"/>
          <a:stretch/>
        </p:blipFill>
        <p:spPr>
          <a:xfrm>
            <a:off x="1600200" y="3657600"/>
            <a:ext cx="1946160" cy="2109960"/>
          </a:xfrm>
          <a:prstGeom prst="rect">
            <a:avLst/>
          </a:prstGeom>
          <a:ln w="0">
            <a:noFill/>
          </a:ln>
        </p:spPr>
      </p:pic>
      <p:pic>
        <p:nvPicPr>
          <p:cNvPr id="1780" name="" descr=""/>
          <p:cNvPicPr/>
          <p:nvPr/>
        </p:nvPicPr>
        <p:blipFill>
          <a:blip r:embed="rId6"/>
          <a:stretch/>
        </p:blipFill>
        <p:spPr>
          <a:xfrm>
            <a:off x="1447920" y="1447920"/>
            <a:ext cx="2209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1.21387E-006 L 0.3875 -1.21387E-006 E">
                                      <p:cBhvr>
                                        <p:cTn id="860" dur="2000" fill="hold"/>
                                        <p:tgtEl>
                                          <p:spTgt spid="1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-4.10405E-006 L -0.00573 0.27746 E">
                                      <p:cBhvr>
                                        <p:cTn id="877" dur="2000" fill="hold"/>
                                        <p:tgtEl>
                                          <p:spTgt spid="1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5434E-006 L -8.33333E-007 0.1926 E">
                                      <p:cBhvr>
                                        <p:cTn id="879" dur="2000" fill="hold"/>
                                        <p:tgtEl>
                                          <p:spTgt spid="1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1926 L -8.33333E-007 0.01503 E">
                                      <p:cBhvr>
                                        <p:cTn id="923" dur="2000" fill="hold"/>
                                        <p:tgtEl>
                                          <p:spTgt spid="1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925" dur="20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/>
          </p:nvPr>
        </p:nvSpPr>
        <p:spPr>
          <a:xfrm>
            <a:off x="1041120" y="2444400"/>
            <a:ext cx="71118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Немного вафельниц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Из истории вафельниц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Разновидности вафельниц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2286000" y="380880"/>
            <a:ext cx="41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фельниц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 txBox="1"/>
          <p:nvPr/>
        </p:nvSpPr>
        <p:spPr>
          <a:xfrm>
            <a:off x="2590920" y="152280"/>
            <a:ext cx="400032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фельниц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28600" y="3429000"/>
            <a:ext cx="815328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афельница так же работает с нагревательным элементом. Только в вафельнице используется давление на тесто,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его пресс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0" y="2057400"/>
            <a:ext cx="8610480" cy="703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расивые и вкусные вафли делаются из прессованного теста горячими рельефными пластин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6" name="" descr=""/>
          <p:cNvPicPr/>
          <p:nvPr/>
        </p:nvPicPr>
        <p:blipFill>
          <a:blip r:embed="rId1"/>
          <a:stretch/>
        </p:blipFill>
        <p:spPr>
          <a:xfrm>
            <a:off x="3657600" y="5029200"/>
            <a:ext cx="17334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"/>
          <p:cNvSpPr txBox="1"/>
          <p:nvPr/>
        </p:nvSpPr>
        <p:spPr>
          <a:xfrm>
            <a:off x="228600" y="228600"/>
            <a:ext cx="619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акие вафельницы был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57200" y="1523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ейчас широко используются вафельницы, работающие от электричества. Там, как уже было сказано, используется нагревательный элемент, который накаляет поверхности, на которые накладывается т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57200" y="3048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Но вот первые вафельницы работали без всякого электричества, по принципу сково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505320" y="4038480"/>
            <a:ext cx="4419360" cy="19234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80808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отличии от современных электрических вафельниц, такие вафельницы неудобны тем, что их необходимо на плите периодически переворачивать, чтобы вафли не пригор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52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748188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стория изобрет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сторические фа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ринцип рабо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икроволновая печь сегодн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овременный дизайн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1523880" y="609480"/>
            <a:ext cx="601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470bd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волновая печь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470bd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7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660920" cy="24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4" dur="20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7" dur="20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1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6" dur="2000"/>
                                        <p:tgtEl>
                                          <p:spTgt spid="1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 rot="252600">
            <a:off x="914400" y="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3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новидности вафельниц..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160020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Для изготовителей вафельниц существует огромный простор для фантазий! Дело в том, что рельеф поверхности, которая и спрессовывает тесто, может быть самой непредсказуем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114800" y="1600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И это заметно как на устаревших моделях, так и на современны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28600" y="42670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т банальных узоров и орнаментов, до удивительных цветов, и гениальных орешк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6" name="" descr=""/>
          <p:cNvPicPr/>
          <p:nvPr/>
        </p:nvPicPr>
        <p:blipFill>
          <a:blip r:embed="rId3"/>
          <a:stretch/>
        </p:blipFill>
        <p:spPr>
          <a:xfrm>
            <a:off x="5295960" y="2666880"/>
            <a:ext cx="30765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8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замет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товка на пару: основные принци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2438280" y="8380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овар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 txBox="1"/>
          <p:nvPr/>
        </p:nvSpPr>
        <p:spPr>
          <a:xfrm>
            <a:off x="838080" y="83808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овар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0" name=""/>
          <p:cNvSpPr/>
          <p:nvPr/>
        </p:nvSpPr>
        <p:spPr>
          <a:xfrm>
            <a:off x="1143000" y="2362320"/>
            <a:ext cx="6172200" cy="1557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алеко не самый распространённый электроприбор на кухне. За то приготовленная в пароварке пища не вредна, и даже, полезна для здор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3"/>
          <a:stretch/>
        </p:blipFill>
        <p:spPr>
          <a:xfrm>
            <a:off x="3276720" y="4324320"/>
            <a:ext cx="20858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2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504800" cy="2009880"/>
          </a:xfrm>
          <a:prstGeom prst="rect">
            <a:avLst/>
          </a:prstGeom>
          <a:ln w="0">
            <a:noFill/>
          </a:ln>
        </p:spPr>
      </p:pic>
      <p:sp>
        <p:nvSpPr>
          <p:cNvPr id="1803" name=""/>
          <p:cNvSpPr txBox="1"/>
          <p:nvPr/>
        </p:nvSpPr>
        <p:spPr>
          <a:xfrm>
            <a:off x="533520" y="228600"/>
            <a:ext cx="746748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latin typeface="Arial"/>
              </a:rPr>
              <a:t>Готовка на пару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57200" y="1523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и многие приборы на кухне, работающие от электросети, пароварка содержит нагреватель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800600" y="1981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ароварке готовятся крупы, бобы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2362320" y="26668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в крышку обычной пароварки, мы увидим металлический сосуд цилиндрической формы. Убрав этот сосуд, мы увидим металлическое покрытие, с круглым отверстием по цен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286000" y="3809880"/>
            <a:ext cx="64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ливаем воды в отверстие, ставим сосуд – ведёрко на место, в него кладём в определённой пропорции крупу с водой (пропорции как правило записаны в руководстве по эксплуатации). Закрываем пароварку, включ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286000" y="5181480"/>
            <a:ext cx="647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тельный элемент начнёт нагревать воду, залитую в отверстие. Она начнет. вскоре, обильно испаряться, и нагревать сосуд. В сосуде скоро и будет готова каша. Пар, кстати, выходит через миниатюрные отверстия в крыш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9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80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1132" dur="2000" fill="hold"/>
                                        <p:tgtEl>
                                          <p:spTgt spid="1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 txBox="1"/>
          <p:nvPr/>
        </p:nvSpPr>
        <p:spPr>
          <a:xfrm>
            <a:off x="2057400" y="990720"/>
            <a:ext cx="4948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КОНЕЦ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1752480" y="2819520"/>
            <a:ext cx="586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деемся, было интер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Вам понрав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5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4" dur="5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5 октября 1955 года американская фирма         «Tappan Company» впервые представила   микроволновую   печь.  Изобрел      микроволновую   печь  американский инженер Перси Спенсер в 1946 году.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1523880" y="228600"/>
            <a:ext cx="5943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рия изобретения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2" name="" descr=""/>
          <p:cNvPicPr/>
          <p:nvPr/>
        </p:nvPicPr>
        <p:blipFill>
          <a:blip r:embed="rId2"/>
          <a:stretch/>
        </p:blipFill>
        <p:spPr>
          <a:xfrm>
            <a:off x="3124080" y="3370320"/>
            <a:ext cx="2710080" cy="34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 txBox="1"/>
          <p:nvPr/>
        </p:nvSpPr>
        <p:spPr>
          <a:xfrm>
            <a:off x="990720" y="30492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ройство микроволновой печ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4" name="" descr=""/>
          <p:cNvPicPr/>
          <p:nvPr/>
        </p:nvPicPr>
        <p:blipFill>
          <a:blip r:embed="rId4"/>
          <a:stretch/>
        </p:blipFill>
        <p:spPr>
          <a:xfrm>
            <a:off x="914400" y="1600200"/>
            <a:ext cx="7391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429ff"/>
                </a:solidFill>
                <a:latin typeface="Bradley Hand ITC"/>
              </a:rPr>
              <a:t>Первая микроволновая печь была установлена в одном бостонском ресторане для проведения испытаний в реальных условиях работы. Ее использовали для подогрева блюд. Через год эта модель, получившая название </a:t>
            </a:r>
            <a:r>
              <a:rPr b="1" i="1" lang="en-US" sz="3200" spc="-1" strike="noStrike">
                <a:solidFill>
                  <a:srgbClr val="9429ff"/>
                </a:solidFill>
                <a:latin typeface="Bradley Hand ITC"/>
              </a:rPr>
              <a:t>«Radarange»,</a:t>
            </a:r>
            <a:r>
              <a:rPr b="0" i="1" lang="en-US" sz="3200" spc="-1" strike="noStrike">
                <a:solidFill>
                  <a:srgbClr val="9429ff"/>
                </a:solidFill>
                <a:latin typeface="Bradley Hand ITC"/>
              </a:rPr>
              <a:t> поступила на рынок. Ее высота составляла около </a:t>
            </a:r>
            <a:r>
              <a:rPr b="1" i="1" lang="en-US" sz="3200" spc="-1" strike="noStrike">
                <a:solidFill>
                  <a:srgbClr val="9429ff"/>
                </a:solidFill>
                <a:latin typeface="Bradley Hand ITC"/>
              </a:rPr>
              <a:t>1,5</a:t>
            </a:r>
            <a:r>
              <a:rPr b="0" i="1" lang="en-US" sz="3200" spc="-1" strike="noStrike">
                <a:solidFill>
                  <a:srgbClr val="9429ff"/>
                </a:solidFill>
                <a:latin typeface="Bradley Hand ITC"/>
              </a:rPr>
              <a:t> м, а вес приближался к </a:t>
            </a:r>
            <a:r>
              <a:rPr b="1" i="1" lang="en-US" sz="3200" spc="-1" strike="noStrike">
                <a:solidFill>
                  <a:srgbClr val="9429ff"/>
                </a:solidFill>
                <a:latin typeface="Bradley Hand ITC"/>
              </a:rPr>
              <a:t>400</a:t>
            </a:r>
            <a:r>
              <a:rPr b="0" i="1" lang="en-US" sz="3200" spc="-1" strike="noStrike">
                <a:solidFill>
                  <a:srgbClr val="9429ff"/>
                </a:solidFill>
                <a:latin typeface="Bradley Hand ITC"/>
              </a:rPr>
              <a:t> кг. Стоило это чудо техники аж </a:t>
            </a:r>
            <a:r>
              <a:rPr b="1" i="1" lang="en-US" sz="3200" spc="-1" strike="noStrike">
                <a:solidFill>
                  <a:srgbClr val="9429ff"/>
                </a:solidFill>
                <a:latin typeface="Bradley Hand ITC"/>
              </a:rPr>
              <a:t>5000$!</a:t>
            </a:r>
            <a:r>
              <a:rPr b="0" i="1" lang="en-US" sz="3200" spc="-1" strike="noStrike">
                <a:solidFill>
                  <a:srgbClr val="9429ff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114300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Исторические факты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473544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10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10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77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Century Schoolbook"/>
              </a:rPr>
              <a:t>Приготовления пищи при помощи микроволновой печи — это электромагнитное возбуждение содержащихся в продуктах молекул воды. Мгновенно проникая, допустим, в глубину приготовляемого продукта волны поглощаются содержащимися в нем молекулами воды. От этого молекулы возбуждаются, их тепловые колебания усиливаются, а это и есть причина повышения температуры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2743200" y="22860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Принцип работы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doni MT Black"/>
              </a:rPr>
              <a:t>В настоящее время микроволновые печи не ограничиваются лишь функцией излучения 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СВЧ–волн</a:t>
            </a:r>
            <a:r>
              <a:rPr b="1" i="1" lang="en-US" sz="36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0" lang="en-US" sz="2800" spc="-1" strike="noStrike">
                <a:solidFill>
                  <a:srgbClr val="eea578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838080" y="533520"/>
            <a:ext cx="7620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Современный дизай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8 класс</cp:lastModifiedBy>
  <dcterms:modified xsi:type="dcterms:W3CDTF">2007-03-22T13:28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