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735-48B6-4C5E-B60A-942B6320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A1D-6DF4-4B4A-AE94-AA061548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77A-49E1-4B32-A06E-DA20DC54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795-4EE3-465A-82C7-55D9206C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351-E5AD-4F80-BA39-A488A92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A71-729E-4000-884A-47D3D007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2D05-F211-429F-9777-C79327E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26D9-B37C-4C39-9345-677C219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5D64-E108-47B6-87EC-E4CB80B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D0AA-7FCB-48A0-A997-54D225EA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0F3-A4A4-4825-8D8B-27CA788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B35-3E03-4F99-AC00-D1B4D496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77A-DF3B-4196-9F97-75540260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A24-C9BF-4555-9E63-ABB99000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8ABC-F50D-406C-ABED-05E9B1E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A62-8B85-4E9A-8ACF-1B34A7D4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EE54-6326-469F-8CA2-BD330786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C00-DB8E-4DEC-B78C-17E832D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671-658E-4C70-808C-0DEDA4FD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C56-E858-4078-91AC-040D874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15F-9158-4767-B475-F036783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1A9-4047-4DE4-8ACB-079C5DB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5F6-B715-4EAB-9EDA-DA61DC2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883-816F-4241-8B32-D6FC470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C3F-E75F-4E04-BD60-7EB4D94C14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4DD-B763-4059-8550-2D2ABC07D8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gif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814760" cy="15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93080" y="692280"/>
            <a:ext cx="1773000" cy="182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050920" y="189000"/>
            <a:ext cx="4681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>
                    <a:alphaModFix amt="70000"/>
                  </a:blip>
                  <a:srcRect/>
                  <a:tile tx="0" ty="0" sx="100000" sy="100000" algn="ctr"/>
                </a:blipFill>
                <a:latin typeface="Arial"/>
              </a:rPr>
              <a:t>ЧЕБУРА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>
                  <a:alphaModFix amt="70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1600" y="2060640"/>
            <a:ext cx="5074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Наш девиз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010"/>
                </a:solidFill>
                <a:latin typeface="Arial"/>
              </a:rPr>
              <a:t>Мы не можем без движ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010"/>
                </a:solidFill>
                <a:latin typeface="Arial"/>
              </a:rPr>
              <a:t>Мы всегда под напря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010"/>
                </a:solidFill>
                <a:latin typeface="Arial"/>
              </a:rPr>
              <a:t>Искру знаний раскал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5010"/>
                </a:solidFill>
                <a:latin typeface="Arial"/>
              </a:rPr>
              <a:t>Всех вокруг подзарядим.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 rot="20322000">
            <a:off x="5940360" y="744480"/>
            <a:ext cx="131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Fax"/>
              </a:rPr>
              <a:t>220 V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Fax"/>
              <a:ea typeface="Lucida Fax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093080" y="3933720"/>
            <a:ext cx="1417680" cy="2492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>
            <a:alphaModFix amt="25000"/>
          </a:blip>
          <a:stretch/>
        </p:blipFill>
        <p:spPr>
          <a:xfrm>
            <a:off x="0" y="0"/>
            <a:ext cx="12589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alphaModFix amt="25000"/>
          </a:blip>
          <a:stretch/>
        </p:blipFill>
        <p:spPr>
          <a:xfrm>
            <a:off x="0" y="0"/>
            <a:ext cx="1258920" cy="1155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97760" y="1341360"/>
            <a:ext cx="638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Давайте знакоми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Дарья, Оксана, Наташ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Это мозг команды наш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Максим и Серёж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Это смекалка и идеи т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4905360"/>
            <a:ext cx="152892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211640" y="4869000"/>
            <a:ext cx="781200" cy="126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67640" y="4869000"/>
            <a:ext cx="63036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1057320" cy="12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867280" y="5013360"/>
            <a:ext cx="9511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95640" y="260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Коротко о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760" y="1557360"/>
            <a:ext cx="487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Мы нови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Архимеда мол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Но не лыком шиты тож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5480" y="4005360"/>
            <a:ext cx="521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Нет побед у нас п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Но будут через годик, д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6911" t="0" r="3429" b="0"/>
          <a:stretch/>
        </p:blipFill>
        <p:spPr>
          <a:xfrm>
            <a:off x="6012000" y="1557360"/>
            <a:ext cx="2160360" cy="192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>
            <a:alphaModFix amt="25000"/>
          </a:blip>
          <a:stretch/>
        </p:blipFill>
        <p:spPr>
          <a:xfrm>
            <a:off x="0" y="0"/>
            <a:ext cx="12589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2720" y="476280"/>
            <a:ext cx="50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Что ждём от конкур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720" y="2076480"/>
            <a:ext cx="513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Пусть вопросы кол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Как у сосны игол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Но интересно отвеч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На все вопросы э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alphaModFix amt="25000"/>
          </a:blip>
          <a:stretch/>
        </p:blipFill>
        <p:spPr>
          <a:xfrm>
            <a:off x="0" y="0"/>
            <a:ext cx="1258920" cy="115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95280" y="4341960"/>
            <a:ext cx="1595520" cy="146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88000" y="1830240"/>
            <a:ext cx="20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24:09Z</dcterms:created>
  <dc:creator>Ученик</dc:creator>
  <dc:description/>
  <dc:language>en-US</dc:language>
  <cp:lastModifiedBy>Ученик</cp:lastModifiedBy>
  <dcterms:modified xsi:type="dcterms:W3CDTF">2008-04-11T10:26:14Z</dcterms:modified>
  <cp:revision>5</cp:revision>
  <dc:subject/>
  <dc:title>Слайд 1</dc:title>
</cp:coreProperties>
</file>