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8D06-5695-4999-8FB1-C0159EF44F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E788-CAEA-4CBB-9BF2-22DE82438D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59D-E996-4EB9-9DE6-9E7EC263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383-5D5F-4138-B0BA-E1882FB6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70D-6B03-4394-836D-81DE59F6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6A8-DDFC-43E4-8232-78690E53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B143-0A7C-4D06-A0A8-71180A9B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889C-9FB2-42BD-9370-9BE1EE11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1F72-2A90-446C-8ACD-432BDC04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C2D8-5E5A-4BDA-AFD5-562EF672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03B4-A1DC-4817-96B1-AF9CA120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D828-972D-49F4-8414-EF90707C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CFF0-6259-4961-92C0-94FDE645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943-9D13-4EC9-9581-52AD4592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024B-FF98-4C0F-90A5-50A6679B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8F55-11B3-40CD-BAFB-C68D1922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FBBC-16FD-4E18-8E5E-9B8B0606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32EF-E00F-4E59-8CD6-32B5161B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6D37-19DD-415A-9E3F-724155C2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FAC6-949B-440E-A3FD-96349FC0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EB6C-2CB6-4956-A27F-47C4BA8E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CC75-ABBC-436A-A278-D796600A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56DA-5004-405C-B46A-3F5ECD73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37B6-286F-4301-BB44-339CB782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FE1-CBEC-4231-AEE0-D854DCF7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9A71-D4D6-45EC-B1F0-F0C71A68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A4308-9CA6-4259-A960-A248473A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005F-B437-41FB-8862-8D67C297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71AA-095E-4CEB-BB27-2DD0734E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3EE8-3DCF-4820-9D3A-80F021D0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ACE0-B5D2-4EA0-9D4F-0A4E537B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5C16-63F2-4773-AF20-5D0A9F0E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E2B5-9055-4DA3-AE27-97FDFDAD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C981D-E89D-4BBA-9EEC-65DD3F9F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D35A-7A6B-4C48-9B3D-65B39754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7D2-218F-4E28-86D7-7E53A79A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5D2C-E9A9-476D-8DC2-D1DCE64C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C257A-09EB-4092-B3FB-2F1044E3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1FC6-B20E-43D8-93A0-7B824F11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0BB58-0503-4A7C-B401-7BD61A8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D821-7388-400B-B5F9-82978137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BACDA-0FDE-4595-99B3-425CB044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A3A5-4A4D-4B26-9D96-A0512D98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016E2-C4D3-4054-B145-9A333E85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6B8C8-088A-4F0D-896A-DAF4A8AD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713DC-FB4B-4B76-B604-18FAC3AD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B2B-32F3-420B-A94D-04585D20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2C2C4-4F77-4FF1-AFBB-4B911C13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0829B-A6A3-4608-AFFA-7AD2ABF6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30842-309E-4FA5-8612-4812F0AB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8DC97-DC4B-40A9-A316-11543A1A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4D40-4930-4C99-91F3-3BEB0631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373A1-746C-4ADA-AC6A-C92396A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82BC1-C1D8-48E3-9F5D-8C8C56D8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54DEE-79B0-4BAB-95AB-4245AC3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9A52-07BA-4773-9B4F-F93AC319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AADAC-4AA7-4F98-806C-E6A22ED7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FB5-395B-4961-AC0F-B6565517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3AD1-F5BB-46E4-9A40-DD0AFE67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DFFA5-1FBF-4CF7-9251-261EC339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325F8-0617-4DF8-9E17-22A1277E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857EA-41A4-41A0-A736-82800B65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7B35D-C196-4246-98C7-E4761114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BB8CD-D2EF-4BA2-B777-DBBBEDA8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CF277-2D31-42DB-919E-88D53729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BE52-73E3-4603-83DA-49917A3D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E7841-D4A7-496E-AA31-CA86141D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22A8D-BB44-4EBB-849E-2D42726D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005-C70F-4C9D-8215-81E96D47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68D3D-4807-4965-AB41-B75DD8E4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16686-DFA7-4D84-946B-898A01D3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36C0B-A2FD-4D1E-B7F7-9BC08B91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16C-14AA-4CCE-B45C-DD269DFC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55C-EAA1-4B92-A337-1E496871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61F2-EE56-44AB-B6B6-7A40B39E82B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10D5-2759-4758-AB52-F838B0315E0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6A89-4D1C-4008-81E8-A842EEEAF78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879F-9D76-4DB4-8323-83E81D8A052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25A6-BE4D-49F6-BFF3-8FD316F2BD2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4F05-50C3-4872-B213-C86B0678530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3133800" y="938160"/>
            <a:ext cx="5016600" cy="21830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142920" y="14292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МОУ Лицей №3 г. Галич Костромской об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42920" y="63579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2008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© All rights reser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одержимое 2"/>
          <p:cNvSpPr/>
          <p:nvPr/>
        </p:nvSpPr>
        <p:spPr>
          <a:xfrm>
            <a:off x="3714840" y="3714840"/>
            <a:ext cx="507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ворят мудрецы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шай пульс -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ём ответ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воюют глупц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мерцанье планет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шай пульс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узнать мы не в силах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2520" y="189000"/>
            <a:ext cx="106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f127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-11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Наша команд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ирнов Анто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Tox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хомиров Артё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Fl@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лшин Ле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$ummo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ольков Серге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Hawke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ловьёв Артё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15"/>
          <p:cNvSpPr/>
          <p:nvPr/>
        </p:nvSpPr>
        <p:spPr>
          <a:xfrm>
            <a:off x="3571920" y="471492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не слышишь ничего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тебе не все рав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ушай ПУЛЬС ты свой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лышишь, ты, что "Мы с тобой"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4929120" y="3500280"/>
            <a:ext cx="328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Наш девиз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29640" y="208080"/>
            <a:ext cx="106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f127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-11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3" descr="4.jpg"/>
          <p:cNvPicPr/>
          <p:nvPr/>
        </p:nvPicPr>
        <p:blipFill>
          <a:blip r:embed="rId1"/>
          <a:stretch/>
        </p:blipFill>
        <p:spPr>
          <a:xfrm>
            <a:off x="142920" y="14292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E:\DSC00513.JPG"/>
          <p:cNvPicPr/>
          <p:nvPr/>
        </p:nvPicPr>
        <p:blipFill>
          <a:blip r:embed="rId2"/>
          <a:stretch/>
        </p:blipFill>
        <p:spPr>
          <a:xfrm>
            <a:off x="2643120" y="2500200"/>
            <a:ext cx="3333960" cy="2648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E:\DSC00516.JPG"/>
          <p:cNvPicPr/>
          <p:nvPr/>
        </p:nvPicPr>
        <p:blipFill>
          <a:blip r:embed="rId3"/>
          <a:stretch/>
        </p:blipFill>
        <p:spPr>
          <a:xfrm>
            <a:off x="5857920" y="421488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7" descr="S7302542.JPG"/>
          <p:cNvPicPr/>
          <p:nvPr/>
        </p:nvPicPr>
        <p:blipFill>
          <a:blip r:embed="rId4"/>
          <a:stretch/>
        </p:blipFill>
        <p:spPr>
          <a:xfrm>
            <a:off x="142920" y="3929040"/>
            <a:ext cx="2286000" cy="28051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8" descr="toxa.jpg"/>
          <p:cNvPicPr/>
          <p:nvPr/>
        </p:nvPicPr>
        <p:blipFill>
          <a:blip r:embed="rId5"/>
          <a:stretch/>
        </p:blipFill>
        <p:spPr>
          <a:xfrm>
            <a:off x="6357960" y="214200"/>
            <a:ext cx="2603520" cy="36324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4"/>
          <p:cNvSpPr/>
          <p:nvPr/>
        </p:nvSpPr>
        <p:spPr>
          <a:xfrm>
            <a:off x="6858000" y="2142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ox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500040" y="61308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awk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5929200" y="6000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$ummo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17"/>
          <p:cNvSpPr/>
          <p:nvPr/>
        </p:nvSpPr>
        <p:spPr>
          <a:xfrm>
            <a:off x="2714760" y="2500200"/>
            <a:ext cx="19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71280" y="7128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l@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21440" y="189000"/>
            <a:ext cx="106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f127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-11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4:36:48Z</dcterms:created>
  <dc:creator>Flash</dc:creator>
  <dc:description/>
  <dc:language>en-US</dc:language>
  <cp:lastModifiedBy>User</cp:lastModifiedBy>
  <dcterms:modified xsi:type="dcterms:W3CDTF">2008-04-11T10:19:48Z</dcterms:modified>
  <cp:revision>31</cp:revision>
  <dc:subject/>
  <dc:title>Пульс</dc:title>
</cp:coreProperties>
</file>