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5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1.png" ContentType="image/png"/>
  <Override PartName="/ppt/media/image19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15.jpeg" ContentType="image/jpeg"/>
  <Override PartName="/ppt/media/image3.jpeg" ContentType="image/jpeg"/>
  <Override PartName="/ppt/media/image11.jpeg" ContentType="image/jpeg"/>
  <Override PartName="/ppt/media/image9.jpeg" ContentType="image/jpeg"/>
  <Override PartName="/ppt/media/image2.png" ContentType="image/png"/>
  <Override PartName="/ppt/media/image4.jpeg" ContentType="image/jpeg"/>
  <Override PartName="/ppt/media/image10.png" ContentType="image/pn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7AC21-130C-40BB-B384-5837A24BC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EA567-BAF0-4003-98B3-F4AAAB1F8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C4D9F-2F52-4575-91BA-829CE1E62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5C9F1-0E81-43A1-8B0F-A51024929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44944-DC09-4552-BF3B-31B92DB7E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EBF34-03F9-4C09-9291-9B4ABDE1F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82966-D5C7-4A6C-B533-E57C809C1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D62E9-5543-468D-B064-75FCF075A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C8EE2-AAE3-45A3-B97A-D87DCCFA7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8B69C-A83E-4334-85A7-8B9E0E038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7815E-3798-4375-A619-D44CCA38F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C9BAA-06D4-44A3-8684-AC7490910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97445-CEEC-44D7-8890-38E0A4CAE1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slide" Target="slide5.xml"/><Relationship Id="rId8" Type="http://schemas.openxmlformats.org/officeDocument/2006/relationships/image" Target="../media/image3.jpeg"/><Relationship Id="rId9" Type="http://schemas.openxmlformats.org/officeDocument/2006/relationships/slide" Target="slide6.xml"/><Relationship Id="rId10" Type="http://schemas.openxmlformats.org/officeDocument/2006/relationships/image" Target="../media/image3.jpeg"/><Relationship Id="rId11" Type="http://schemas.openxmlformats.org/officeDocument/2006/relationships/image" Target="../media/image3.jpeg"/><Relationship Id="rId12" Type="http://schemas.openxmlformats.org/officeDocument/2006/relationships/image" Target="../media/image4.jpeg"/><Relationship Id="rId13" Type="http://schemas.openxmlformats.org/officeDocument/2006/relationships/image" Target="../media/image3.jpeg"/><Relationship Id="rId1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" Target="slide6.xml"/><Relationship Id="rId7" Type="http://schemas.openxmlformats.org/officeDocument/2006/relationships/image" Target="../media/image3.jpe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1.jpe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3.jpe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5.jpe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image" Target="../media/image21.png"/><Relationship Id="rId8" Type="http://schemas.openxmlformats.org/officeDocument/2006/relationships/image" Target="../media/image21.png"/><Relationship Id="rId9" Type="http://schemas.openxmlformats.org/officeDocument/2006/relationships/image" Target="../media/image3.jpeg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hlinkshowjump?jump=firstslide"/>
          </p:cNvPr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684360" y="4005000"/>
            <a:ext cx="77040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c00"/>
                </a:solidFill>
                <a:latin typeface="Arial Black"/>
              </a:rPr>
              <a:t>Светить всегда, светить везд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c00"/>
                </a:solidFill>
                <a:latin typeface="Arial Black"/>
              </a:rPr>
              <a:t>Светить и не каких гвоздей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755640" y="404640"/>
            <a:ext cx="770400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ФОТОН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4" name="">
            <a:hlinkClick r:id="" action="ppaction://hlinkshowjump?jump=nextslide"/>
          </p:cNvPr>
          <p:cNvSpPr/>
          <p:nvPr/>
        </p:nvSpPr>
        <p:spPr>
          <a:xfrm>
            <a:off x="1187280" y="1844640"/>
            <a:ext cx="1297080" cy="86364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.T.A.L.K.E.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987640" y="1844640"/>
            <a:ext cx="1297080" cy="863640"/>
          </a:xfrm>
          <a:prstGeom prst="ellipse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=LiDeR=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148360" y="1844640"/>
            <a:ext cx="1296720" cy="863640"/>
          </a:xfrm>
          <a:prstGeom prst="ellipse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@D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Я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@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>
            <a:hlinkClick r:id="rId7" action="ppaction://hlinksldjump"/>
          </p:cNvPr>
          <p:cNvSpPr/>
          <p:nvPr/>
        </p:nvSpPr>
        <p:spPr>
          <a:xfrm>
            <a:off x="7093080" y="1844640"/>
            <a:ext cx="1296720" cy="863640"/>
          </a:xfrm>
          <a:prstGeom prst="ellipse">
            <a:avLst/>
          </a:prstGeom>
          <a:blipFill rotWithShape="0">
            <a:blip r:embed="rId8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100t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>
            <a:hlinkClick r:id="rId9" action="ppaction://hlinksldjump"/>
          </p:cNvPr>
          <p:cNvSpPr/>
          <p:nvPr/>
        </p:nvSpPr>
        <p:spPr>
          <a:xfrm>
            <a:off x="4067280" y="2781360"/>
            <a:ext cx="1657080" cy="863640"/>
          </a:xfrm>
          <a:prstGeom prst="ellipse">
            <a:avLst/>
          </a:prstGeom>
          <a:blipFill rotWithShape="0">
            <a:blip r:embed="rId10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M@ShK@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27280" y="2708280"/>
            <a:ext cx="216000" cy="216000"/>
          </a:xfrm>
          <a:custGeom>
            <a:avLst/>
            <a:gdLst>
              <a:gd name="textAreaLeft" fmla="*/ 88920 w 216000"/>
              <a:gd name="textAreaRight" fmla="*/ 127080 w 216000"/>
              <a:gd name="textAreaTop" fmla="*/ 88920 h 216000"/>
              <a:gd name="textAreaBottom" fmla="*/ 127080 h 216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340000" y="2133720"/>
            <a:ext cx="289080" cy="360360"/>
          </a:xfrm>
          <a:custGeom>
            <a:avLst/>
            <a:gdLst>
              <a:gd name="textAreaLeft" fmla="*/ 119160 w 289080"/>
              <a:gd name="textAreaRight" fmla="*/ 169920 w 289080"/>
              <a:gd name="textAreaTop" fmla="*/ 148320 h 360360"/>
              <a:gd name="textAreaBottom" fmla="*/ 212040 h 360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924360" y="3068640"/>
            <a:ext cx="288720" cy="360360"/>
          </a:xfrm>
          <a:custGeom>
            <a:avLst/>
            <a:gdLst>
              <a:gd name="textAreaLeft" fmla="*/ 118800 w 288720"/>
              <a:gd name="textAreaRight" fmla="*/ 169920 w 288720"/>
              <a:gd name="textAreaTop" fmla="*/ 148320 h 360360"/>
              <a:gd name="textAreaBottom" fmla="*/ 212040 h 360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244000" y="2060640"/>
            <a:ext cx="288720" cy="360360"/>
          </a:xfrm>
          <a:custGeom>
            <a:avLst/>
            <a:gdLst>
              <a:gd name="textAreaLeft" fmla="*/ 118800 w 288720"/>
              <a:gd name="textAreaRight" fmla="*/ 169920 w 288720"/>
              <a:gd name="textAreaTop" fmla="*/ 148320 h 360360"/>
              <a:gd name="textAreaBottom" fmla="*/ 212040 h 360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300720" y="2133720"/>
            <a:ext cx="289080" cy="360360"/>
          </a:xfrm>
          <a:custGeom>
            <a:avLst/>
            <a:gdLst>
              <a:gd name="textAreaLeft" fmla="*/ 119160 w 289080"/>
              <a:gd name="textAreaRight" fmla="*/ 169920 w 289080"/>
              <a:gd name="textAreaTop" fmla="*/ 148320 h 360360"/>
              <a:gd name="textAreaBottom" fmla="*/ 212040 h 360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140360" y="2133720"/>
            <a:ext cx="288720" cy="360360"/>
          </a:xfrm>
          <a:custGeom>
            <a:avLst/>
            <a:gdLst>
              <a:gd name="textAreaLeft" fmla="*/ 118800 w 288720"/>
              <a:gd name="textAreaRight" fmla="*/ 169920 w 288720"/>
              <a:gd name="textAreaTop" fmla="*/ 148320 h 360360"/>
              <a:gd name="textAreaBottom" fmla="*/ 212040 h 360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4365720"/>
            <a:ext cx="7488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cc00"/>
                </a:solidFill>
                <a:latin typeface="Arial Black"/>
              </a:rPr>
              <a:t>Мы сделаем то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cc00"/>
                </a:solidFill>
                <a:latin typeface="Arial Black"/>
              </a:rPr>
              <a:t>Что не сделал бы О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cc00"/>
                </a:solidFill>
                <a:latin typeface="Arial Black"/>
              </a:rPr>
              <a:t>Мы луч в тёмном царстве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cc00"/>
                </a:solidFill>
                <a:latin typeface="Arial Black"/>
              </a:rPr>
              <a:t>Команда ФОТОН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796000" y="4724280"/>
            <a:ext cx="1297080" cy="360360"/>
          </a:xfrm>
          <a:custGeom>
            <a:avLst/>
            <a:gdLst>
              <a:gd name="textAreaLeft" fmla="*/ 162000 w 1297080"/>
              <a:gd name="textAreaRight" fmla="*/ 1135080 w 129708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1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2"/>
          <a:stretch/>
        </p:blipFill>
        <p:spPr>
          <a:xfrm>
            <a:off x="7164360" y="3789360"/>
            <a:ext cx="1765440" cy="2198520"/>
          </a:xfrm>
          <a:prstGeom prst="rect">
            <a:avLst/>
          </a:prstGeom>
          <a:ln w="0">
            <a:noFill/>
          </a:ln>
        </p:spPr>
      </p:pic>
      <p:sp>
        <p:nvSpPr>
          <p:cNvPr id="58" name="">
            <a:hlinkClick r:id="" action="ppaction://hlinkshowjump?jump=lastslide"/>
          </p:cNvPr>
          <p:cNvSpPr/>
          <p:nvPr/>
        </p:nvSpPr>
        <p:spPr>
          <a:xfrm>
            <a:off x="4067280" y="5994360"/>
            <a:ext cx="1657080" cy="863640"/>
          </a:xfrm>
          <a:prstGeom prst="ellipse">
            <a:avLst/>
          </a:prstGeom>
          <a:blipFill rotWithShape="0">
            <a:blip r:embed="rId1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ОНЕ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3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6" dur="3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7" dur="3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8" dur="3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9" dur="3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" autoRev="1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2.08092E-006 L 0.05504 2.08092E-006 E">
                                      <p:cBhvr>
                                        <p:cTn id="11" dur="1000" fill="hold"/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" autoRev="1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6.35838E-006 C 0.04027 0.00023 0.08073 0.00046 0.09687 -6.35838E-006 E">
                                      <p:cBhvr>
                                        <p:cTn id="13" dur="100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" autoRev="1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11111E-006 -6.35838E-006 C 0.03178 -0.00047 0.06355 -0.00093 0.07622 -6.35838E-006 E">
                                      <p:cBhvr>
                                        <p:cTn id="15" dur="100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" autoRev="1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2.71676E-006 C 0.01007 0.00231 0.02014 0.00462 0.02222 0.01064 C 0.0243 0.01665 0.01718 0.02728 0.01267 0.03607 C 0.00816 0.04486 0.00816 0.05133 -0.00486 0.06335 C -0.01788 0.07538 -0.01667 0.09434 -0.06511 0.10775 C -0.11354 0.12116 -0.26615 0.14382 -0.29532 0.14382 E">
                                      <p:cBhvr>
                                        <p:cTn id="17" dur="1000" fill="hold"/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" autoRev="1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53 0.00047 C -0.06459 -0.00855 -0.12848 -0.01757 -0.17032 -0.02497 C -0.21216 -0.03237 -0.22622 -0.03329 -0.25139 -0.04393 C -0.27657 -0.05456 -0.30764 -0.07283 -0.32119 -0.08832 C -0.33473 -0.10381 -0.33369 -0.12855 -0.3323 -0.13688 C -0.33091 -0.1452 -0.31875 -0.13757 -0.3132 -0.13896 E">
                                      <p:cBhvr>
                                        <p:cTn id="19" dur="100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5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0" dur="5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000"/>
                            </p:stCondLst>
                            <p:childTnLst>
                              <p:par>
                                <p:cTn id="4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 txBox="1"/>
          <p:nvPr/>
        </p:nvSpPr>
        <p:spPr>
          <a:xfrm>
            <a:off x="324000" y="0"/>
            <a:ext cx="5400360" cy="1362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S.T.A.L.K.E.R.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1" name=""/>
          <p:cNvSpPr/>
          <p:nvPr/>
        </p:nvSpPr>
        <p:spPr>
          <a:xfrm>
            <a:off x="900000" y="3789000"/>
            <a:ext cx="504036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c00"/>
                </a:solidFill>
                <a:latin typeface="Arial Black"/>
              </a:rPr>
              <a:t>Никита в команде самый серьёзны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c00"/>
                </a:solidFill>
                <a:latin typeface="Arial Black"/>
              </a:rPr>
              <a:t>Друзья, трепещите- соперНИК он грозный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5705640" y="0"/>
            <a:ext cx="3438360" cy="4581360"/>
          </a:xfrm>
          <a:prstGeom prst="rect">
            <a:avLst/>
          </a:prstGeom>
          <a:ln w="0">
            <a:noFill/>
          </a:ln>
        </p:spPr>
      </p:pic>
      <p:sp>
        <p:nvSpPr>
          <p:cNvPr id="63" name="">
            <a:hlinkClick r:id="" action="ppaction://hlinkshowjump?jump=firstslide"/>
          </p:cNvPr>
          <p:cNvSpPr/>
          <p:nvPr/>
        </p:nvSpPr>
        <p:spPr>
          <a:xfrm>
            <a:off x="6588000" y="5445000"/>
            <a:ext cx="1657440" cy="863640"/>
          </a:xfrm>
          <a:prstGeom prst="ellipse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АЗ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 txBox="1"/>
          <p:nvPr/>
        </p:nvSpPr>
        <p:spPr>
          <a:xfrm>
            <a:off x="1619280" y="333360"/>
            <a:ext cx="590400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-=LiDeR=-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6" name=""/>
          <p:cNvSpPr/>
          <p:nvPr/>
        </p:nvSpPr>
        <p:spPr>
          <a:xfrm>
            <a:off x="971640" y="3572280"/>
            <a:ext cx="6913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Ванёк любит юмор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На сцене сия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Как дядя Эйнштей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Порой «угорает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6084720" y="260280"/>
            <a:ext cx="2759400" cy="33847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5"/>
          <a:stretch/>
        </p:blipFill>
        <p:spPr>
          <a:xfrm>
            <a:off x="6084720" y="260280"/>
            <a:ext cx="2713320" cy="3384720"/>
          </a:xfrm>
          <a:prstGeom prst="rect">
            <a:avLst/>
          </a:prstGeom>
          <a:ln w="0">
            <a:noFill/>
          </a:ln>
        </p:spPr>
      </p:pic>
      <p:sp>
        <p:nvSpPr>
          <p:cNvPr id="69" name="">
            <a:hlinkClick r:id="rId6" action="ppaction://hlinksldjump"/>
          </p:cNvPr>
          <p:cNvSpPr/>
          <p:nvPr/>
        </p:nvSpPr>
        <p:spPr>
          <a:xfrm>
            <a:off x="7093080" y="5516640"/>
            <a:ext cx="1657080" cy="863640"/>
          </a:xfrm>
          <a:prstGeom prst="ellipse">
            <a:avLst/>
          </a:prstGeom>
          <a:blipFill rotWithShape="0">
            <a:blip r:embed="rId7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АЗ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 txBox="1"/>
          <p:nvPr/>
        </p:nvSpPr>
        <p:spPr>
          <a:xfrm>
            <a:off x="1187280" y="333360"/>
            <a:ext cx="4176720" cy="1434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@DЯR@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2" name=""/>
          <p:cNvSpPr/>
          <p:nvPr/>
        </p:nvSpPr>
        <p:spPr>
          <a:xfrm>
            <a:off x="1194120" y="3789360"/>
            <a:ext cx="700056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cc00"/>
                </a:solidFill>
                <a:latin typeface="Arial Black"/>
              </a:rPr>
              <a:t>Вадим поглощает свет монитора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cc00"/>
                </a:solidFill>
                <a:latin typeface="Arial Black"/>
              </a:rPr>
              <a:t>Он много читает ходячая «шпора»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cc00"/>
                </a:solidFill>
                <a:latin typeface="Arial Black"/>
              </a:rPr>
              <a:t>Под Солнцем не ходит-боится удар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cc00"/>
                </a:solidFill>
                <a:latin typeface="Arial Black"/>
              </a:rPr>
              <a:t>Ну что с него взять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cc00"/>
                </a:solidFill>
                <a:latin typeface="Arial Black"/>
              </a:rPr>
              <a:t>Одним словом-В@</a:t>
            </a:r>
            <a:r>
              <a:rPr b="0" lang="en-US" sz="3000" spc="-1" strike="noStrike">
                <a:solidFill>
                  <a:srgbClr val="ffcc00"/>
                </a:solidFill>
                <a:latin typeface="Arial Black"/>
              </a:rPr>
              <a:t>D</a:t>
            </a:r>
            <a:r>
              <a:rPr b="0" lang="ru-RU" sz="3000" spc="-1" strike="noStrike">
                <a:solidFill>
                  <a:srgbClr val="ffcc00"/>
                </a:solidFill>
                <a:latin typeface="Arial Black"/>
              </a:rPr>
              <a:t>Я</a:t>
            </a:r>
            <a:r>
              <a:rPr b="0" lang="en-US" sz="3000" spc="-1" strike="noStrike">
                <a:solidFill>
                  <a:srgbClr val="ffcc00"/>
                </a:solidFill>
                <a:latin typeface="Arial Black"/>
              </a:rPr>
              <a:t>R</a:t>
            </a:r>
            <a:r>
              <a:rPr b="0" lang="ru-RU" sz="3000" spc="-1" strike="noStrike">
                <a:solidFill>
                  <a:srgbClr val="ffcc00"/>
                </a:solidFill>
                <a:latin typeface="Arial Black"/>
              </a:rPr>
              <a:t>@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5756400" y="260280"/>
            <a:ext cx="3387600" cy="3438720"/>
          </a:xfrm>
          <a:prstGeom prst="rect">
            <a:avLst/>
          </a:prstGeom>
          <a:ln w="0">
            <a:noFill/>
          </a:ln>
        </p:spPr>
      </p:pic>
      <p:sp>
        <p:nvSpPr>
          <p:cNvPr id="74" name="">
            <a:hlinkClick r:id="" action="ppaction://hlinkshowjump?jump=firstslide"/>
          </p:cNvPr>
          <p:cNvSpPr/>
          <p:nvPr/>
        </p:nvSpPr>
        <p:spPr>
          <a:xfrm>
            <a:off x="7308720" y="5516640"/>
            <a:ext cx="1657440" cy="863640"/>
          </a:xfrm>
          <a:prstGeom prst="ellipse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АЗ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 txBox="1"/>
          <p:nvPr/>
        </p:nvSpPr>
        <p:spPr>
          <a:xfrm>
            <a:off x="2268360" y="189000"/>
            <a:ext cx="475956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Pro100tak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77" name="" descr=""/>
          <p:cNvPicPr/>
          <p:nvPr/>
        </p:nvPicPr>
        <p:blipFill>
          <a:blip r:embed="rId4"/>
          <a:stretch/>
        </p:blipFill>
        <p:spPr>
          <a:xfrm>
            <a:off x="5796000" y="3902040"/>
            <a:ext cx="3348000" cy="295596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755640" y="3573360"/>
            <a:ext cx="550872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cc00"/>
                </a:solidFill>
                <a:latin typeface="Arial Black"/>
              </a:rPr>
              <a:t>Наш солнышко Женьк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cc00"/>
                </a:solidFill>
                <a:latin typeface="Arial Black"/>
              </a:rPr>
              <a:t>Свет дарит нам он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cc00"/>
                </a:solidFill>
                <a:latin typeface="Arial Black"/>
              </a:rPr>
              <a:t>Недаром название команды </a:t>
            </a:r>
            <a:r>
              <a:rPr b="0" lang="en-US" sz="3000" spc="-1" strike="noStrike">
                <a:solidFill>
                  <a:srgbClr val="ffcc00"/>
                </a:solidFill>
                <a:latin typeface="Arial Black"/>
              </a:rPr>
              <a:t>- </a:t>
            </a:r>
            <a:r>
              <a:rPr b="0" lang="ru-RU" sz="3000" spc="-1" strike="noStrike">
                <a:solidFill>
                  <a:srgbClr val="ffcc00"/>
                </a:solidFill>
                <a:latin typeface="Arial Black"/>
              </a:rPr>
              <a:t>ФАТОН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>
            <a:hlinkClick r:id="" action="ppaction://hlinkshowjump?jump=firstslide"/>
          </p:cNvPr>
          <p:cNvSpPr/>
          <p:nvPr/>
        </p:nvSpPr>
        <p:spPr>
          <a:xfrm>
            <a:off x="539640" y="5734080"/>
            <a:ext cx="1657440" cy="863640"/>
          </a:xfrm>
          <a:prstGeom prst="ellipse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АЗ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 txBox="1"/>
          <p:nvPr/>
        </p:nvSpPr>
        <p:spPr>
          <a:xfrm>
            <a:off x="2268360" y="0"/>
            <a:ext cx="4791240" cy="187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RoM@ShK@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2" name=""/>
          <p:cNvSpPr/>
          <p:nvPr/>
        </p:nvSpPr>
        <p:spPr>
          <a:xfrm>
            <a:off x="971640" y="3847680"/>
            <a:ext cx="475272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cc00"/>
                </a:solidFill>
                <a:latin typeface="Arial Black"/>
              </a:rPr>
              <a:t>Девчонка для пользы и красоты</a:t>
            </a:r>
            <a:r>
              <a:rPr b="0" lang="en-US" sz="3000" spc="-1" strike="noStrike">
                <a:solidFill>
                  <a:srgbClr val="ffcc00"/>
                </a:solidFill>
                <a:latin typeface="Arial Black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c00"/>
                </a:solidFill>
                <a:latin typeface="Arial Black"/>
              </a:rPr>
              <a:t>RoM@ShK@</a:t>
            </a:r>
            <a:r>
              <a:rPr b="0" lang="ru-RU" sz="30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3000" spc="-1" strike="noStrike">
                <a:solidFill>
                  <a:srgbClr val="ffcc00"/>
                </a:solidFill>
                <a:latin typeface="Arial Black"/>
              </a:rPr>
              <a:t>-</a:t>
            </a:r>
            <a:r>
              <a:rPr b="0" lang="ru-RU" sz="3000" spc="-1" strike="noStrike">
                <a:solidFill>
                  <a:srgbClr val="ffcc00"/>
                </a:solidFill>
                <a:latin typeface="Arial Black"/>
              </a:rPr>
              <a:t>лекарство</a:t>
            </a:r>
            <a:r>
              <a:rPr b="0" lang="en-US" sz="3000" spc="-1" strike="noStrike">
                <a:solidFill>
                  <a:srgbClr val="ffcc00"/>
                </a:solidFill>
                <a:latin typeface="Arial Black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cc00"/>
                </a:solidFill>
                <a:latin typeface="Arial Black"/>
              </a:rPr>
              <a:t>А так же цветы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5435640" y="3108240"/>
            <a:ext cx="3708360" cy="3017880"/>
          </a:xfrm>
          <a:prstGeom prst="rect">
            <a:avLst/>
          </a:prstGeom>
          <a:ln w="0">
            <a:noFill/>
          </a:ln>
        </p:spPr>
      </p:pic>
      <p:sp>
        <p:nvSpPr>
          <p:cNvPr id="84" name="">
            <a:hlinkClick r:id="" action="ppaction://hlinkshowjump?jump=firstslide"/>
          </p:cNvPr>
          <p:cNvSpPr/>
          <p:nvPr/>
        </p:nvSpPr>
        <p:spPr>
          <a:xfrm>
            <a:off x="0" y="4724280"/>
            <a:ext cx="1657440" cy="863640"/>
          </a:xfrm>
          <a:prstGeom prst="ellipse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АЗ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3995640" y="692280"/>
            <a:ext cx="1366920" cy="136656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987640" y="4365720"/>
            <a:ext cx="1366920" cy="136692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63640" y="1989000"/>
            <a:ext cx="1366920" cy="136692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724360" y="4221000"/>
            <a:ext cx="1366920" cy="1366920"/>
          </a:xfrm>
          <a:prstGeom prst="ellipse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443640" y="1844640"/>
            <a:ext cx="1366920" cy="1366920"/>
          </a:xfrm>
          <a:prstGeom prst="ellipse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2411280" y="2276640"/>
            <a:ext cx="4465800" cy="21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THE END</a:t>
            </a:r>
            <a:endParaRPr b="0" lang="en-US" sz="1800" spc="1" strike="noStrike">
              <a:ln w="0">
                <a:noFill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2" name="">
            <a:hlinkClick r:id="" action="ppaction://hlinkshowjump?jump=firstslide"/>
          </p:cNvPr>
          <p:cNvSpPr/>
          <p:nvPr/>
        </p:nvSpPr>
        <p:spPr>
          <a:xfrm>
            <a:off x="3780000" y="5994360"/>
            <a:ext cx="1657080" cy="863640"/>
          </a:xfrm>
          <a:prstGeom prst="ellipse">
            <a:avLst/>
          </a:prstGeom>
          <a:blipFill rotWithShape="0">
            <a:blip r:embed="rId9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 НАЧАЛ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autoRev="1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2.89017E-007 C -0.02794 -0.04925 0.37136 -0.30289 0.47935 -0.30427 C 0.58733 -0.30566 0.72674 -0.05942 0.64758 -0.00832 C 0.56841 0.04278 0.02796 0.04925 6.38889E-006 2.89017E-007 Z">
                                      <p:cBhvr>
                                        <p:cTn id="76" dur="50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7" autoRev="1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1.09827E-006 C -0.19722 -0.13572 -0.39409 -0.27144 -0.49045 -0.26219 C -0.5868 -0.25294 -0.66319 0.00879 -0.57777 0.05503 C -0.49236 0.10128 -0.07222 0.02474 0.02223 0.0148 C 0.11667 0.00486 -0.00868 -0.00531 -0.01111 -0.00416 E">
                                      <p:cBhvr>
                                        <p:cTn id="78" dur="5000" fill="hold"/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9" autoRev="1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1.27168E-006 C -0.11267 -0.01064 -0.3217 0.43676 -0.30955 0.55607 C -0.29739 0.67538 -0.03958 0.7059 0.07309 0.71653 C 0.18577 0.72717 0.37813 0.73803 0.36667 0.61942 C 0.35521 0.50081 0.11267 0.01064 8.33333E-007 1.27168E-006 Z">
                                      <p:cBhvr>
                                        <p:cTn id="80" dur="5000" fill="hold"/>
                                        <p:tgtEl>
                                          <p:spTgt spid="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1" autoRev="1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1.50289E-006 C -0.0533 -0.02381 -0.18612 -0.06196 -0.2316 -0.13318 C -0.27709 -0.20439 -0.29705 -0.35792 -0.27292 -0.42705 C -0.24879 -0.49618 -0.15018 -0.54289 -0.08716 -0.54751 C -0.02414 -0.55214 0.0585 -0.49295 0.10486 -0.45456 C 0.15121 -0.41618 0.17656 -0.37017 0.19062 -0.31722 C 0.20468 -0.26428 0.2059 -0.19214 0.18906 -0.13757 C 0.17222 -0.083 0.11996 -0.01248 0.08906 0.01041 C 0.05816 0.0333 0.05364 0.02382 3.05556E-006 -1.50289E-006 Z">
                                      <p:cBhvr>
                                        <p:cTn id="82" dur="5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3" autoRev="1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7.77778E-006 -2.13873E-006 C -0.04444 -0.00994 -0.12274 -0.04832 -0.18246 -0.09087 C -0.24218 -0.13341 -0.35659 -0.203 -0.35867 -0.25572 C -0.36076 -0.30844 -0.27864 -0.35006 -0.19531 -0.40786 C -0.11197 -0.46566 0.07379 -0.61688 0.14133 -0.60231 C 0.20886 -0.58774 0.2191 -0.41618 0.20956 -0.32115 C 0.20001 -0.22613 0.11893 -0.0867 0.08421 -0.03167 C 0.04949 0.02335 0.04445 0.00994 7.77778E-006 -2.13873E-006 Z">
                                      <p:cBhvr>
                                        <p:cTn id="84" dur="5000" fill="hold"/>
                                        <p:tgtEl>
                                          <p:spTgt spid="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03:48:01Z</dcterms:created>
  <dc:creator>КСШ-2</dc:creator>
  <dc:description/>
  <dc:language>en-US</dc:language>
  <cp:lastModifiedBy>КСШ-2</cp:lastModifiedBy>
  <dcterms:modified xsi:type="dcterms:W3CDTF">2008-04-11T06:37:04Z</dcterms:modified>
  <cp:revision>14</cp:revision>
  <dc:subject/>
  <dc:title>Слайд 1</dc:title>
</cp:coreProperties>
</file>