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9C7B-6CD8-4E60-985F-0F2B1D51FC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A9EC-8856-44F0-924F-691B85EAFB0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4CF-0C00-41EB-8DD1-BB021EA8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800-D135-4B38-91E7-C08D2429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2C4-3E59-49C1-955E-B076C946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01F-1CFC-402E-96FB-0C9D809B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372A-106D-48FB-BAE8-8404756E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F5E0-D825-4A20-9051-9052381A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BBF8-FF71-4DF7-B9C1-C293675E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7D5F-2789-42BE-B7ED-9CA0581B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41E1-137B-4320-9559-4D038826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9809-0111-4DC2-8255-9F39E29D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187B-E69D-4232-807D-27BCF73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741-BFB1-45FE-8262-5759B6C9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7132-694E-4CBC-8333-EEF66A5D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C21B-CC2A-40DC-8CD3-AB98CD5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5161-0B88-4B31-9715-600ACB16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664E-5473-49A4-8711-A09ADF03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0F8F-7A79-43EE-A248-A23D595C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4AF7-5561-4772-812D-B50E0B73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CCA7-FB83-428F-9514-2D30222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BD20E-8E79-470D-9B78-E216FA03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EFF4-7A13-42D0-A4F3-979F1C6F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2634-00FD-4AF9-ABB7-F4002BCD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427-1B1C-45F3-A3DF-446F66FD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29D1-9479-47FB-89B3-BA493882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34C1-DEE6-4286-B09C-56797AB9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3B49-8048-42B1-BA57-36FECB37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DC4E5-844E-4B6E-B058-F57CF94F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2045-3B2A-44C4-9E1F-7B9F2755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16B9-6436-430C-A67B-F4A43CB7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1005-5021-4876-8BF2-06ADCD27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647DF-830D-4D36-8699-26922724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79BB3-8DE9-491B-B25B-66868FB4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6D3A2-3F61-488C-BA66-2110F03C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4A5-8961-4634-AC70-D908F46C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3A796-09FD-4EA0-9258-6D54755C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546A9-A658-4042-B3BB-2756E132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742E-1309-48C6-861F-8BB18DE6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C979-3E6B-4141-A775-6C930672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5DCC-3D14-4CE7-B397-D39DEE7F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B812-395A-4AFD-882F-0ED71FA7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02FF-59F0-4BC7-9EF1-FE713D04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C430-26CF-4DC8-AF0E-79088199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0B139-B646-453A-97B4-A4D39BB0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50870-865A-4D54-8607-ED6FAE65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CB8-E3A6-44FB-B958-D1D2D52D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9880-05CE-4C4B-AA47-6333F970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AE3FA-9E7E-47FB-B077-292D756C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D85A0-CCEA-410B-9B9B-0E8F4AE5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F4737-DF9C-4660-BC63-87286945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BDC1B-CD5B-4C45-9EB7-B6FE1260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7B931-F233-4523-AD88-AD5D62D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3FE70-6535-4587-9810-1ABC8B32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CA241-9DB6-401C-8C2F-94A3F52E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6A227-69D3-433E-A769-A540D9CC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6BDAA-D0EE-4D43-8FD6-013A315F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2B9-9056-4B0F-AFA0-2A0E02F5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35300-A544-417E-8960-4A42AA52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E1F55-4BD8-4621-8450-A5B275C3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AEFB2-8A0C-48EE-A8A2-F75AA53C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8FCB0-A2FE-454D-891F-A5DBE453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3427A-31FC-4D47-9E8D-20A0E09C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6D95D-838D-45A5-B16D-F3A593ED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92B43-33FA-4FD3-A045-63D7C469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00E19-A1CA-414E-A1E8-A8E4640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4E8F2-B8CA-477D-832D-B806E9B6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EBB42-962B-4A85-ACB9-27688FE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90A-1AC3-4213-89F5-C79A9ED9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3CBA-80FD-48D3-A830-5E25786F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C10E0-299B-42B8-8E30-D2AF91CC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1EB0C-E70C-44CE-9578-7586B7F6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73FA2-C751-4640-964D-4CE4F6C3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CD087-494E-47F3-9AFF-890F82BD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1AF1E-BD0E-4151-B1F6-DE03A71E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8232B-327D-46D7-BFAF-1FB5340E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050F4-AA11-4288-8055-51F43396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B591D-77CD-42AB-9586-B7F37DCA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36525-7D5F-4A7D-9392-93F6AC3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5A6-DF90-484D-9DFE-12B7CC20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9286F-B63D-4DB6-8E79-3AD539A5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D4FD9-AA9E-415C-8200-42CFE165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B3D8F-FCF8-4366-AA26-F0C54364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45B45-DE95-4893-884F-C204990F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7B5DB-262E-4802-8D23-1166BCFC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E4842-E614-46E2-90A4-8FDEC4BD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CD32C-E31C-4F86-A939-8733A2E2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E07AC-4A6C-4E69-83A4-FF940718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A3F7C-65D7-487A-B67E-BFDAB352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A0C8F-85E9-4A6D-91A9-A66F073B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88A-7442-4656-86CA-3DC61FE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3A5EB-B582-440D-A36A-F228080E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2E3C6-0749-46E2-9D70-5FF82D4F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43C5D-D52B-482B-8904-FC27547D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AA9A1-502B-41DE-A8BD-AD5EEC5A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65BFA-5128-47AE-A569-0126A058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677F1-3FB1-477D-96CA-FB81CF2A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EA8DD-43B6-435E-B0F5-8E515E65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7F84-3012-49E4-9365-83993F0FCB2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FAD7-F1CD-4EA4-AA15-C4FFF245712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D031-F3F2-4735-82FB-FDA2FE62A2C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9392-271A-461E-BAC0-570AEA21F17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AB73-BAC6-40C8-8F61-0361C5EEB06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0024-91A5-48C3-8F38-CD0CBFF34A0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5FBE-B101-451A-8D0C-3EFF01980E4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802D-8262-4165-A4DB-6BCE4E572937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621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Наша физическая команда</a:t>
            </a:r>
            <a:br>
              <a:rPr sz="4200"/>
            </a:b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г.Комсомольска – на - Амуре МОУ СОШ № 15</a:t>
            </a:r>
            <a:br>
              <a:rPr sz="4200"/>
            </a:b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249120" y="-195120"/>
            <a:ext cx="8444160" cy="190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220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»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 троих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2" descr="C:\Documents and Settings\Марина\Рабочий стол\Для чего-нибудь\Новая папка\DSCN4033.JPG"/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772400" y="380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2824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Picture 2" descr="C:\Documents and Settings\Марина\Рабочий стол\Для чего-нибудь\Новая папка\DSCN4029.JPG"/>
          <p:cNvPicPr/>
          <p:nvPr/>
        </p:nvPicPr>
        <p:blipFill>
          <a:blip r:embed="rId2"/>
          <a:stretch/>
        </p:blipFill>
        <p:spPr>
          <a:xfrm>
            <a:off x="1295280" y="1905120"/>
            <a:ext cx="6197760" cy="4647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7696080" y="228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2" descr="C:\Documents and Settings\Марина\Рабочий стол\Для чего-нибудь\Новая папка\DSCN4026.JPG"/>
          <p:cNvPicPr/>
          <p:nvPr/>
        </p:nvPicPr>
        <p:blipFill>
          <a:blip r:embed="rId2"/>
          <a:stretch/>
        </p:blipFill>
        <p:spPr>
          <a:xfrm>
            <a:off x="1143000" y="16002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00100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2" descr="C:\Documents and Settings\Марина\Рабочий стол\Для чего-нибудь\Новая папка\DSCN4030.JPG"/>
          <p:cNvPicPr/>
          <p:nvPr/>
        </p:nvPicPr>
        <p:blipFill>
          <a:blip r:embed="rId2"/>
          <a:stretch/>
        </p:blipFill>
        <p:spPr>
          <a:xfrm>
            <a:off x="1143000" y="182880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001000" y="228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План нашей работы!! =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зготовление визитк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тправка визитки по Интернет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жидание заданий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олнение полученных задани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тправка решений по Интернет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жидание первого мес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лучение первого мес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"/>
          <p:cNvSpPr/>
          <p:nvPr/>
        </p:nvSpPr>
        <p:spPr>
          <a:xfrm>
            <a:off x="78487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901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частвуем впервые!!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Picture 2" descr="C:\Documents and Settings\Марина\Рабочий стол\DSCN1058.JPG"/>
          <p:cNvPicPr/>
          <p:nvPr/>
        </p:nvPicPr>
        <p:blipFill>
          <a:blip r:embed="rId2"/>
          <a:stretch/>
        </p:blipFill>
        <p:spPr>
          <a:xfrm>
            <a:off x="2362320" y="2362320"/>
            <a:ext cx="3886200" cy="42544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8077320" y="228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57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8-04-11T03:18:45Z</dcterms:modified>
  <cp:revision>7</cp:revision>
  <dc:subject/>
  <dc:title>Наша физикоматематическая команда МОУ СОш № 15 </dc:title>
</cp:coreProperties>
</file>