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DA4A-D96D-4EFD-8F1B-D27AC1C284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997E-1DE5-4722-A15A-546A4E78D8C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6E5-AAB5-4C8E-9313-A1306087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635-58F7-4528-B70F-06074CD0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089-AA71-4309-9FC3-3225A1F7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CFA-13AB-4563-A634-7C9632AA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9575-C635-4491-97F4-9FB6594B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5768-6E8C-476A-A034-C316FE14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46D8-523F-4DEF-AE36-F20D06A3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0D6D-44C9-4213-93C9-9FA82B39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F27B-CC34-4F1D-9C83-FA3C7245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3BDA-8CBD-41E1-84D5-42596BB8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A88C-8242-454C-A354-3F43F923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97F-ECE3-4420-A0B6-FA40FA61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9AC0-7934-4CD0-9316-25B1FE3E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FE23-7E0A-4F40-96B8-18D13324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4125-4DF0-4049-BB23-8F8AC086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1FDA-29BC-4F41-A589-B65C5556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C2A7-5855-4B5B-B4D8-07DC5D0F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9478-7A1A-4542-B73A-D2C4BF7A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40A1-DD5B-4B19-A3B1-9C935104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0CE7-8725-4237-9A20-155F1ECC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7915-3DDF-43DF-9CFB-5EAF68EA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8DAF-D714-4C70-8EFF-46D8C829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CF1-D8F6-4FD5-A4D3-CB873E62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AE2A-CA2F-4981-AD33-8A6411D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C819-6291-4AC8-9FF8-484773A8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F5464-00A0-45ED-87C7-93E1A3E7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D381-7D80-417E-81FF-E22146AC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0D57-915D-418A-AE6A-03900422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0ECE-9026-4E0F-BD7D-1C1528DA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B671A-1840-4594-B49B-FEC7B0E2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E6E4F-6842-443A-BB1C-A278D97E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DE17-1373-4244-B39C-69E8B720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A3DF4-5F34-4DF1-AF8A-ECEA07F8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F84-4250-4AB5-BD7F-F7251689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6D194-AC8A-4AA4-B538-0AEC61B8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9361-74B4-4D7C-BEA2-636BB37B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CD1F-CF3D-45D6-B1A1-E010BA8C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6C4D-7112-47B0-9C9C-15D1C569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678B8-572D-480E-8D35-76556291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E7CC-E693-480F-A0DF-A0734126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FF53-5C8A-4C8B-B2F3-2E4EC534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DD3EA-DB7E-4BF4-A551-C118F634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8B789-BCBA-478F-A9D7-4BA936B6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F647D-DD1D-42CA-8E30-6716AFF3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C44-E0B5-4FB8-8AB7-E2F39FB4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0A73D-EE89-439F-AA56-9F5CDD47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D6E76-56D2-4BD6-B6BF-2232CD69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D1F1A-2E1E-4168-9475-4728874F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4B704-1175-4FB2-8B28-C812C445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98CF1-EEDA-4EA1-9BD8-5CE90E6D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4A902-B81B-4856-87EE-FBB58BB5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0A7EA-C419-467C-8748-F27B3036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56D66-67D9-449C-93CF-867A147D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E9EEC-168F-40B5-8144-90E0FF71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9B015-2B12-422E-B690-903ABBC1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D5F-5D28-4EE8-81B8-297A08D8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B19FB-B303-4A70-B9D0-0AC1F5A4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014C9-616D-41C6-8BDB-B922C0D9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31436-0D3F-4E75-891E-52AA09EC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405FC-58F1-4C6A-AB41-FF59D557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8B862-0F51-4254-9053-8821B15F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2E05-E685-4FF0-A648-8189F2EB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C8482-5E89-4A7F-85EA-627B3C91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B1E57-406F-4A0E-87A1-4D18EEF5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6D4FA-B50E-42D6-9981-AD187628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8A573-920F-4496-8838-42E56F04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DC0-B6EF-4008-9BDF-AF3E4BD3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C0852-5AAB-417A-8C37-4F9A292A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88BA3-4C03-432D-9F71-67B1E97B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036E6-9A5E-444A-B626-1E5089A1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E3DB9-3AD5-4537-BF25-1D3BDFAB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A0F1-39D7-4D30-B521-70676939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12069-D339-4281-8F50-73A432D5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7D26-942A-443B-90DA-55D2752D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5CE03-7748-4018-A162-B64C3CC6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5ED6B-2D57-4C29-B8B1-7F172D97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B0F45-3EBA-4226-A379-77DFCC78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DE1-31C9-4970-83FF-8654D7D9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D6FBD-9E29-498E-A0DA-A68F7395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61602-4444-4778-91B8-E734F41B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9334D-DFAE-46CE-950A-6FCBF37A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5FDB1-D786-4723-A755-70A619CC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406F8-47D4-41CA-B7D1-4F6EE440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49E52-D0FC-415B-BCA1-6D716697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2AFEF-9B1F-492C-AA2A-89A48B73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CCA47-5827-40C4-A0C6-0CC18CB0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350FB-4395-41BC-AE00-2BF28D6C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FFF0E-4517-4C11-B2C1-9C0883A8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DCA-4A92-4ED1-B6C7-D0DF8B3A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70BB8-58FF-4AA2-BE19-B89582D6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CD642-D8BE-4C4F-8FAA-A498244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6C300-61B1-46A9-AA38-8D13EE8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25E8-AFF0-4811-A1B8-627601E2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CDFD5-AA41-405F-B8B6-3EB4A7C7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8CF35-62D8-4BBF-987F-A971A6B2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08598-A5BD-4ED4-83A9-0855349B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F45C-4FC1-452C-8EA5-4C19F5C6974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09BE-71AE-461B-8B95-A577619B599F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4235-6305-4885-8B78-AA45DAE7202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C227-5540-4057-8A87-E570890A828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D51B-3038-4248-BCC9-E0FA5D34B81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5E1D-574B-42C1-9665-A861B5C25B9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4C4D-ADA4-4C17-B45B-3FE71ADAD2A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EC32-A327-4BA1-9EE1-B198501A23D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621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Наша физическая команда</a:t>
            </a:r>
            <a:br>
              <a:rPr sz="4200"/>
            </a:b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г.Комсомольска – на - Амуре МОУ СОШ № 15</a:t>
            </a:r>
            <a:br>
              <a:rPr sz="4200"/>
            </a:b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249120" y="-195120"/>
            <a:ext cx="8444160" cy="190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220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»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 троих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2" descr="C:\Documents and Settings\Марина\Рабочий стол\Для чего-нибудь\Новая папка\DSCN4033.JPG"/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772400" y="380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2824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Picture 2" descr="C:\Documents and Settings\Марина\Рабочий стол\Для чего-нибудь\Новая папка\DSCN4029.JPG"/>
          <p:cNvPicPr/>
          <p:nvPr/>
        </p:nvPicPr>
        <p:blipFill>
          <a:blip r:embed="rId2"/>
          <a:stretch/>
        </p:blipFill>
        <p:spPr>
          <a:xfrm>
            <a:off x="1295280" y="1905120"/>
            <a:ext cx="6197760" cy="4647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7696080" y="228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2" descr="C:\Documents and Settings\Марина\Рабочий стол\Для чего-нибудь\Новая папка\DSCN4026.JPG"/>
          <p:cNvPicPr/>
          <p:nvPr/>
        </p:nvPicPr>
        <p:blipFill>
          <a:blip r:embed="rId2"/>
          <a:stretch/>
        </p:blipFill>
        <p:spPr>
          <a:xfrm>
            <a:off x="1143000" y="16002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00100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2" descr="C:\Documents and Settings\Марина\Рабочий стол\Для чего-нибудь\Новая папка\DSCN4030.JPG"/>
          <p:cNvPicPr/>
          <p:nvPr/>
        </p:nvPicPr>
        <p:blipFill>
          <a:blip r:embed="rId2"/>
          <a:stretch/>
        </p:blipFill>
        <p:spPr>
          <a:xfrm>
            <a:off x="1143000" y="182880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001000" y="228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План нашей работы!! =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зготовление визитк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тправка визитки по Интернет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жидание заданий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олнение полученных задани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тправка решений по Интернет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жидание первого мес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лучение первого мес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"/>
          <p:cNvSpPr/>
          <p:nvPr/>
        </p:nvSpPr>
        <p:spPr>
          <a:xfrm>
            <a:off x="78487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901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частвуем впервые!!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Picture 2" descr="C:\Documents and Settings\Марина\Рабочий стол\DSCN1058.JPG"/>
          <p:cNvPicPr/>
          <p:nvPr/>
        </p:nvPicPr>
        <p:blipFill>
          <a:blip r:embed="rId2"/>
          <a:stretch/>
        </p:blipFill>
        <p:spPr>
          <a:xfrm>
            <a:off x="2362320" y="2362320"/>
            <a:ext cx="3886200" cy="42544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8077320" y="228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8-04-11T03:18:45Z</dcterms:modified>
  <cp:revision>7</cp:revision>
  <dc:subject/>
  <dc:title>Наша физикоматематическая команда МОУ СОш № 15 </dc:title>
</cp:coreProperties>
</file>