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886-A45C-4693-8065-84FFB870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F42-A417-4399-AA17-C52FB42E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56B-9170-4FB8-A281-3E8EF52E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F6A-FA31-4497-AC57-B12DF6A5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77E-7C41-4058-B404-79ECD385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AC0-ED15-446C-A12A-E980FCD1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A5C-549C-4060-A1D9-03B44C73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95C-7190-4E09-8D34-5AEBB84C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8C0-AA64-486E-BA8F-0FAF9B76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928-C873-4F4D-93DD-E87A7AF6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AA2-E333-478C-A40D-E4102904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3D7-C9D1-4EFB-8DAE-545F3C78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B384-DB3E-4B63-9A43-FD3F557BD8D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razyaschaya_molniya[1]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5560">
            <a:solidFill>
              <a:srgbClr val="999900"/>
            </a:solidFill>
            <a:miter/>
          </a:ln>
        </p:spPr>
      </p:pic>
      <p:sp>
        <p:nvSpPr>
          <p:cNvPr id="42" name="WordArt 7"/>
          <p:cNvSpPr txBox="1"/>
          <p:nvPr/>
        </p:nvSpPr>
        <p:spPr>
          <a:xfrm>
            <a:off x="1600200" y="2071800"/>
            <a:ext cx="6172200" cy="16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ния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3492360" y="476280"/>
            <a:ext cx="1791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анда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2411280" y="5084640"/>
            <a:ext cx="4353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Брейтовская сош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08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000080" y="428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ahoma"/>
              </a:rPr>
              <a:t>8f2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Командам соперников шлем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                             </a:t>
            </a: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наш при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И пожелания наилучш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Но в состязаниях и в борь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Хотим казаться лучш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785880" y="214200"/>
            <a:ext cx="807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ahoma"/>
              </a:rPr>
              <a:t>В качестве заключен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1"/>
          <p:cNvSpPr/>
          <p:nvPr/>
        </p:nvSpPr>
        <p:spPr>
          <a:xfrm>
            <a:off x="7164360" y="406728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1285920" y="3571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ahoma"/>
              </a:rPr>
              <a:t>Наша команд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4" descr="Изображение 085"/>
          <p:cNvPicPr/>
          <p:nvPr/>
        </p:nvPicPr>
        <p:blipFill>
          <a:blip r:embed="rId1"/>
          <a:srcRect l="1986" t="14129" r="0" b="13174"/>
          <a:stretch/>
        </p:blipFill>
        <p:spPr>
          <a:xfrm>
            <a:off x="1676520" y="1905120"/>
            <a:ext cx="6170400" cy="327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1143000" y="53341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Arial Black"/>
              </a:rPr>
              <a:t>Смирнова Анастасия, Порубаева Кристин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eeece1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eeece1"/>
                </a:solidFill>
                <a:latin typeface="Arial Black"/>
              </a:rPr>
              <a:t>Матвеева Анна, Шурупова Али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181640" cy="13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Calibri"/>
              </a:rPr>
              <a:t>Немного о себ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eeece1"/>
                </a:solidFill>
                <a:latin typeface="Arial Black"/>
              </a:rPr>
              <a:t>Мы ученицы 8 «Б» класса, считаем, что физика одна из интереснейших наук. Она необходима каждому человеку в его повседневной жизни. Поэтому мы стараемся интересоваться физическими законами и всегда серьезно занимаемся по этому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66320" y="198108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eeece1"/>
                </a:solidFill>
                <a:latin typeface="Arial Black"/>
              </a:rPr>
              <a:t>В составе команды «КВН» мы в феврале-марте 2008г приняли участие в  сетевом проекте школы №120              г. Омска «Воздух – символ здоровья и счастья». Это была наша первая проба сил. Но мы постарались и завоевали 2-е мест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143000" y="35712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ahoma"/>
              </a:rPr>
              <a:t>Наши достижен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66320" y="198072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се выше, и выше, и вы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К вершинам наук мы иде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И если с пути не собьем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Достигнем всего мы ум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003"/>
          <p:cNvPicPr/>
          <p:nvPr/>
        </p:nvPicPr>
        <p:blipFill>
          <a:blip r:embed="rId1"/>
          <a:stretch/>
        </p:blipFill>
        <p:spPr>
          <a:xfrm>
            <a:off x="3203640" y="4606920"/>
            <a:ext cx="2160360" cy="1986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1714680" y="357120"/>
            <a:ext cx="600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ahoma"/>
              </a:rPr>
              <a:t>Наш девиз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60"/>
                            </p:stCondLst>
                            <p:childTnLst>
                              <p:par>
                                <p:cTn id="1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620"/>
                            </p:stCondLst>
                            <p:childTnLst>
                              <p:par>
                                <p:cTn id="1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1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420"/>
                            </p:stCondLst>
                            <p:childTnLst>
                              <p:par>
                                <p:cTn id="20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206064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ы в проекте решили участие принять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Хотим мы проверить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ебе доказат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Что можем физику знать на «пять»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143000" y="357120"/>
            <a:ext cx="7572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28760" y="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ahoma"/>
              </a:rPr>
              <a:t>Чтоб кругозор свой расширять,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4" descr="l1_sociol_o"/>
          <p:cNvPicPr/>
          <p:nvPr/>
        </p:nvPicPr>
        <p:blipFill>
          <a:blip r:embed="rId1"/>
          <a:stretch/>
        </p:blipFill>
        <p:spPr>
          <a:xfrm>
            <a:off x="857160" y="2643120"/>
            <a:ext cx="121788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200"/>
                            </p:stCondLst>
                            <p:childTnLst>
                              <p:par>
                                <p:cTn id="3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3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3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840"/>
                            </p:stCondLst>
                            <p:childTnLst>
                              <p:par>
                                <p:cTn id="3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4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4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320"/>
                            </p:stCondLst>
                            <p:childTnLst>
                              <p:par>
                                <p:cTn id="4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4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4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 Black"/>
              </a:rPr>
              <a:t>«Кто хочет многого достигнуть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 Black"/>
              </a:rPr>
              <a:t>должен ставить высокие требования»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 Black"/>
              </a:rPr>
              <a:t>(И.В. ГЕ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428840" y="2858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ahoma"/>
              </a:rPr>
              <a:t>Жизненное кредо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8" descr="AG00030_"/>
          <p:cNvPicPr/>
          <p:nvPr/>
        </p:nvPicPr>
        <p:blipFill>
          <a:blip r:embed="rId1"/>
          <a:stretch/>
        </p:blipFill>
        <p:spPr>
          <a:xfrm>
            <a:off x="6929280" y="4572000"/>
            <a:ext cx="15415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640"/>
                            </p:stCondLst>
                            <p:childTnLst>
                              <p:par>
                                <p:cTn id="5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24,2,19)"/>
                                      </p:to>
                                    </p:se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Calibri"/>
              </a:rPr>
              <a:t>Ну что ж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Наша команда к работе готов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Пора поединок уже начин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Мы вместе собрались, чтоб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                            </a:t>
            </a: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снова и с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Курс на победу держ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Соперники будут достойными,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                                     </a:t>
            </a: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знае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Но знанья всегда и везде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                             </a:t>
            </a: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побежд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Желаем, чтоб честно всем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                 </a:t>
            </a: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баллы      давалис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Победа – в упорной борьб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                             </a:t>
            </a:r>
            <a:r>
              <a:rPr b="0" lang="ru-RU" sz="3200" spc="-1" strike="noStrike">
                <a:solidFill>
                  <a:srgbClr val="003399"/>
                </a:solidFill>
                <a:latin typeface="Arial Black"/>
              </a:rPr>
              <a:t>достигалас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000080" y="2858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ahoma"/>
              </a:rPr>
              <a:t>Нашим соперникам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7:19:44Z</dcterms:created>
  <dc:creator>user</dc:creator>
  <dc:description/>
  <dc:language>en-US</dc:language>
  <cp:lastModifiedBy>Татьяна Соловьева</cp:lastModifiedBy>
  <dcterms:modified xsi:type="dcterms:W3CDTF">2008-04-11T10:23:52Z</dcterms:modified>
  <cp:revision>15</cp:revision>
  <dc:subject/>
  <dc:title>Слайд 1</dc:title>
</cp:coreProperties>
</file>