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3BF-9796-483A-860A-C9FB028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036-3080-450C-B50D-86105272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982-2257-4F71-8A81-99C9ECD7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FB5-DC43-4C82-A2F8-0F7951A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B5B-E365-43B8-8043-91A29DC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243-A6CC-40D3-B2FC-6B5005C0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AF4-8B5B-4A5D-AB58-923397D5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D57-1011-49D9-92A5-02CA25E4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54D-02FD-449E-ADA0-B6FEAB0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432-20AA-4397-A276-3264761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5AF-070E-4D31-8E84-015A895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0DB-0DBA-433A-BE6B-BB3E59B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4781-69D6-4B8D-BD4B-4B2A9B1F8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3746" t="10837" r="8737" b="5842"/>
          <a:stretch/>
        </p:blipFill>
        <p:spPr>
          <a:xfrm>
            <a:off x="0" y="0"/>
            <a:ext cx="4608360" cy="32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51280" y="4265640"/>
            <a:ext cx="5040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"Прометей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2421000"/>
            <a:ext cx="8713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Зажги огонь мысли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в умах людей,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ак это сделал Прометей!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43280" y="476280"/>
            <a:ext cx="352728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наш девиз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0:18:39Z</dcterms:created>
  <dc:creator>Кузьмищенская</dc:creator>
  <dc:description/>
  <dc:language>en-US</dc:language>
  <cp:lastModifiedBy>Кузьмищенская</cp:lastModifiedBy>
  <dcterms:modified xsi:type="dcterms:W3CDTF">2008-04-11T09:36:25Z</dcterms:modified>
  <cp:revision>6</cp:revision>
  <dc:subject/>
  <dc:title>Слайд 1</dc:title>
</cp:coreProperties>
</file>